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1371-B609-4543-AE23-05CD98945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1505-976F-47B3-87F3-CD733D678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DE3-6B57-4D3E-AD50-E43854450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EFB-0929-4E06-96F3-260FF01C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3FE-3FA6-4DEC-89E8-532CB1A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D57-3CF7-4CBF-B233-FF00278B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957-193A-4562-B1FB-10188922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9C0-7080-4CD8-A480-E4B13D1C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5D0-4F79-40C5-96EF-8C8862A7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DFF-680C-4287-A52E-D4FC1914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1BB-175E-42DB-B370-EBC7AC85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3AF-3B23-4CC0-A048-6FB598A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E72-7453-4A28-94EB-92A13154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0C2-7A87-4716-A1AE-811B635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BD6-5B41-45DC-A874-79CE8119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92C-A606-4E7D-B36E-08F36E6D9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ниторинг УУ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Берёз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ковского муниципальн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ец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чукин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1371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анные заносятся в 2 сводные таблицы, что в дальнейшем позволяет использовать их для качественного педагогического анали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:\Documents and Settings\Zha\Рабочий стол\Марина\презентация\Met_Diagnostika_2012_TABL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старт: что дальш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066680"/>
            <a:ext cx="5486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ый старт – хорошее начало обучения в школе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стартовой диагностики помогут учителю выстроить работу в первые месяцы обучения, а дальше ориентирами для работы будут данные мониторинга метапредметных образовательных результа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я учительница"/>
          <p:cNvPicPr/>
          <p:nvPr/>
        </p:nvPicPr>
        <p:blipFill>
          <a:blip r:embed="rId1"/>
          <a:stretch/>
        </p:blipFill>
        <p:spPr>
          <a:xfrm>
            <a:off x="6095880" y="990720"/>
            <a:ext cx="3048120" cy="3200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4" name="Text Box 11"/>
          <p:cNvSpPr/>
          <p:nvPr/>
        </p:nvSpPr>
        <p:spPr>
          <a:xfrm>
            <a:off x="0" y="562284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мониторинга метапредметных образовательных результатов для 1 - 4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4724280"/>
            <a:ext cx="9144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9"/>
          <p:cNvSpPr/>
          <p:nvPr/>
        </p:nvSpPr>
        <p:spPr>
          <a:xfrm>
            <a:off x="5410080" y="1066680"/>
            <a:ext cx="484200" cy="36450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33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ст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TART_Tetr"/>
          <p:cNvPicPr/>
          <p:nvPr/>
        </p:nvPicPr>
        <p:blipFill>
          <a:blip r:embed="rId1"/>
          <a:stretch/>
        </p:blipFill>
        <p:spPr>
          <a:xfrm>
            <a:off x="4648320" y="990720"/>
            <a:ext cx="2209680" cy="19778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9" name="Picture 7" descr="Met_START"/>
          <p:cNvPicPr/>
          <p:nvPr/>
        </p:nvPicPr>
        <p:blipFill>
          <a:blip r:embed="rId2"/>
          <a:stretch/>
        </p:blipFill>
        <p:spPr>
          <a:xfrm>
            <a:off x="7086600" y="990720"/>
            <a:ext cx="2057400" cy="2008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5791320" y="4114800"/>
            <a:ext cx="32004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метапредме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верс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5800" y="3048120"/>
            <a:ext cx="8001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33520" y="9907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стартовой гото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спеш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Z:\обложки -2011\Obl_Met UUD_correct.tif"/>
          <p:cNvPicPr/>
          <p:nvPr/>
        </p:nvPicPr>
        <p:blipFill>
          <a:blip r:embed="rId3"/>
          <a:stretch/>
        </p:blipFill>
        <p:spPr>
          <a:xfrm>
            <a:off x="304920" y="4114800"/>
            <a:ext cx="243828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94" name="Picture 2" descr="Z:\обложки -2011\UUD1_1.tif"/>
          <p:cNvPicPr/>
          <p:nvPr/>
        </p:nvPicPr>
        <p:blipFill>
          <a:blip r:embed="rId4"/>
          <a:stretch/>
        </p:blipFill>
        <p:spPr>
          <a:xfrm>
            <a:off x="2971800" y="4114800"/>
            <a:ext cx="259092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Z:\обложки -2011\Obl_Met UUD_correct.tif"/>
          <p:cNvPicPr/>
          <p:nvPr/>
        </p:nvPicPr>
        <p:blipFill>
          <a:blip r:embed="rId1"/>
          <a:stretch/>
        </p:blipFill>
        <p:spPr>
          <a:xfrm>
            <a:off x="2362320" y="1143000"/>
            <a:ext cx="2361960" cy="2711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97" name="Picture 2" descr="Z:\обложки -2011\UUD1_1.tif"/>
          <p:cNvPicPr/>
          <p:nvPr/>
        </p:nvPicPr>
        <p:blipFill>
          <a:blip r:embed="rId2"/>
          <a:stretch/>
        </p:blipFill>
        <p:spPr>
          <a:xfrm>
            <a:off x="0" y="1143000"/>
            <a:ext cx="229860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98" name="TextBox 12"/>
          <p:cNvSpPr/>
          <p:nvPr/>
        </p:nvSpPr>
        <p:spPr>
          <a:xfrm>
            <a:off x="4800600" y="114300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«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рограмму мониторинга развития  УУД учащ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4 клас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0" y="40384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е реализуется комплексный психолого-педагогический подход к отслеживанию и оценке процесса развития ребенка  с первых недель его обучения в начальной школе и до конца 4 кла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62120" y="6858000"/>
            <a:ext cx="8381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открывает уникальные возможности для индивидуализации процесса обучения и достижения каждым ребенком высокого образовательного результата на основании системного, комплексного изучения его продвижения по образовательной траек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ежегодное отслеживание процесса формирования УУД на основе единой «линейки» показ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включает тетрадь для учащихся ( 1класс – тетрадь-перевертыш, 2-4 классы – тетради в двух вариантах) с диагностическими задания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мся учиться и действовать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тодическое пособие дл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Группа 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05" name="TextBox 6"/>
            <p:cNvSpPr/>
            <p:nvPr/>
          </p:nvSpPr>
          <p:spPr>
            <a:xfrm>
              <a:off x="0" y="1066680"/>
              <a:ext cx="9144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растные особенности учащихся 1 класса учтены  в форме диагностических заданий: это история-сказка, участвуя в которой, дети помогают учащимся лесной школы, зверятам, и их учителю,  Еноту Енотовичу. Все задания  (2 варианта) дети выполняют в индивидуальной рабочей тетради  «Учимся учиться и действовать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Группа 12"/>
            <p:cNvGrpSpPr/>
            <p:nvPr/>
          </p:nvGrpSpPr>
          <p:grpSpPr>
            <a:xfrm>
              <a:off x="0" y="3657600"/>
              <a:ext cx="9144000" cy="3200400"/>
              <a:chOff x="0" y="3657600"/>
              <a:chExt cx="9144000" cy="3200400"/>
            </a:xfrm>
          </p:grpSpPr>
          <p:pic>
            <p:nvPicPr>
              <p:cNvPr id="107" name="Picture 2" descr="Z:\обложки -2011\UUD1_1.tif"/>
              <p:cNvPicPr/>
              <p:nvPr/>
            </p:nvPicPr>
            <p:blipFill>
              <a:blip r:embed="rId1"/>
              <a:stretch/>
            </p:blipFill>
            <p:spPr>
              <a:xfrm>
                <a:off x="0" y="3733560"/>
                <a:ext cx="2819160" cy="312444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pic>
            <p:nvPicPr>
              <p:cNvPr id="108" name="Picture 3" descr="Z:\обложки -2011\UUD1_2.tif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3657600"/>
                <a:ext cx="2438280" cy="320040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sp>
            <p:nvSpPr>
              <p:cNvPr id="109" name="TextBox 10"/>
              <p:cNvSpPr/>
              <p:nvPr/>
            </p:nvSpPr>
            <p:spPr>
              <a:xfrm>
                <a:off x="2743200" y="4724280"/>
                <a:ext cx="4145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 вариант</a:t>
                </a:r>
                <a:r>
                  <a:rPr b="0" lang="ru-RU" sz="1800" spc="-1" strike="noStrike">
                    <a:solidFill>
                      <a:srgbClr val="0070c0"/>
                    </a:solidFill>
                    <a:latin typeface="Arial"/>
                  </a:rPr>
                  <a:t>                        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2 вариан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70c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и-«перевертыш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Двойная стрелка влево/вправо 11"/>
              <p:cNvSpPr/>
              <p:nvPr/>
            </p:nvSpPr>
            <p:spPr>
              <a:xfrm>
                <a:off x="4114800" y="4724280"/>
                <a:ext cx="1215720" cy="484200"/>
              </a:xfrm>
              <a:prstGeom prst="leftRightArrow">
                <a:avLst>
                  <a:gd name="adj1" fmla="val 50000"/>
                  <a:gd name="adj2" fmla="val 49983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E:\Мониторинг УУД 1-4 классы\мониторинг ууд 1 класс\раб.тетр.1кл\Изображение 075.jpg"/>
          <p:cNvPicPr/>
          <p:nvPr/>
        </p:nvPicPr>
        <p:blipFill>
          <a:blip r:embed="rId1"/>
          <a:stretch/>
        </p:blipFill>
        <p:spPr>
          <a:xfrm>
            <a:off x="0" y="0"/>
            <a:ext cx="4648320" cy="807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E:\Мониторинг УУД 1-4 классы\мониторинг ууд 1 класс\раб.тетр.1кл\Изображение 076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для 2 класс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E:\Мониторинг УУД 1-4 классы\мониторинг УУД 2 класс\раб.тетрадь  2 класс 1 вариант\145101.JPG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:\Мониторинг УУД 1-4 классы\мониторинг УУД 2 класс\раб.тетрадь 2 класс 2 вариант\154919.JPG"/>
          <p:cNvPicPr/>
          <p:nvPr/>
        </p:nvPicPr>
        <p:blipFill>
          <a:blip r:embed="rId2"/>
          <a:stretch/>
        </p:blipFill>
        <p:spPr>
          <a:xfrm>
            <a:off x="4800600" y="8380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Мониторинг УУД 1-4 классы\мониторинг УУД 2 класс\раб.тетрадь 2 класс 2 вариант\155149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Мониторинг УУД 1-4 классы\мониторинг УУД 2 класс\раб.тетрадь 2 класс 2 вариант\155210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для 3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E:\Мониторинг УУД 1-4 классы\мониторинг УУД 3 класс\раб.тетр. 3кл.1 вариант\141043.JPG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5943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E:\Мониторинг УУД 1-4 классы\мониторинг УУД 3 класс\раб.тетр. 2 вариант 3 кл\202554.JPG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трумент, помогающий педагогу «настроить» учебный процесс на индивидуальные возможности каждого ученика, создать для него оптимальные условия для достижения качественного образовательного результат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Мониторинг УУД 1-4 классы\мониторинг УУД 3 класс\раб.тетр. 2 вариант 3 кл\203153.JPG"/>
          <p:cNvPicPr/>
          <p:nvPr/>
        </p:nvPicPr>
        <p:blipFill>
          <a:blip r:embed="rId1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E:\Мониторинг УУД 1-4 классы\мониторинг УУД 3 класс\раб.тетр. 2 вариант 3 кл\203224.JPG"/>
          <p:cNvPicPr/>
          <p:nvPr/>
        </p:nvPicPr>
        <p:blipFill>
          <a:blip r:embed="rId2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E:\Мониторинг УУД 1-4 классы\мониторинг УУД 3 класс\раб.тетр. 2 вариант 3 кл\203247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для 4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E:\Мониторинг УУД 1-4 классы\мониторинг УУД 4 класс\раб.тетр. 4 кл. 1вариант\185612.JPG"/>
          <p:cNvPicPr/>
          <p:nvPr/>
        </p:nvPicPr>
        <p:blipFill>
          <a:blip r:embed="rId1"/>
          <a:stretch/>
        </p:blipFill>
        <p:spPr>
          <a:xfrm>
            <a:off x="0" y="83808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Мониторинг УУД 1-4 классы\мониторинг УУД 4 класс\раб.тетр. 4 кл. 1вариант\185930.JPG"/>
          <p:cNvPicPr/>
          <p:nvPr/>
        </p:nvPicPr>
        <p:blipFill>
          <a:blip r:embed="rId2"/>
          <a:stretch/>
        </p:blipFill>
        <p:spPr>
          <a:xfrm>
            <a:off x="4572000" y="8380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E:\Мониторинг УУД 1-4 классы\мониторинг УУД 4 класс\раб.тетр. 4 кл. 1вариант\185959.JPG"/>
          <p:cNvPicPr/>
          <p:nvPr/>
        </p:nvPicPr>
        <p:blipFill>
          <a:blip r:embed="rId3"/>
          <a:stretch/>
        </p:blipFill>
        <p:spPr>
          <a:xfrm>
            <a:off x="4648320" y="411480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E:\Мониторинг УУД 1-4 классы\мониторинг УУД 4 класс\раб.тетр. 4 кл. 1вариант\190019.JPG"/>
          <p:cNvPicPr/>
          <p:nvPr/>
        </p:nvPicPr>
        <p:blipFill>
          <a:blip r:embed="rId4"/>
          <a:stretch/>
        </p:blipFill>
        <p:spPr>
          <a:xfrm>
            <a:off x="0" y="4114800"/>
            <a:ext cx="454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E:\Мониторинг УУД 1-4 классы\мониторинг УУД 4 класс\раб.тетр. 4 кл. 1вариант\185824.JP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Мониторинг УУД 1-4 классы\мониторинг УУД 4 класс\раб.тетр. 4 кл. 1вариант\185843.JPG"/>
          <p:cNvPicPr/>
          <p:nvPr/>
        </p:nvPicPr>
        <p:blipFill>
          <a:blip r:embed="rId2"/>
          <a:stretch/>
        </p:blipFill>
        <p:spPr>
          <a:xfrm>
            <a:off x="4724280" y="2286000"/>
            <a:ext cx="441972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Мониторинг УУД 1-4 классы\мониторинг УУД 4 класс\раб.тетр. 4 кл. 1вариант\185910.JPG"/>
          <p:cNvPicPr/>
          <p:nvPr/>
        </p:nvPicPr>
        <p:blipFill>
          <a:blip r:embed="rId3"/>
          <a:stretch/>
        </p:blipFill>
        <p:spPr>
          <a:xfrm>
            <a:off x="4648320" y="434340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E:\Мониторинг УУД 1-4 классы\мониторинг УУД 3 класс\раб.тетр. 3кл.1 вариант\141341.JPG"/>
          <p:cNvPicPr/>
          <p:nvPr/>
        </p:nvPicPr>
        <p:blipFill>
          <a:blip r:embed="rId4"/>
          <a:stretch/>
        </p:blipFill>
        <p:spPr>
          <a:xfrm>
            <a:off x="0" y="0"/>
            <a:ext cx="464832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:\Мониторинг УУД 1-4 классы\мониторинг УУД 3 класс\раб.тетр. 3кл.1 вариант\141406.JPG"/>
          <p:cNvPicPr/>
          <p:nvPr/>
        </p:nvPicPr>
        <p:blipFill>
          <a:blip r:embed="rId5"/>
          <a:stretch/>
        </p:blipFill>
        <p:spPr>
          <a:xfrm>
            <a:off x="0" y="2666880"/>
            <a:ext cx="45720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E:\Мониторинг УУД 1-4 классы\мониторинг УУД 3 класс\раб.тетр. 3кл.1 вариант\141457.JPG"/>
          <p:cNvPicPr/>
          <p:nvPr/>
        </p:nvPicPr>
        <p:blipFill>
          <a:blip r:embed="rId6"/>
          <a:stretch/>
        </p:blipFill>
        <p:spPr>
          <a:xfrm>
            <a:off x="0" y="4724280"/>
            <a:ext cx="45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ческие уро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класс                        4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E:\Мониторинг УУД 1-4 классы\мониторинг УУД 3 класс\раб.тетр. 3кл.1 вариант\142616.JPG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5638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E:\Мониторинг УУД 1-4 классы\мониторинг УУД 4 класс\раб.тетр. 4 кл. 1вариант\190652.JPG"/>
          <p:cNvPicPr/>
          <p:nvPr/>
        </p:nvPicPr>
        <p:blipFill>
          <a:blip r:embed="rId2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класс                    4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E:\Мониторинг УУД 1-4 классы\мониторинг УУД 3 класс\раб.тетр. 3кл.1 вариант\141248.JPG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Мониторинг УУД 1-4 классы\мониторинг УУД 3 класс\раб.тетр. 3кл.1 вариант\141310.JPG"/>
          <p:cNvPicPr/>
          <p:nvPr/>
        </p:nvPicPr>
        <p:blipFill>
          <a:blip r:embed="rId2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Мониторинг УУД 1-4 классы\мониторинг УУД 4 класс\раб.тетр. 4 кл. 1вариант\185729.JPG"/>
          <p:cNvPicPr/>
          <p:nvPr/>
        </p:nvPicPr>
        <p:blipFill>
          <a:blip r:embed="rId3"/>
          <a:stretch/>
        </p:blipFill>
        <p:spPr>
          <a:xfrm>
            <a:off x="4648320" y="6094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:\Мониторинг УУД 1-4 классы\мониторинг УУД 4 класс\раб.тетр. 4 кл. 1вариант\185749.JPG"/>
          <p:cNvPicPr/>
          <p:nvPr/>
        </p:nvPicPr>
        <p:blipFill>
          <a:blip r:embed="rId4"/>
          <a:stretch/>
        </p:blipFill>
        <p:spPr>
          <a:xfrm>
            <a:off x="4572000" y="358128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0" y="1219320"/>
            <a:ext cx="525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ариант представляет собой  диагностические модули, которые  имеют одинаковую структур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  диагностических задания (А, Б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дополнительное з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енное знач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вним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Z:\обложки -2011\школьный старт\сундучок.tif"/>
          <p:cNvPicPr/>
          <p:nvPr/>
        </p:nvPicPr>
        <p:blipFill>
          <a:blip r:embed="rId1"/>
          <a:stretch/>
        </p:blipFill>
        <p:spPr>
          <a:xfrm>
            <a:off x="380988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Z:\обложки -2011\UUD1_1.tif"/>
          <p:cNvPicPr/>
          <p:nvPr/>
        </p:nvPicPr>
        <p:blipFill>
          <a:blip r:embed="rId2"/>
          <a:stretch/>
        </p:blipFill>
        <p:spPr>
          <a:xfrm>
            <a:off x="5257800" y="1371600"/>
            <a:ext cx="3886200" cy="54864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1"/>
          <p:cNvGrpSpPr/>
          <p:nvPr/>
        </p:nvGrpSpPr>
        <p:grpSpPr>
          <a:xfrm>
            <a:off x="162720" y="914400"/>
            <a:ext cx="8850600" cy="5853240"/>
            <a:chOff x="162720" y="914400"/>
            <a:chExt cx="8850600" cy="5853240"/>
          </a:xfrm>
        </p:grpSpPr>
        <p:sp>
          <p:nvSpPr>
            <p:cNvPr id="153" name="TextBox 18"/>
            <p:cNvSpPr/>
            <p:nvPr/>
          </p:nvSpPr>
          <p:spPr>
            <a:xfrm>
              <a:off x="3581280" y="914400"/>
              <a:ext cx="3810240" cy="3373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едение – история в лесной шко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9"/>
            <p:cNvSpPr/>
            <p:nvPr/>
          </p:nvSpPr>
          <p:spPr>
            <a:xfrm>
              <a:off x="162720" y="4495680"/>
              <a:ext cx="1401480" cy="82404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е А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 образц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0"/>
            <p:cNvSpPr/>
            <p:nvPr/>
          </p:nvSpPr>
          <p:spPr>
            <a:xfrm>
              <a:off x="6027840" y="5943600"/>
              <a:ext cx="2730240" cy="82404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ополнительное за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выполняется по желани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бенк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Группа 29"/>
            <p:cNvGrpSpPr/>
            <p:nvPr/>
          </p:nvGrpSpPr>
          <p:grpSpPr>
            <a:xfrm>
              <a:off x="232920" y="1066680"/>
              <a:ext cx="8780400" cy="5290200"/>
              <a:chOff x="232920" y="1066680"/>
              <a:chExt cx="8780400" cy="5290200"/>
            </a:xfrm>
          </p:grpSpPr>
          <p:pic>
            <p:nvPicPr>
              <p:cNvPr id="157" name="Picture 6" descr="Z:\обложки -2011\школьный старт\UUD_26-27.jpg"/>
              <p:cNvPicPr/>
              <p:nvPr/>
            </p:nvPicPr>
            <p:blipFill>
              <a:blip r:embed="rId1"/>
              <a:srcRect l="0" t="0" r="-20" b="0"/>
              <a:stretch/>
            </p:blipFill>
            <p:spPr>
              <a:xfrm>
                <a:off x="1904760" y="1752120"/>
                <a:ext cx="5334480" cy="3973320"/>
              </a:xfrm>
              <a:prstGeom prst="rect">
                <a:avLst/>
              </a:prstGeom>
              <a:ln w="28440">
                <a:solidFill>
                  <a:srgbClr val="3333ff"/>
                </a:solidFill>
                <a:miter/>
              </a:ln>
            </p:spPr>
          </p:pic>
          <p:sp>
            <p:nvSpPr>
              <p:cNvPr id="158" name="TextBox 15"/>
              <p:cNvSpPr/>
              <p:nvPr/>
            </p:nvSpPr>
            <p:spPr>
              <a:xfrm>
                <a:off x="232920" y="2590560"/>
                <a:ext cx="1000800" cy="33732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Образе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16"/>
              <p:cNvSpPr/>
              <p:nvPr/>
            </p:nvSpPr>
            <p:spPr>
              <a:xfrm>
                <a:off x="304200" y="1066680"/>
                <a:ext cx="2667240" cy="5806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омер  диагностическог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модул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17"/>
              <p:cNvSpPr/>
              <p:nvPr/>
            </p:nvSpPr>
            <p:spPr>
              <a:xfrm>
                <a:off x="7403040" y="1523520"/>
                <a:ext cx="1610280" cy="5806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Задание Б –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а ориентаци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21"/>
              <p:cNvSpPr/>
              <p:nvPr/>
            </p:nvSpPr>
            <p:spPr>
              <a:xfrm>
                <a:off x="1752120" y="6019560"/>
                <a:ext cx="2972160" cy="33732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Задание В – на ориентаци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Стрелка вниз 22"/>
              <p:cNvSpPr/>
              <p:nvPr/>
            </p:nvSpPr>
            <p:spPr>
              <a:xfrm rot="16200000">
                <a:off x="1218600" y="1371240"/>
                <a:ext cx="304560" cy="1066680"/>
              </a:xfrm>
              <a:prstGeom prst="downArrow">
                <a:avLst>
                  <a:gd name="adj1" fmla="val 50000"/>
                  <a:gd name="adj2" fmla="val 50038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трелка вниз 23"/>
              <p:cNvSpPr/>
              <p:nvPr/>
            </p:nvSpPr>
            <p:spPr>
              <a:xfrm rot="17242200">
                <a:off x="1621800" y="2367720"/>
                <a:ext cx="314280" cy="1714320"/>
              </a:xfrm>
              <a:prstGeom prst="downArrow">
                <a:avLst>
                  <a:gd name="adj1" fmla="val 50000"/>
                  <a:gd name="adj2" fmla="val 5000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Стрелка вниз 24"/>
              <p:cNvSpPr/>
              <p:nvPr/>
            </p:nvSpPr>
            <p:spPr>
              <a:xfrm rot="15888600">
                <a:off x="1203840" y="3738960"/>
                <a:ext cx="350640" cy="1209600"/>
              </a:xfrm>
              <a:prstGeom prst="downArrow">
                <a:avLst>
                  <a:gd name="adj1" fmla="val 50000"/>
                  <a:gd name="adj2" fmla="val 5003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Стрелка вниз 25"/>
              <p:cNvSpPr/>
              <p:nvPr/>
            </p:nvSpPr>
            <p:spPr>
              <a:xfrm rot="1248600">
                <a:off x="3814200" y="1188720"/>
                <a:ext cx="317520" cy="977760"/>
              </a:xfrm>
              <a:prstGeom prst="downArrow">
                <a:avLst>
                  <a:gd name="adj1" fmla="val 50000"/>
                  <a:gd name="adj2" fmla="val 49983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Стрелка вниз 26"/>
              <p:cNvSpPr/>
              <p:nvPr/>
            </p:nvSpPr>
            <p:spPr>
              <a:xfrm rot="12428400">
                <a:off x="4127040" y="4318560"/>
                <a:ext cx="330120" cy="1801800"/>
              </a:xfrm>
              <a:prstGeom prst="downArrow">
                <a:avLst>
                  <a:gd name="adj1" fmla="val 50000"/>
                  <a:gd name="adj2" fmla="val 5000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Стрелка вниз 27"/>
              <p:cNvSpPr/>
              <p:nvPr/>
            </p:nvSpPr>
            <p:spPr>
              <a:xfrm rot="4677600">
                <a:off x="6144120" y="719640"/>
                <a:ext cx="307800" cy="2217600"/>
              </a:xfrm>
              <a:prstGeom prst="downArrow">
                <a:avLst>
                  <a:gd name="adj1" fmla="val 50000"/>
                  <a:gd name="adj2" fmla="val 5003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трелка вниз 28"/>
              <p:cNvSpPr/>
              <p:nvPr/>
            </p:nvSpPr>
            <p:spPr>
              <a:xfrm rot="8518800">
                <a:off x="6814800" y="5110200"/>
                <a:ext cx="369720" cy="977760"/>
              </a:xfrm>
              <a:prstGeom prst="downArrow">
                <a:avLst>
                  <a:gd name="adj1" fmla="val 50000"/>
                  <a:gd name="adj2" fmla="val 5000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заполнения мини-табли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 общ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по каждому модулю и сводные электронные таблицы размещены  на сайт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zankov.ru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ниторинга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оцесса развития и формирования метапредметных УУД у учащихся 1–4 классов для проектирования и своевременной корректировки учебного процесс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уровня сформированности метапредметных УУД каждого ученика на разных этапах обучения в начальной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слеживание индивидуальной динамики продвижения учащихся к метапредметным образовательным результатам, определение проблемных зон в решении задач образования учащихся и разработка на этой основе стратегии помощи учащимся, испытывающим трудности в формировании тех или иных метапредметных У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мониторинга УУ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33520"/>
          <a:ext cx="9144000" cy="6729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оказателей монитор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иагностируе-мых УУД: 1-я группа – универсаль-ные способ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я группа – элементы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и 2-я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и 2-я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сформированности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по образ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вида диагностиче-ских зада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по образ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вида диагностиче-ских зада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на основе подводящих вопросов и реализация в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на основе подводящих вопросов, усвоенного алгоритма и реализация в учеб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ст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TART_Tetr"/>
          <p:cNvPicPr/>
          <p:nvPr/>
        </p:nvPicPr>
        <p:blipFill>
          <a:blip r:embed="rId1"/>
          <a:stretch/>
        </p:blipFill>
        <p:spPr>
          <a:xfrm>
            <a:off x="762120" y="1981080"/>
            <a:ext cx="3581280" cy="3429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60" name="Picture 7" descr="Met_START"/>
          <p:cNvPicPr/>
          <p:nvPr/>
        </p:nvPicPr>
        <p:blipFill>
          <a:blip r:embed="rId2"/>
          <a:stretch/>
        </p:blipFill>
        <p:spPr>
          <a:xfrm>
            <a:off x="5105520" y="1981080"/>
            <a:ext cx="3492360" cy="3429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1" name="Text Box 10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Авторы компл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.В. Беглова, М.Р. Битянова, Т.В. Меркулова, А.Г. Тепл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 ред. к. психол. н.  М.Р. Битян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38080" y="12193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бочая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791320" y="10666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тодические рекомен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Школьный ст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838080"/>
            <a:ext cx="46483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ьный старт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нципиально н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к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е и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первых не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сяце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в школ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670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олучить достоверную информацию о том, готов ли ребенок успешно учи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создать основу для развития универсальных учебных действ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обеспечить эмоционально комфортную образовательную среду для каждого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добрать педагогические методы и приемы с учетом уровня готовности и спланировать индивидуальную работу с  дет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Дети бегут"/>
          <p:cNvPicPr/>
          <p:nvPr/>
        </p:nvPicPr>
        <p:blipFill>
          <a:blip r:embed="rId1"/>
          <a:stretch/>
        </p:blipFill>
        <p:spPr>
          <a:xfrm>
            <a:off x="4600440" y="838080"/>
            <a:ext cx="4543560" cy="22305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строена 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работает в своей личной рабочей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диагностические упражнения позволяют выявить те умения, которые помогают детям справляться с учебными заданиями в начале 1 класса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_Diagn_tetr_17_06_Page_04"/>
          <p:cNvPicPr/>
          <p:nvPr/>
        </p:nvPicPr>
        <p:blipFill>
          <a:blip r:embed="rId1"/>
          <a:stretch/>
        </p:blipFill>
        <p:spPr>
          <a:xfrm>
            <a:off x="0" y="2438280"/>
            <a:ext cx="3124080" cy="4419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71" name="Picture 8" descr="_Diagn_tetr_17_06_Page_05"/>
          <p:cNvPicPr/>
          <p:nvPr/>
        </p:nvPicPr>
        <p:blipFill>
          <a:blip r:embed="rId2"/>
          <a:stretch/>
        </p:blipFill>
        <p:spPr>
          <a:xfrm>
            <a:off x="5943600" y="2514600"/>
            <a:ext cx="3200400" cy="4343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2" name="Text Box 9"/>
          <p:cNvSpPr/>
          <p:nvPr/>
        </p:nvSpPr>
        <p:spPr>
          <a:xfrm>
            <a:off x="2971800" y="2971800"/>
            <a:ext cx="3124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ыстроены        на основе  цветных рисунков, что облегчает  их восприятие ребенко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одится 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657600" y="1791720"/>
            <a:ext cx="5486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выполняются под руководством учителя. В помощь учителю разработаны методические рекомендации. Они предоставляют всю необходимую информацию: цель задания, инструкцию, время выполнения, советы, что делать в тех или иных непредвиденных ситуациях, как реагировать на вопросы детей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методичка_с 13_Page_14"/>
          <p:cNvPicPr/>
          <p:nvPr/>
        </p:nvPicPr>
        <p:blipFill>
          <a:blip r:embed="rId1"/>
          <a:stretch/>
        </p:blipFill>
        <p:spPr>
          <a:xfrm>
            <a:off x="0" y="1981080"/>
            <a:ext cx="3657600" cy="4876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6" name="Text Box 8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диагностика стартовой готовности проводится на 3-4 неделе обучения первокласс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657600" y="56386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ические рекомендации. Педагогическая диагностика стартовой готовности к успешному обучению  в начальной школе»,  стр.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</dc:creator>
  <dc:description/>
  <dc:language>en-US</dc:language>
  <cp:lastModifiedBy>Windows User</cp:lastModifiedBy>
  <dcterms:modified xsi:type="dcterms:W3CDTF">2017-09-18T09:10:17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b0000000000010243100207f6000400038000</vt:lpwstr>
  </property>
  <property fmtid="{D5CDD505-2E9C-101B-9397-08002B2CF9AE}" pid="3" name="Version">
    <vt:r8>1</vt:r8>
  </property>
</Properties>
</file>