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F64-128F-4184-8BF1-CADB65E9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A3-0CC6-4E09-B5E1-38344A3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3B8-0171-4ABE-9548-0FC35C82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63E-C23D-4EEE-ABBF-A230A01E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005-B32D-4535-8958-F2E79AC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316F-F59A-4D63-8E42-3C08567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FC8E-A1A4-4253-B1E9-DF214EB5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A009-D960-4D8D-90E4-670D499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D31D-E3F1-4A39-BC9F-AAD2BC0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63D1-1932-4D01-8619-2A34BA4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9FD2-7E1A-4FD5-929C-E9B874B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E39-1B0A-46E6-8C4F-62CEF7D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F6A8-435B-4D31-9F9C-795C3A4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348-7B18-499D-9C55-29596EB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A075-773B-4C3B-9661-827177DF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A30-1EE7-4FE1-ACA6-B4AE7C8D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6AD5-1F05-4EA8-BD64-A88C486A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927-5DB0-465F-A127-AE1D945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D88-4170-4051-B2EC-19C6E1A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D59-1AE3-48D3-9909-C11AC95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6E5-AE93-45EF-9CFC-D012E7A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3EA-72BE-492F-99E8-03E7C41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6CD-145F-4156-95E8-0EED9A11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839-6C75-4B91-8C00-51517A6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7F46-2912-4252-BE93-495C2E35CD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329-4C38-439A-827A-25CACA804F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2276640"/>
            <a:ext cx="603252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77080" cy="517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21440" y="119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1440" y="170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21080" y="234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21440" y="2997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130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1440" y="35733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2160" y="2997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2160" y="4221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0520" y="62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70160" y="126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49280" y="18129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9800" y="234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70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7800" y="1773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9440" y="2368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9080" y="299736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8520" y="350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6520" y="620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6880" y="119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5640" y="1741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24210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744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544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5800" y="1916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5080" y="25653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416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86000" y="36133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6160" y="4221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652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06000" y="1380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76920" y="1884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6160" y="256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05280" y="30369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06000" y="36846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05640" y="433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580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216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53640" y="1380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3440" y="1989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5080" y="2492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74520" y="30686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4520" y="3645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3280" y="4189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5240" y="184464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74000" y="253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1800" y="306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74000" y="361332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74360" y="4189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42880" y="14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21640" y="1884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9800" y="2492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1380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22360" y="3613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егодня на уроке мы узнаем 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-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0012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03280" y="406440"/>
            <a:ext cx="69138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Московский князь Иван Данилови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46018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по прозвани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Кали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30960" y="1844640"/>
            <a:ext cx="3389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381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Б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риллица славянская азбу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нязь Александр Невск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тый монголо-татарский х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пка Мономаха – символ влас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лита - сумка, мешок, карм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астырь – Троице-Сергие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довое побоище – 5 апреля 1242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нязь Ярослав Мудры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ещение Руси 988 го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стор монах, летописец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Мне было интересн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Больше всего мне понравилось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7T19:31:16Z</dcterms:created>
  <dc:creator>User</dc:creator>
  <dc:description/>
  <dc:language>en-US</dc:language>
  <cp:lastModifiedBy>User</cp:lastModifiedBy>
  <dcterms:modified xsi:type="dcterms:W3CDTF">2017-03-18T08:53:22Z</dcterms:modified>
  <cp:revision>3</cp:revision>
  <dc:subject/>
  <dc:title>Слайд 1</dc:title>
</cp:coreProperties>
</file>