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D46-1E8C-47F5-A497-5D652DEA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504-FA4F-4342-BF8F-C344B945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01EF-1159-43E7-8A34-68BFB3EC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608E-5258-46B8-8BE1-BE9D488F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D152-8AFF-49BB-A07D-0B62CE4A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E688-06BE-4C32-9103-2984DD86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C780-9FAA-45DC-986C-8DA38D41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100E-1C65-47BF-AF77-D1E9EA60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77A1-FA17-4116-85C6-3B9A1A03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A297-3E26-4E62-ABF6-D80CAC8A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E31C-B4BD-4BE8-9927-58F13802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E6F-D527-425B-9D57-C42499DD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B0B8-E310-4E97-B69B-4B07EE64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B1C2-1C38-48C1-BE8B-685D7501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81F5-4F96-4F1E-A6DC-5A2A32E2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159E-B263-4F7F-A5DC-C02E2D71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927E-084C-45E9-9A92-9D26BD5C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969-3199-4A87-9095-A5F5399C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809-B43D-4043-BF07-FC14A651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8CF-D0F2-4D60-A24F-B2040EB6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E7D-1A32-405C-BE07-60140076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D02-5321-47BC-80A6-4319125B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85A-07E9-42DD-85E4-0D1445CF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B12-6C33-4DB0-AAB5-4B7F69EC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9737-4B3E-4C7F-A04E-FFD3F7371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98A4-E7B1-40D5-AAA8-A3FDB1DA5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72400" cy="30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5159f"/>
                </a:solidFill>
                <a:latin typeface="Arial Black"/>
              </a:rPr>
              <a:t>Определи художественное полотно по фрагменту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3962520"/>
            <a:ext cx="718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Задание на вним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Составитель: ФАДЕЕВА М.Г. г.Нижний Новгород,  МБОУ «Школа №105», учитель музыки и МХ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Black"/>
              </a:rPr>
              <a:t>Задание на внимани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46404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Black"/>
              </a:rPr>
              <a:t>Задание на внимани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5437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Black"/>
              </a:rPr>
              <a:t>Задание на внимани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60195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549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 Black"/>
              </a:rPr>
              <a:t>Творческих успехов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В задании использованы картины художник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.Леонардо да Вин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.Диего Веласке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.Василия Пер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.К.Флавиц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Black"/>
              </a:rPr>
              <a:t>Задание на внимани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пишите что на фрагменте изображе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пишите название работы и её ав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ую часть в композиции занимает представленный фрагмен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ишите общую композицию работы и укажите количество изображённых на ней фигур, назовите значимые запоминающиеся дет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формулируйте и запишите тему и идею произ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кажите известные работы этого худож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Black"/>
              </a:rPr>
              <a:t>Задание на внимани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59184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Black"/>
              </a:rPr>
              <a:t>Задание на внимани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62071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Black"/>
              </a:rPr>
              <a:t>Задание на внимани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6388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Black"/>
              </a:rPr>
              <a:t>Задание на внимани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1847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Black"/>
              </a:rPr>
              <a:t>Задание на внимани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511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Black"/>
              </a:rPr>
              <a:t>Задание на внимани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48387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Black"/>
              </a:rPr>
              <a:t>Задание на внимани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80000" y="1700280"/>
            <a:ext cx="439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8T15:02:46Z</dcterms:created>
  <dc:creator>Фадеева</dc:creator>
  <dc:description/>
  <dc:language>en-US</dc:language>
  <cp:lastModifiedBy>Фадеева</cp:lastModifiedBy>
  <dcterms:modified xsi:type="dcterms:W3CDTF">2017-09-18T15:40:27Z</dcterms:modified>
  <cp:revision>2</cp:revision>
  <dc:subject/>
  <dc:title>Определи художественное полотно по фрагменту.</dc:title>
</cp:coreProperties>
</file>