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png" ContentType="image/png"/>
  <Override PartName="/ppt/media/image17.wmf" ContentType="image/x-wmf"/>
  <Override PartName="/ppt/media/image16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5.wmf" ContentType="image/x-wmf"/>
  <Override PartName="/ppt/media/image4.gif" ContentType="image/gif"/>
  <Override PartName="/ppt/media/image5.jpeg" ContentType="image/jpeg"/>
  <Override PartName="/ppt/media/image7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5308-73C7-41ED-9D80-3DDACE86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0FA2-CF80-4542-8C10-EEB58EBF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9612-B18E-48C8-B834-2EAA72CB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65D-6346-4DB1-AEB2-772FB638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344C-6A65-4F26-9667-BDD0BB96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9E5C-F80D-4C95-BFB3-71D6DF5D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0EF3-E0A8-48B9-BC85-1FBDC551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FD74-C443-4355-A678-DBFA5D12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5FB-50EA-4C7A-84E6-C2044013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DDD-8FCB-4EE5-9C9A-90FF0A96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D5F6-3704-4F21-8AF8-922391D0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7AB-6194-4B25-AF30-0C6B0A25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F1AE-CF12-46B2-B6D4-1FF1D0E423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6.pn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907920"/>
            <a:ext cx="727236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Школ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еходных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у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елтый сигнал светофора говорит нам о том, что нужно приготов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733920" y="1676520"/>
            <a:ext cx="1143000" cy="4495680"/>
            <a:chOff x="3733920" y="1676520"/>
            <a:chExt cx="1143000" cy="4495680"/>
          </a:xfrm>
        </p:grpSpPr>
        <p:sp>
          <p:nvSpPr>
            <p:cNvPr id="127" name=""/>
            <p:cNvSpPr/>
            <p:nvPr/>
          </p:nvSpPr>
          <p:spPr>
            <a:xfrm>
              <a:off x="3733920" y="1676520"/>
              <a:ext cx="1143000" cy="290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83040" y="1878120"/>
              <a:ext cx="644400" cy="610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83040" y="2693880"/>
              <a:ext cx="644400" cy="612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83040" y="3560760"/>
              <a:ext cx="644400" cy="61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860640" y="6172200"/>
              <a:ext cx="825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14800" y="4572000"/>
              <a:ext cx="380880" cy="1587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5678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зеленый сигнал светофора можно переходить дор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14479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1676520"/>
            <a:ext cx="644400" cy="61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2514600"/>
            <a:ext cx="644400" cy="6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3429000"/>
            <a:ext cx="644400" cy="612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733560" y="5943600"/>
            <a:ext cx="825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4343400"/>
            <a:ext cx="38124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480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светофора нет, начиная переход, надо посмотреть налево, дойти до середины дорог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2895480"/>
            <a:ext cx="8763120" cy="3962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7352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5292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3268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1208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267080" y="0"/>
            <a:ext cx="76320" cy="68580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457200" cy="7010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0" y="0"/>
            <a:ext cx="457200" cy="7010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87600" y="2682720"/>
            <a:ext cx="1040760" cy="2802600"/>
            <a:chOff x="687600" y="2682720"/>
            <a:chExt cx="1040760" cy="2802600"/>
          </a:xfrm>
        </p:grpSpPr>
        <p:sp>
          <p:nvSpPr>
            <p:cNvPr id="153" name=""/>
            <p:cNvSpPr/>
            <p:nvPr/>
          </p:nvSpPr>
          <p:spPr>
            <a:xfrm rot="481800">
              <a:off x="752760" y="2743200"/>
              <a:ext cx="923040" cy="81396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687600" y="3039840"/>
              <a:ext cx="910800" cy="2445480"/>
              <a:chOff x="687600" y="3039840"/>
              <a:chExt cx="910800" cy="244548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687600" y="3039840"/>
                <a:ext cx="905400" cy="2445480"/>
                <a:chOff x="687600" y="3039840"/>
                <a:chExt cx="905400" cy="24454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951840" y="3039840"/>
                  <a:ext cx="431280" cy="3891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060200" y="3485160"/>
                  <a:ext cx="214920" cy="55548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rot="19934400">
                  <a:off x="685440" y="3607920"/>
                  <a:ext cx="484200" cy="11160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2035200">
                  <a:off x="1167840" y="3594960"/>
                  <a:ext cx="430200" cy="11160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899280" y="3984840"/>
                  <a:ext cx="538200" cy="150048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060200" y="3151440"/>
                  <a:ext cx="54000" cy="54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221120" y="3151440"/>
                  <a:ext cx="54000" cy="54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060200" y="3317400"/>
                  <a:ext cx="160560" cy="5580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756000" y="4617720"/>
                <a:ext cx="280440" cy="15768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317600" y="4617720"/>
                <a:ext cx="280800" cy="15768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"/>
          <p:cNvSpPr/>
          <p:nvPr/>
        </p:nvSpPr>
        <p:spPr>
          <a:xfrm>
            <a:off x="2209680" y="1295280"/>
            <a:ext cx="533520" cy="1219320"/>
          </a:xfrm>
          <a:prstGeom prst="upArrow">
            <a:avLst>
              <a:gd name="adj1" fmla="val 50000"/>
              <a:gd name="adj2" fmla="val 571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972640" y="0"/>
            <a:ext cx="171360" cy="701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381880" y="-3808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8242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242"/>
                            </p:stCondLst>
                            <p:childTnLst>
                              <p:par>
                                <p:cTn id="5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022E-016 L 0.32916 1.11022E-016 E">
                                      <p:cBhvr>
                                        <p:cTn id="59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ом посмотреть направо и переходить дорогу дал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2895480"/>
            <a:ext cx="8763120" cy="358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6840" y="2895480"/>
            <a:ext cx="73008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73520" y="2895480"/>
            <a:ext cx="73008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2920" y="2895480"/>
            <a:ext cx="7304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32680" y="2895480"/>
            <a:ext cx="73008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12080" y="2895480"/>
            <a:ext cx="7304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0" y="0"/>
            <a:ext cx="457200" cy="7010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571500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13480" y="3439440"/>
            <a:ext cx="1124640" cy="2883960"/>
            <a:chOff x="3813480" y="3439440"/>
            <a:chExt cx="1124640" cy="2883960"/>
          </a:xfrm>
        </p:grpSpPr>
        <p:sp>
          <p:nvSpPr>
            <p:cNvPr id="181" name=""/>
            <p:cNvSpPr/>
            <p:nvPr/>
          </p:nvSpPr>
          <p:spPr>
            <a:xfrm rot="481800">
              <a:off x="3882960" y="3504960"/>
              <a:ext cx="1001520" cy="83628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813480" y="3809880"/>
              <a:ext cx="986400" cy="2513520"/>
              <a:chOff x="3813480" y="3809880"/>
              <a:chExt cx="986400" cy="25135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3813480" y="3809880"/>
                <a:ext cx="978480" cy="2513520"/>
                <a:chOff x="3813480" y="3809880"/>
                <a:chExt cx="978480" cy="25135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098600" y="3809880"/>
                  <a:ext cx="467640" cy="4003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215960" y="4267440"/>
                  <a:ext cx="232920" cy="5709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19934400">
                  <a:off x="3809880" y="4393800"/>
                  <a:ext cx="525240" cy="1148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2035200">
                  <a:off x="4332960" y="4380120"/>
                  <a:ext cx="466560" cy="1148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041360" y="4781160"/>
                  <a:ext cx="583920" cy="154224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215960" y="392472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90560" y="392472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215960" y="4095000"/>
                  <a:ext cx="174240" cy="5724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3885840" y="5431680"/>
                <a:ext cx="30420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495320" y="5431680"/>
                <a:ext cx="30456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991720" y="0"/>
            <a:ext cx="152280" cy="701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6306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0.49167 1.11111E-006 E">
                                      <p:cBhvr>
                                        <p:cTn id="70" dur="3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14520" y="152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нет светофора, движение на дороге регулирует постовой - милицион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491080" y="914400"/>
            <a:ext cx="2935440" cy="3790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0"/>
            <a:ext cx="8839080" cy="6858000"/>
          </a:xfrm>
          <a:prstGeom prst="rtTriangle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71280" y="304920"/>
            <a:ext cx="8381880" cy="6553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4114800"/>
            <a:ext cx="3276720" cy="274320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53280" y="-53352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3433680" y="4724280"/>
            <a:ext cx="41212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7214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льзя играть на проезжей ча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1066680"/>
            <a:ext cx="0" cy="579132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300680" y="3291480"/>
            <a:ext cx="1029240" cy="2422800"/>
            <a:chOff x="1300680" y="3291480"/>
            <a:chExt cx="1029240" cy="2422800"/>
          </a:xfrm>
        </p:grpSpPr>
        <p:sp>
          <p:nvSpPr>
            <p:cNvPr id="208" name=""/>
            <p:cNvSpPr/>
            <p:nvPr/>
          </p:nvSpPr>
          <p:spPr>
            <a:xfrm rot="481800">
              <a:off x="1362240" y="3352320"/>
              <a:ext cx="923040" cy="70092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1300680" y="3607920"/>
              <a:ext cx="907200" cy="2106360"/>
              <a:chOff x="1300680" y="3607920"/>
              <a:chExt cx="907200" cy="210636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1300680" y="3607920"/>
                <a:ext cx="897480" cy="2106360"/>
                <a:chOff x="1300680" y="3607920"/>
                <a:chExt cx="897480" cy="21063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561320" y="3607920"/>
                  <a:ext cx="431280" cy="3351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669680" y="3991320"/>
                  <a:ext cx="214920" cy="4784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19934400">
                  <a:off x="1294920" y="4097160"/>
                  <a:ext cx="484200" cy="9612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2035200">
                  <a:off x="1777320" y="4085640"/>
                  <a:ext cx="430200" cy="9612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508760" y="4421880"/>
                  <a:ext cx="538200" cy="129240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669680" y="3704040"/>
                  <a:ext cx="54000" cy="46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830600" y="3704040"/>
                  <a:ext cx="54000" cy="46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669680" y="3846960"/>
                  <a:ext cx="160560" cy="47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1365480" y="4966920"/>
                <a:ext cx="280440" cy="13572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27080" y="4966920"/>
                <a:ext cx="280800" cy="13572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7090200" y="3144240"/>
            <a:ext cx="955440" cy="2417760"/>
            <a:chOff x="7090200" y="3144240"/>
            <a:chExt cx="955440" cy="2417760"/>
          </a:xfrm>
        </p:grpSpPr>
        <p:sp>
          <p:nvSpPr>
            <p:cNvPr id="222" name=""/>
            <p:cNvSpPr/>
            <p:nvPr/>
          </p:nvSpPr>
          <p:spPr>
            <a:xfrm rot="481800">
              <a:off x="7148520" y="3200040"/>
              <a:ext cx="852120" cy="70092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7090200" y="3455640"/>
              <a:ext cx="838800" cy="2106360"/>
              <a:chOff x="7090200" y="3455640"/>
              <a:chExt cx="838800" cy="210636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7090200" y="3455640"/>
                <a:ext cx="831600" cy="2106360"/>
                <a:chOff x="7090200" y="3455640"/>
                <a:chExt cx="831600" cy="2106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332480" y="3455640"/>
                  <a:ext cx="397800" cy="3351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2200" y="3839040"/>
                  <a:ext cx="198360" cy="4784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19934400">
                  <a:off x="7086600" y="3945240"/>
                  <a:ext cx="447120" cy="9612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2035200">
                  <a:off x="7531560" y="3933720"/>
                  <a:ext cx="397080" cy="9612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3520" y="4269600"/>
                  <a:ext cx="496800" cy="129240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432200" y="3551760"/>
                  <a:ext cx="49680" cy="46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580880" y="3551760"/>
                  <a:ext cx="49680" cy="46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32200" y="3694680"/>
                  <a:ext cx="148320" cy="47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51400" y="4814640"/>
                <a:ext cx="258840" cy="13572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669800" y="4814640"/>
                <a:ext cx="259200" cy="13572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"/>
          <p:cNvSpPr/>
          <p:nvPr/>
        </p:nvSpPr>
        <p:spPr>
          <a:xfrm>
            <a:off x="2514600" y="3581280"/>
            <a:ext cx="609480" cy="609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8381880" y="-60948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28600" y="838080"/>
            <a:ext cx="15228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839080" y="838080"/>
            <a:ext cx="15264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3672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1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3941 -0.07977 C 0.04601 -0.10035 0.05747 -0.10566 0.06893 -0.11653 C 0.08091 -0.1274 0.09202 -0.14035 0.10556 -0.1452 C 0.1441 -0.1778 0.21476 -0.16439 0.24549 -0.16485 C 0.25608 -0.16948 0.27795 -0.16023 0.27795 -0.15977 C 0.27986 -0.15838 0.28195 -0.15653 0.28386 -0.15514 C 0.28577 -0.15399 0.28785 -0.15399 0.28993 -0.15283 C 0.29427 -0.14959 0.29861 -0.14428 0.30313 -0.14058 C 0.31198 -0.13364 0.32309 -0.1304 0.33264 -0.12832 C 0.34045 -0.12185 0.34723 -0.10983 0.3533 -0.09896 C 0.35834 -0.07861 0.36771 -0.07561 0.3783 -0.06289 C 0.38473 -0.04647 0.39098 -0.03098 0.39896 -0.01665 C 0.40157 -0.01156 0.40764 -0.00208 0.40764 -0.00162 C 0.40938 0.00578 0.41511 0.01989 0.41511 0.02012 C 0.41667 0.04254 0.41667 0.03422 0.41667 0.04439 E">
                                      <p:cBhvr>
                                        <p:cTn id="8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ходи дорогу только тогда, когда общественный транспорт отойдет от остан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962520"/>
            <a:ext cx="91440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2133720"/>
            <a:ext cx="304812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1752480"/>
            <a:ext cx="3429000" cy="3812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3276720"/>
            <a:ext cx="243828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352680" y="3505320"/>
            <a:ext cx="228600" cy="4572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10080" y="3505320"/>
            <a:ext cx="228600" cy="4572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95280" y="2743200"/>
            <a:ext cx="15264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5715000"/>
            <a:ext cx="9144000" cy="7632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219320" y="2743200"/>
            <a:ext cx="4724280" cy="24084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845820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400800" y="4648320"/>
            <a:ext cx="2438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5257800"/>
            <a:ext cx="2438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00800" y="5867280"/>
            <a:ext cx="2438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00800" y="6553080"/>
            <a:ext cx="2438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090200" y="2458440"/>
            <a:ext cx="955440" cy="2417760"/>
            <a:chOff x="7090200" y="2458440"/>
            <a:chExt cx="955440" cy="2417760"/>
          </a:xfrm>
        </p:grpSpPr>
        <p:sp>
          <p:nvSpPr>
            <p:cNvPr id="256" name=""/>
            <p:cNvSpPr/>
            <p:nvPr/>
          </p:nvSpPr>
          <p:spPr>
            <a:xfrm rot="481800">
              <a:off x="7148520" y="2514240"/>
              <a:ext cx="852120" cy="70092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7090200" y="2769840"/>
              <a:ext cx="838800" cy="2106360"/>
              <a:chOff x="7090200" y="2769840"/>
              <a:chExt cx="838800" cy="210636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7090200" y="2769840"/>
                <a:ext cx="831600" cy="2106360"/>
                <a:chOff x="7090200" y="2769840"/>
                <a:chExt cx="831600" cy="21063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7332480" y="2769840"/>
                  <a:ext cx="397800" cy="3351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432200" y="3153240"/>
                  <a:ext cx="198360" cy="4784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19934400">
                  <a:off x="7086600" y="3259440"/>
                  <a:ext cx="447120" cy="9612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2035200">
                  <a:off x="7531560" y="3247920"/>
                  <a:ext cx="397080" cy="9612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283520" y="3583800"/>
                  <a:ext cx="496800" cy="129240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432200" y="2865960"/>
                  <a:ext cx="49680" cy="46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80880" y="2865960"/>
                  <a:ext cx="49680" cy="46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432200" y="3008880"/>
                  <a:ext cx="148320" cy="47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>
                <a:off x="7151400" y="4128840"/>
                <a:ext cx="258840" cy="13572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669800" y="4128840"/>
                <a:ext cx="259200" cy="13572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"/>
          <p:cNvSpPr/>
          <p:nvPr/>
        </p:nvSpPr>
        <p:spPr>
          <a:xfrm>
            <a:off x="838080" y="2057400"/>
            <a:ext cx="1143000" cy="762120"/>
          </a:xfrm>
          <a:prstGeom prst="bevel">
            <a:avLst>
              <a:gd name="adj" fmla="val 7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2286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нов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6855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3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855"/>
                            </p:stCondLst>
                            <p:childTnLst>
                              <p:par>
                                <p:cTn id="1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3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26920" y="692280"/>
            <a:ext cx="784872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удь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сторожен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404640"/>
            <a:ext cx="8780040" cy="6192720"/>
            <a:chOff x="0" y="404640"/>
            <a:chExt cx="8780040" cy="6192720"/>
          </a:xfrm>
        </p:grpSpPr>
        <p:sp>
          <p:nvSpPr>
            <p:cNvPr id="43" name=""/>
            <p:cNvSpPr/>
            <p:nvPr/>
          </p:nvSpPr>
          <p:spPr>
            <a:xfrm>
              <a:off x="4393080" y="4652640"/>
              <a:ext cx="4386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  <a:ea typeface="Arial"/>
                </a:rPr>
                <a:t>Правила движения 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  <a:ea typeface="Arial"/>
                </a:rPr>
                <a:t>Важная наук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  <a:ea typeface="Arial"/>
                </a:rPr>
                <a:t>Соблюдать их  все долж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  <a:ea typeface="Arial"/>
                </a:rPr>
                <a:t>И бабушки и внуки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1196640"/>
              <a:ext cx="4357800" cy="540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6048360" y="404640"/>
              <a:ext cx="2665440" cy="2395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250920" y="189000"/>
            <a:ext cx="8894160" cy="6452640"/>
            <a:chOff x="250920" y="189000"/>
            <a:chExt cx="8894160" cy="6452640"/>
          </a:xfrm>
        </p:grpSpPr>
        <p:sp>
          <p:nvSpPr>
            <p:cNvPr id="47" name=""/>
            <p:cNvSpPr/>
            <p:nvPr/>
          </p:nvSpPr>
          <p:spPr>
            <a:xfrm>
              <a:off x="4908960" y="5084640"/>
              <a:ext cx="4236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  <a:ea typeface="Arial"/>
                </a:rPr>
                <a:t>Если правила движень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  <a:ea typeface="Arial"/>
                </a:rPr>
                <a:t>Ты не знаешь до сих пор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  <a:ea typeface="Arial"/>
                </a:rPr>
                <a:t>Мы начать с тобой готов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  <a:ea typeface="Arial"/>
                </a:rPr>
                <a:t>Очень нужный разговор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8459640" y="189000"/>
              <a:ext cx="37152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250920" y="404640"/>
              <a:ext cx="4587840" cy="568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5219640" y="1413000"/>
              <a:ext cx="3673440" cy="196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250920" y="189000"/>
            <a:ext cx="8688240" cy="6534000"/>
            <a:chOff x="250920" y="189000"/>
            <a:chExt cx="8688240" cy="653400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324000" y="260280"/>
              <a:ext cx="457200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5651640" y="1844640"/>
              <a:ext cx="3201840" cy="480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250920" y="3573360"/>
              <a:ext cx="4608360" cy="314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7596360" y="189000"/>
              <a:ext cx="1342800" cy="102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4520" y="152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нет светофора, движение на дороге регулирует постовой - милицион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91080" y="914400"/>
            <a:ext cx="2935440" cy="3790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8839080" cy="6858000"/>
          </a:xfrm>
          <a:prstGeom prst="rtTriangle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71280" y="304920"/>
            <a:ext cx="8381880" cy="6553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14800"/>
            <a:ext cx="3276720" cy="274320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153280" y="-53352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433680" y="4724280"/>
            <a:ext cx="41212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214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" dur="3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" dur="3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перебегай дорогу перед движущейся машин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866880"/>
            <a:ext cx="9144000" cy="5991120"/>
            <a:chOff x="0" y="866880"/>
            <a:chExt cx="9144000" cy="599112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0" y="866880"/>
              <a:ext cx="9144000" cy="5991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"/>
            <p:cNvGrpSpPr/>
            <p:nvPr/>
          </p:nvGrpSpPr>
          <p:grpSpPr>
            <a:xfrm>
              <a:off x="3600" y="3972600"/>
              <a:ext cx="1124640" cy="2884680"/>
              <a:chOff x="3600" y="3972600"/>
              <a:chExt cx="1124640" cy="2884680"/>
            </a:xfrm>
          </p:grpSpPr>
          <p:sp>
            <p:nvSpPr>
              <p:cNvPr id="67" name=""/>
              <p:cNvSpPr/>
              <p:nvPr/>
            </p:nvSpPr>
            <p:spPr>
              <a:xfrm rot="481800">
                <a:off x="73080" y="4038120"/>
                <a:ext cx="1001520" cy="836640"/>
              </a:xfrm>
              <a:prstGeom prst="irregularSeal2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3600" y="4343400"/>
                <a:ext cx="986400" cy="2513880"/>
                <a:chOff x="3600" y="4343400"/>
                <a:chExt cx="986400" cy="2513880"/>
              </a:xfrm>
            </p:grpSpPr>
            <p:grpSp>
              <p:nvGrpSpPr>
                <p:cNvPr id="69" name=""/>
                <p:cNvGrpSpPr/>
                <p:nvPr/>
              </p:nvGrpSpPr>
              <p:grpSpPr>
                <a:xfrm>
                  <a:off x="3600" y="4343400"/>
                  <a:ext cx="978480" cy="2513880"/>
                  <a:chOff x="3600" y="4343400"/>
                  <a:chExt cx="978480" cy="251388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288720" y="4343400"/>
                    <a:ext cx="467640" cy="400320"/>
                  </a:xfrm>
                  <a:prstGeom prst="ellipse">
                    <a:avLst/>
                  </a:prstGeom>
                  <a:solidFill>
                    <a:srgbClr val="3333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406080" y="4800960"/>
                    <a:ext cx="232920" cy="570960"/>
                  </a:xfrm>
                  <a:prstGeom prst="rect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 rot="19934400">
                    <a:off x="0" y="4927680"/>
                    <a:ext cx="525240" cy="114840"/>
                  </a:xfrm>
                  <a:prstGeom prst="rect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035200">
                    <a:off x="523080" y="4913640"/>
                    <a:ext cx="466560" cy="114840"/>
                  </a:xfrm>
                  <a:prstGeom prst="rect">
                    <a:avLst/>
                  </a:prstGeom>
                  <a:solidFill>
                    <a:srgbClr val="3333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231480" y="5315040"/>
                    <a:ext cx="583920" cy="1542240"/>
                  </a:xfrm>
                  <a:prstGeom prst="blockArc">
                    <a:avLst>
                      <a:gd name="adj1" fmla="val 10790918"/>
                      <a:gd name="adj2" fmla="val 9082"/>
                      <a:gd name="adj3" fmla="val 20208"/>
                    </a:avLst>
                  </a:prstGeom>
                  <a:solidFill>
                    <a:srgbClr val="000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406080" y="4458240"/>
                    <a:ext cx="58320" cy="554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580680" y="4458240"/>
                    <a:ext cx="58320" cy="554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406080" y="4628520"/>
                    <a:ext cx="174240" cy="57240"/>
                  </a:xfrm>
                  <a:prstGeom prst="ellipse">
                    <a:avLst/>
                  </a:prstGeom>
                  <a:solidFill>
                    <a:srgbClr val="ff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>
                  <a:off x="75960" y="5965560"/>
                  <a:ext cx="304200" cy="162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85440" y="5965560"/>
                  <a:ext cx="304560" cy="162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3657600" y="2819520"/>
              <a:ext cx="1523880" cy="101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4582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03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228600"/>
            <a:ext cx="8534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ходить дорогу надо только по пешеходному пешеходу  - «зебр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1143000"/>
            <a:ext cx="9144000" cy="5714640"/>
            <a:chOff x="0" y="1143000"/>
            <a:chExt cx="9144000" cy="5714640"/>
          </a:xfrm>
        </p:grpSpPr>
        <p:grpSp>
          <p:nvGrpSpPr>
            <p:cNvPr id="84" name=""/>
            <p:cNvGrpSpPr/>
            <p:nvPr/>
          </p:nvGrpSpPr>
          <p:grpSpPr>
            <a:xfrm>
              <a:off x="0" y="1143000"/>
              <a:ext cx="9144000" cy="5714640"/>
              <a:chOff x="0" y="1143000"/>
              <a:chExt cx="9144000" cy="5714640"/>
            </a:xfrm>
          </p:grpSpPr>
          <p:sp>
            <p:nvSpPr>
              <p:cNvPr id="85" name=""/>
              <p:cNvSpPr/>
              <p:nvPr/>
            </p:nvSpPr>
            <p:spPr>
              <a:xfrm>
                <a:off x="0" y="1143000"/>
                <a:ext cx="9144000" cy="5714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5800" y="1143000"/>
                <a:ext cx="762120" cy="571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362320" y="1143000"/>
                <a:ext cx="761760" cy="571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14800" y="1143000"/>
                <a:ext cx="762120" cy="571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867280" y="1143000"/>
                <a:ext cx="762120" cy="571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20120" y="1143000"/>
                <a:ext cx="761760" cy="571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546120" y="1711080"/>
              <a:ext cx="1972800" cy="4459320"/>
              <a:chOff x="546120" y="1711080"/>
              <a:chExt cx="1972800" cy="4459320"/>
            </a:xfrm>
          </p:grpSpPr>
          <p:sp>
            <p:nvSpPr>
              <p:cNvPr id="92" name=""/>
              <p:cNvSpPr/>
              <p:nvPr/>
            </p:nvSpPr>
            <p:spPr>
              <a:xfrm rot="481800">
                <a:off x="662400" y="1828440"/>
                <a:ext cx="1774800" cy="1288440"/>
              </a:xfrm>
              <a:prstGeom prst="irregularSeal2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546120" y="2298240"/>
                <a:ext cx="1742040" cy="3872160"/>
                <a:chOff x="546120" y="2298240"/>
                <a:chExt cx="1742040" cy="3872160"/>
              </a:xfrm>
            </p:grpSpPr>
            <p:grpSp>
              <p:nvGrpSpPr>
                <p:cNvPr id="94" name=""/>
                <p:cNvGrpSpPr/>
                <p:nvPr/>
              </p:nvGrpSpPr>
              <p:grpSpPr>
                <a:xfrm>
                  <a:off x="546120" y="2298240"/>
                  <a:ext cx="1720080" cy="3872160"/>
                  <a:chOff x="546120" y="2298240"/>
                  <a:chExt cx="1720080" cy="387216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1045080" y="2298240"/>
                    <a:ext cx="828720" cy="616680"/>
                  </a:xfrm>
                  <a:prstGeom prst="ellipse">
                    <a:avLst/>
                  </a:prstGeom>
                  <a:solidFill>
                    <a:srgbClr val="3333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253160" y="3003480"/>
                    <a:ext cx="412920" cy="879840"/>
                  </a:xfrm>
                  <a:prstGeom prst="rect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19934400">
                    <a:off x="533520" y="3198240"/>
                    <a:ext cx="930600" cy="176760"/>
                  </a:xfrm>
                  <a:prstGeom prst="rect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rot="2035200">
                    <a:off x="1460520" y="3177000"/>
                    <a:ext cx="826560" cy="176760"/>
                  </a:xfrm>
                  <a:prstGeom prst="rect">
                    <a:avLst/>
                  </a:prstGeom>
                  <a:solidFill>
                    <a:srgbClr val="3333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943920" y="3794760"/>
                    <a:ext cx="1034640" cy="2375640"/>
                  </a:xfrm>
                  <a:prstGeom prst="blockArc">
                    <a:avLst>
                      <a:gd name="adj1" fmla="val 10790918"/>
                      <a:gd name="adj2" fmla="val 9082"/>
                      <a:gd name="adj3" fmla="val 20208"/>
                    </a:avLst>
                  </a:prstGeom>
                  <a:solidFill>
                    <a:srgbClr val="000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1253160" y="2475000"/>
                    <a:ext cx="103680" cy="853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1562400" y="2475000"/>
                    <a:ext cx="103680" cy="853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1253160" y="2737800"/>
                    <a:ext cx="308880" cy="88200"/>
                  </a:xfrm>
                  <a:prstGeom prst="ellipse">
                    <a:avLst/>
                  </a:prstGeom>
                  <a:solidFill>
                    <a:srgbClr val="ff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" name=""/>
                <p:cNvSpPr/>
                <p:nvPr/>
              </p:nvSpPr>
              <p:spPr>
                <a:xfrm>
                  <a:off x="668520" y="4797000"/>
                  <a:ext cx="539280" cy="2494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748160" y="4797000"/>
                  <a:ext cx="540000" cy="2494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5478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30492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светофор – он регулирует движение транспорта и пешеходов на доро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962520" y="1371600"/>
            <a:ext cx="1371600" cy="5181480"/>
            <a:chOff x="3962520" y="1371600"/>
            <a:chExt cx="1371600" cy="5181480"/>
          </a:xfrm>
        </p:grpSpPr>
        <p:grpSp>
          <p:nvGrpSpPr>
            <p:cNvPr id="108" name=""/>
            <p:cNvGrpSpPr/>
            <p:nvPr/>
          </p:nvGrpSpPr>
          <p:grpSpPr>
            <a:xfrm>
              <a:off x="3962520" y="1371600"/>
              <a:ext cx="1371600" cy="3352680"/>
              <a:chOff x="3962520" y="1371600"/>
              <a:chExt cx="1371600" cy="3352680"/>
            </a:xfrm>
          </p:grpSpPr>
          <p:sp>
            <p:nvSpPr>
              <p:cNvPr id="109" name=""/>
              <p:cNvSpPr/>
              <p:nvPr/>
            </p:nvSpPr>
            <p:spPr>
              <a:xfrm>
                <a:off x="3962520" y="1371600"/>
                <a:ext cx="1371600" cy="33526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60600" y="1603800"/>
                <a:ext cx="774720" cy="7052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60600" y="2544840"/>
                <a:ext cx="774720" cy="705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260600" y="3544200"/>
                <a:ext cx="774720" cy="70524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 flipH="1">
              <a:off x="4114800" y="6553080"/>
              <a:ext cx="99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4724280"/>
              <a:ext cx="457200" cy="1828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05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152280"/>
            <a:ext cx="8534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гда горит красный сигнал светофора, надо останов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886200" y="1752480"/>
            <a:ext cx="1066680" cy="4419720"/>
            <a:chOff x="3886200" y="1752480"/>
            <a:chExt cx="1066680" cy="4419720"/>
          </a:xfrm>
        </p:grpSpPr>
        <p:sp>
          <p:nvSpPr>
            <p:cNvPr id="118" name=""/>
            <p:cNvSpPr/>
            <p:nvPr/>
          </p:nvSpPr>
          <p:spPr>
            <a:xfrm>
              <a:off x="3886200" y="1752480"/>
              <a:ext cx="1066680" cy="2859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8040" y="1951200"/>
              <a:ext cx="603360" cy="601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3657600"/>
              <a:ext cx="603360" cy="601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005360" y="6172200"/>
              <a:ext cx="76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41880" y="4611600"/>
              <a:ext cx="355680" cy="1560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14800" y="2819520"/>
              <a:ext cx="603360" cy="601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9107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5049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8:36:51Z</dcterms:created>
  <dc:creator>m3</dc:creator>
  <dc:description/>
  <dc:language>en-US</dc:language>
  <cp:lastModifiedBy>user</cp:lastModifiedBy>
  <dcterms:modified xsi:type="dcterms:W3CDTF">2010-08-28T21:31:26Z</dcterms:modified>
  <cp:revision>11</cp:revision>
  <dc:subject/>
  <dc:title>Слайд 1</dc:title>
</cp:coreProperties>
</file>