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7.jpeg" ContentType="image/jpeg"/>
  <Override PartName="/ppt/media/image6.png" ContentType="image/png"/>
  <Override PartName="/ppt/media/image12.jpeg" ContentType="image/jpeg"/>
  <Override PartName="/ppt/media/image11.jpeg" ContentType="image/jpeg"/>
  <Override PartName="/ppt/media/image1.jpeg" ContentType="image/jpeg"/>
  <Override PartName="/ppt/media/UNI5.wav" ContentType="audio/x-wav"/>
  <Override PartName="/ppt/media/image5.wmf" ContentType="image/x-wmf"/>
  <Override PartName="/ppt/media/image10.png" ContentType="image/png"/>
  <Override PartName="/ppt/media/image2.png" ContentType="image/png"/>
  <Override PartName="/ppt/media/UNI1.wav" ContentType="audio/x-wav"/>
  <Override PartName="/ppt/media/image3.png" ContentType="image/png"/>
  <Override PartName="/ppt/media/UNI2.wav" ContentType="audio/x-wav"/>
  <Override PartName="/ppt/media/image4.png" ContentType="image/png"/>
  <Override PartName="/ppt/media/UNI3.wav" ContentType="audio/x-wav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9745-7BD0-4203-835F-4579B04030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2C73-FC32-4B89-B251-9865F6C719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F1F-5D41-4C74-BF0F-C0C680A4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F21B-6C0A-48F6-A67C-D5B85840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9CA-AF44-43B8-A51C-6D1BB508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A6F-C2A0-4581-BBCC-9BB76B53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83D6-48C9-4318-B6D7-98A09C27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90DB-C965-4266-AD3E-8C753142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5CD4-19C0-49B2-B9DF-A62DB089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BE65-D585-49C9-9254-77274D65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5FC4-CC76-4E91-9D18-460112E4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0F25-0C23-41DF-BD1E-1A12A881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4A86-F23A-4C72-9440-61FF4FBE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00E-4B17-4399-92FF-B5E3E3EB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0C84-A3FA-4A65-AD70-C90B7FE1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669C-46FA-41AA-8D6A-2E7493CD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13D9-C607-4763-A13A-9792957D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A07E-5AFB-40DF-83BF-ED16FB55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96CC-6189-43BA-81DD-5112D760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09F-917F-4EAF-A910-5FEC1C15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D3A-F793-4456-A140-5DF9122F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0D3-B59C-4587-A4A8-BA964C28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8628-31EB-470D-A2EC-E7344974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C824-C860-48A3-AFC9-CFDFFA81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F7A-35BA-4E86-8AF0-D9CDCC69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D94-B3A9-4E6F-AB07-DD567871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6B8A-AEC3-48A0-9847-4A6FFDB09FE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E267-044B-48E4-8CA8-E2C1CB69D4F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hyperlink" Target="file:///tmp/home/.config/libreoffice/4/user/gallery/UNI5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UNI1.wav"/><Relationship Id="rId2" Type="http://schemas.openxmlformats.org/officeDocument/2006/relationships/audio" Target="../media/UNI2.wav"/><Relationship Id="rId3" Type="http://schemas.openxmlformats.org/officeDocument/2006/relationships/audio" Target="../media/UNI3.wav"/><Relationship Id="rId4" Type="http://schemas.openxmlformats.org/officeDocument/2006/relationships/audio" Target="../media/UNI5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13920" y="3071880"/>
            <a:ext cx="662004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смотрите, всё ль в порядк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нижка, ручка и тетрадка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звенел сейчас зво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чинается ур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https://yt3.ggpht.com/-vGKse7u4HYw/AAAAAAAAAAI/AAAAAAAAAAA/PUp7alfGH5o/s900-c-k-no-mo-rj-c0xffffff/photo.jpg"/>
          <p:cNvPicPr/>
          <p:nvPr/>
        </p:nvPicPr>
        <p:blipFill>
          <a:blip r:embed="rId1"/>
          <a:stretch/>
        </p:blipFill>
        <p:spPr>
          <a:xfrm>
            <a:off x="0" y="0"/>
            <a:ext cx="300024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рямой и развернутый уг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98D9-620B-47CA-9D15-274420E9B9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2"/>
          <p:cNvSpPr/>
          <p:nvPr/>
        </p:nvSpPr>
        <p:spPr>
          <a:xfrm rot="21157800">
            <a:off x="-468360" y="-531720"/>
            <a:ext cx="9737640" cy="6130800"/>
          </a:xfrm>
          <a:prstGeom prst="rect">
            <a:avLst/>
          </a:prstGeom>
          <a:solidFill>
            <a:srgbClr val="0099cc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"/>
          <p:cNvSpPr/>
          <p:nvPr/>
        </p:nvSpPr>
        <p:spPr>
          <a:xfrm>
            <a:off x="0" y="0"/>
            <a:ext cx="4630680" cy="6211800"/>
          </a:xfrm>
          <a:custGeom>
            <a:avLst/>
            <a:gdLst>
              <a:gd name="textAreaLeft" fmla="*/ 0 w 4630680"/>
              <a:gd name="textAreaRight" fmla="*/ 4631040 w 4630680"/>
              <a:gd name="textAreaTop" fmla="*/ 0 h 6211800"/>
              <a:gd name="textAreaBottom" fmla="*/ 6212160 h 6211800"/>
            </a:gdLst>
            <a:ahLst/>
            <a:rect l="textAreaLeft" t="textAreaTop" r="textAreaRight" b="textAreaBottom"/>
            <a:pathLst>
              <a:path w="2917" h="3913">
                <a:moveTo>
                  <a:pt x="2917" y="3520"/>
                </a:moveTo>
                <a:lnTo>
                  <a:pt x="2496" y="0"/>
                </a:lnTo>
                <a:lnTo>
                  <a:pt x="0" y="18"/>
                </a:lnTo>
                <a:lnTo>
                  <a:pt x="9" y="3913"/>
                </a:lnTo>
                <a:lnTo>
                  <a:pt x="2917" y="3520"/>
                </a:lnTo>
                <a:close/>
              </a:path>
            </a:pathLst>
          </a:custGeom>
          <a:solidFill>
            <a:srgbClr val="00ffff">
              <a:alpha val="2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3962520" y="0"/>
            <a:ext cx="5181480" cy="5559480"/>
          </a:xfrm>
          <a:custGeom>
            <a:avLst/>
            <a:gdLst>
              <a:gd name="textAreaLeft" fmla="*/ 0 w 5181480"/>
              <a:gd name="textAreaRight" fmla="*/ 5181840 w 5181480"/>
              <a:gd name="textAreaTop" fmla="*/ 0 h 5559480"/>
              <a:gd name="textAreaBottom" fmla="*/ 5559840 h 5559480"/>
            </a:gdLst>
            <a:ahLst/>
            <a:rect l="textAreaLeft" t="textAreaTop" r="textAreaRight" b="textAreaBottom"/>
            <a:pathLst>
              <a:path w="3264" h="3502">
                <a:moveTo>
                  <a:pt x="430" y="3502"/>
                </a:moveTo>
                <a:lnTo>
                  <a:pt x="3264" y="3118"/>
                </a:lnTo>
                <a:lnTo>
                  <a:pt x="3264" y="0"/>
                </a:lnTo>
                <a:lnTo>
                  <a:pt x="0" y="0"/>
                </a:lnTo>
                <a:lnTo>
                  <a:pt x="430" y="3502"/>
                </a:lnTo>
                <a:close/>
              </a:path>
            </a:pathLst>
          </a:custGeom>
          <a:solidFill>
            <a:srgbClr val="3399ff">
              <a:alpha val="3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 flipH="1">
            <a:off x="15480" y="5589720"/>
            <a:ext cx="4583160" cy="61596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 flipV="1">
            <a:off x="4654440" y="4979880"/>
            <a:ext cx="4503960" cy="609840"/>
          </a:xfrm>
          <a:prstGeom prst="line">
            <a:avLst/>
          </a:prstGeom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8"/>
          <p:cNvSpPr/>
          <p:nvPr/>
        </p:nvSpPr>
        <p:spPr>
          <a:xfrm>
            <a:off x="4592520" y="5526000"/>
            <a:ext cx="88920" cy="103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4282920" y="56610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8533080" y="50846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399600" y="6165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2"/>
          <p:cNvGrpSpPr/>
          <p:nvPr/>
        </p:nvGrpSpPr>
        <p:grpSpPr>
          <a:xfrm>
            <a:off x="5293800" y="5589720"/>
            <a:ext cx="3843720" cy="520560"/>
            <a:chOff x="5293800" y="5589720"/>
            <a:chExt cx="3843720" cy="520560"/>
          </a:xfrm>
        </p:grpSpPr>
        <p:sp>
          <p:nvSpPr>
            <p:cNvPr id="188" name="Text Box 13"/>
            <p:cNvSpPr/>
            <p:nvPr/>
          </p:nvSpPr>
          <p:spPr>
            <a:xfrm>
              <a:off x="5311440" y="5589720"/>
              <a:ext cx="382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АОВ  - развернут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4"/>
            <p:cNvGrpSpPr/>
            <p:nvPr/>
          </p:nvGrpSpPr>
          <p:grpSpPr>
            <a:xfrm>
              <a:off x="5293800" y="5805720"/>
              <a:ext cx="138240" cy="217440"/>
              <a:chOff x="5293800" y="5805720"/>
              <a:chExt cx="138240" cy="217440"/>
            </a:xfrm>
          </p:grpSpPr>
          <p:sp>
            <p:nvSpPr>
              <p:cNvPr id="190" name="Line 15"/>
              <p:cNvSpPr/>
              <p:nvPr/>
            </p:nvSpPr>
            <p:spPr>
              <a:xfrm flipH="1">
                <a:off x="5293800" y="5805720"/>
                <a:ext cx="58680" cy="21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6"/>
              <p:cNvSpPr/>
              <p:nvPr/>
            </p:nvSpPr>
            <p:spPr>
              <a:xfrm>
                <a:off x="5300280" y="6015240"/>
                <a:ext cx="13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Group 17"/>
          <p:cNvGrpSpPr/>
          <p:nvPr/>
        </p:nvGrpSpPr>
        <p:grpSpPr>
          <a:xfrm>
            <a:off x="5940360" y="3213000"/>
            <a:ext cx="2520720" cy="459720"/>
            <a:chOff x="5940360" y="3213000"/>
            <a:chExt cx="2520720" cy="459720"/>
          </a:xfrm>
        </p:grpSpPr>
        <p:sp>
          <p:nvSpPr>
            <p:cNvPr id="193" name="Text Box 18"/>
            <p:cNvSpPr/>
            <p:nvPr/>
          </p:nvSpPr>
          <p:spPr>
            <a:xfrm>
              <a:off x="5940360" y="3213000"/>
              <a:ext cx="25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АО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  - прям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19"/>
            <p:cNvGrpSpPr/>
            <p:nvPr/>
          </p:nvGrpSpPr>
          <p:grpSpPr>
            <a:xfrm>
              <a:off x="5951160" y="3314520"/>
              <a:ext cx="199080" cy="217440"/>
              <a:chOff x="5951160" y="3314520"/>
              <a:chExt cx="199080" cy="217440"/>
            </a:xfrm>
          </p:grpSpPr>
          <p:sp>
            <p:nvSpPr>
              <p:cNvPr id="195" name="Line 20"/>
              <p:cNvSpPr/>
              <p:nvPr/>
            </p:nvSpPr>
            <p:spPr>
              <a:xfrm flipH="1">
                <a:off x="5951160" y="3314520"/>
                <a:ext cx="84600" cy="21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21"/>
              <p:cNvSpPr/>
              <p:nvPr/>
            </p:nvSpPr>
            <p:spPr>
              <a:xfrm>
                <a:off x="5960160" y="3524040"/>
                <a:ext cx="19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Text Box 22"/>
          <p:cNvSpPr/>
          <p:nvPr/>
        </p:nvSpPr>
        <p:spPr>
          <a:xfrm>
            <a:off x="360" y="2427120"/>
            <a:ext cx="4015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ямой угол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л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вину развернут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 flipH="1" flipV="1">
            <a:off x="3949560" y="-360"/>
            <a:ext cx="681120" cy="557388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4"/>
          <p:cNvGrpSpPr/>
          <p:nvPr/>
        </p:nvGrpSpPr>
        <p:grpSpPr>
          <a:xfrm>
            <a:off x="395280" y="4221000"/>
            <a:ext cx="2520720" cy="459720"/>
            <a:chOff x="395280" y="4221000"/>
            <a:chExt cx="2520720" cy="459720"/>
          </a:xfrm>
        </p:grpSpPr>
        <p:sp>
          <p:nvSpPr>
            <p:cNvPr id="200" name="Text Box 25"/>
            <p:cNvSpPr/>
            <p:nvPr/>
          </p:nvSpPr>
          <p:spPr>
            <a:xfrm>
              <a:off x="395280" y="4221000"/>
              <a:ext cx="25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О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 - прям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26"/>
            <p:cNvGrpSpPr/>
            <p:nvPr/>
          </p:nvGrpSpPr>
          <p:grpSpPr>
            <a:xfrm>
              <a:off x="406080" y="4322520"/>
              <a:ext cx="199080" cy="217440"/>
              <a:chOff x="406080" y="4322520"/>
              <a:chExt cx="199080" cy="217440"/>
            </a:xfrm>
          </p:grpSpPr>
          <p:sp>
            <p:nvSpPr>
              <p:cNvPr id="202" name="Line 27"/>
              <p:cNvSpPr/>
              <p:nvPr/>
            </p:nvSpPr>
            <p:spPr>
              <a:xfrm flipH="1">
                <a:off x="406080" y="4322520"/>
                <a:ext cx="84600" cy="21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28"/>
              <p:cNvSpPr/>
              <p:nvPr/>
            </p:nvSpPr>
            <p:spPr>
              <a:xfrm>
                <a:off x="415080" y="4532040"/>
                <a:ext cx="19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Text Box 29"/>
          <p:cNvSpPr/>
          <p:nvPr/>
        </p:nvSpPr>
        <p:spPr>
          <a:xfrm>
            <a:off x="3641760" y="10508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4427640" y="1557360"/>
            <a:ext cx="45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Развернутый уго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равен двум прямым уг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3"/>
          <p:cNvSpPr/>
          <p:nvPr/>
        </p:nvSpPr>
        <p:spPr>
          <a:xfrm rot="4878600">
            <a:off x="3306600" y="2751120"/>
            <a:ext cx="1812960" cy="3889440"/>
          </a:xfrm>
          <a:custGeom>
            <a:avLst/>
            <a:gdLst>
              <a:gd name="textAreaLeft" fmla="*/ 242640 w 1812960"/>
              <a:gd name="textAreaRight" fmla="*/ 1570320 w 1812960"/>
              <a:gd name="textAreaTop" fmla="*/ 721080 h 3889440"/>
              <a:gd name="textAreaBottom" fmla="*/ 2779200 h 388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12" stAng="-5400000" swAng="-5400000"/>
                <a:lnTo>
                  <a:pt x="0" y="11428"/>
                </a:lnTo>
                <a:arcTo wR="21600" hR="8012" stAng="10800000" swAng="-2782419"/>
                <a:lnTo>
                  <a:pt x="14400" y="21142"/>
                </a:lnTo>
                <a:lnTo>
                  <a:pt x="21600" y="17732"/>
                </a:lnTo>
                <a:lnTo>
                  <a:pt x="14400" y="13406"/>
                </a:lnTo>
                <a:lnTo>
                  <a:pt x="14400" y="15566"/>
                </a:lnTo>
                <a:arcTo wR="21600" hR="8012" stAng="8017581" swAng="2504792"/>
                <a:lnTo>
                  <a:pt x="497" y="9720"/>
                </a:lnTo>
                <a:arcTo wR="21600" hR="8012" stAng="-10522373" swAng="5122373"/>
                <a:close/>
              </a:path>
              <a:path fill="darkenLess" w="21600" h="21600">
                <a:moveTo>
                  <a:pt x="21600" y="0"/>
                </a:moveTo>
                <a:arcTo wR="21600" hR="8012" stAng="-5400000" swAng="-5400000"/>
                <a:lnTo>
                  <a:pt x="0" y="8012"/>
                </a:lnTo>
                <a:arcTo wR="21600" hR="8012" stAng="10800000" swAng="-277627"/>
                <a:lnTo>
                  <a:pt x="497" y="9720"/>
                </a:lnTo>
                <a:arcTo wR="21600" hR="8012" stAng="-10522373" swAng="5122373"/>
                <a:close/>
              </a:path>
            </a:pathLst>
          </a:custGeom>
          <a:solidFill>
            <a:srgbClr val="003399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у1"/>
          <p:cNvPicPr/>
          <p:nvPr/>
        </p:nvPicPr>
        <p:blipFill>
          <a:blip r:embed="rId2"/>
          <a:stretch/>
        </p:blipFill>
        <p:spPr>
          <a:xfrm>
            <a:off x="250920" y="2133720"/>
            <a:ext cx="8642160" cy="190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826920" y="414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484360" y="4149720"/>
            <a:ext cx="6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284720" y="4076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012000" y="40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7885080" y="400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611280" y="26028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а каких рисунках изображены прямой и развёрнутый угл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7E1C-FB51-446B-B1AC-4F6C3867591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1656000" y="449280"/>
            <a:ext cx="5600160" cy="33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바탕"/>
              </a:rPr>
              <a:t>Практическа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바탕"/>
              </a:rPr>
              <a:t>работ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바탕"/>
              </a:rPr>
              <a:t>по теме «Угол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4" descr="https://fs00.infourok.ru/images/doc/121/142265/hello_html_m1b29d390.png"/>
          <p:cNvPicPr/>
          <p:nvPr/>
        </p:nvPicPr>
        <p:blipFill>
          <a:blip r:embed="rId1"/>
          <a:stretch/>
        </p:blipFill>
        <p:spPr>
          <a:xfrm>
            <a:off x="7920" y="4071960"/>
            <a:ext cx="91360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B027-0E63-4B9D-A181-87571531EF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179280" y="5300640"/>
            <a:ext cx="878544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ямые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стрые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уп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"/>
          <p:cNvSpPr/>
          <p:nvPr/>
        </p:nvSpPr>
        <p:spPr>
          <a:xfrm>
            <a:off x="755640" y="1413000"/>
            <a:ext cx="1584360" cy="16556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1641" h="1776">
                <a:moveTo>
                  <a:pt x="480" y="1776"/>
                </a:moveTo>
                <a:lnTo>
                  <a:pt x="0" y="561"/>
                </a:lnTo>
                <a:lnTo>
                  <a:pt x="1641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4"/>
          <p:cNvSpPr/>
          <p:nvPr/>
        </p:nvSpPr>
        <p:spPr>
          <a:xfrm>
            <a:off x="2771640" y="1484280"/>
            <a:ext cx="2232000" cy="1224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224000"/>
              <a:gd name="textAreaBottom" fmla="*/ 1224000 h 1224000"/>
            </a:gdLst>
            <a:ahLst/>
            <a:rect l="textAreaLeft" t="textAreaTop" r="textAreaRight" b="textAreaBottom"/>
            <a:pathLst>
              <a:path w="3345" h="1470">
                <a:moveTo>
                  <a:pt x="0" y="675"/>
                </a:moveTo>
                <a:lnTo>
                  <a:pt x="3345" y="0"/>
                </a:lnTo>
                <a:lnTo>
                  <a:pt x="2025" y="14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5"/>
          <p:cNvSpPr/>
          <p:nvPr/>
        </p:nvSpPr>
        <p:spPr>
          <a:xfrm>
            <a:off x="6012000" y="1268280"/>
            <a:ext cx="2520720" cy="115272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3639" h="1524">
                <a:moveTo>
                  <a:pt x="0" y="624"/>
                </a:moveTo>
                <a:lnTo>
                  <a:pt x="1800" y="1524"/>
                </a:lnTo>
                <a:lnTo>
                  <a:pt x="3639" y="0"/>
                </a:ln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"/>
          <p:cNvSpPr/>
          <p:nvPr/>
        </p:nvSpPr>
        <p:spPr>
          <a:xfrm>
            <a:off x="900000" y="3213000"/>
            <a:ext cx="1648080" cy="1490760"/>
          </a:xfrm>
          <a:custGeom>
            <a:avLst/>
            <a:gdLst>
              <a:gd name="textAreaLeft" fmla="*/ 0 w 1648080"/>
              <a:gd name="textAreaRight" fmla="*/ 1648440 w 1648080"/>
              <a:gd name="textAreaTop" fmla="*/ 0 h 1490760"/>
              <a:gd name="textAreaBottom" fmla="*/ 1491120 h 1490760"/>
            </a:gdLst>
            <a:ahLst/>
            <a:rect l="textAreaLeft" t="textAreaTop" r="textAreaRight" b="textAreaBottom"/>
            <a:pathLst>
              <a:path w="2370" h="2121">
                <a:moveTo>
                  <a:pt x="2370" y="2121"/>
                </a:moveTo>
                <a:lnTo>
                  <a:pt x="0" y="1056"/>
                </a:lnTo>
                <a:lnTo>
                  <a:pt x="1641" y="0"/>
                </a:lnTo>
              </a:path>
            </a:pathLst>
          </a:custGeom>
          <a:noFill/>
          <a:ln w="381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 rot="9297000">
            <a:off x="3348000" y="3213000"/>
            <a:ext cx="2519280" cy="115272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3639" h="1524">
                <a:moveTo>
                  <a:pt x="0" y="624"/>
                </a:moveTo>
                <a:lnTo>
                  <a:pt x="1800" y="1524"/>
                </a:lnTo>
                <a:lnTo>
                  <a:pt x="3639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8"/>
          <p:cNvSpPr/>
          <p:nvPr/>
        </p:nvSpPr>
        <p:spPr>
          <a:xfrm rot="3826800">
            <a:off x="6310800" y="3418560"/>
            <a:ext cx="1679400" cy="1700280"/>
          </a:xfrm>
          <a:custGeom>
            <a:avLst/>
            <a:gdLst>
              <a:gd name="textAreaLeft" fmla="*/ 0 w 1679400"/>
              <a:gd name="textAreaRight" fmla="*/ 1679760 w 1679400"/>
              <a:gd name="textAreaTop" fmla="*/ 0 h 1700280"/>
              <a:gd name="textAreaBottom" fmla="*/ 1700640 h 1700280"/>
            </a:gdLst>
            <a:ahLst/>
            <a:rect l="textAreaLeft" t="textAreaTop" r="textAreaRight" b="textAreaBottom"/>
            <a:pathLst>
              <a:path w="1464" h="1809">
                <a:moveTo>
                  <a:pt x="0" y="1809"/>
                </a:moveTo>
                <a:lnTo>
                  <a:pt x="324" y="0"/>
                </a:lnTo>
                <a:lnTo>
                  <a:pt x="1464" y="210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0" y="297720"/>
            <a:ext cx="9144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Найдите на рисунке острые, тупые и прямые уг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ть ли среди данных углов равны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326160" y="17002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5800" y="112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7380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397440" y="378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3708360" y="299736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7814160" y="31417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16"/>
              <p:cNvSpPr txBox="1"/>
              <p:nvPr/>
            </p:nvSpPr>
            <p:spPr>
              <a:xfrm>
                <a:off x="1835280" y="5516640"/>
                <a:ext cx="6490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7"/>
              <p:cNvSpPr txBox="1"/>
              <p:nvPr/>
            </p:nvSpPr>
            <p:spPr>
              <a:xfrm>
                <a:off x="2411280" y="5516640"/>
                <a:ext cx="648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8"/>
              <p:cNvSpPr txBox="1"/>
              <p:nvPr/>
            </p:nvSpPr>
            <p:spPr>
              <a:xfrm>
                <a:off x="4859280" y="5516640"/>
                <a:ext cx="647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9"/>
              <p:cNvSpPr txBox="1"/>
              <p:nvPr/>
            </p:nvSpPr>
            <p:spPr>
              <a:xfrm>
                <a:off x="5580000" y="5516640"/>
                <a:ext cx="576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0"/>
              <p:cNvSpPr txBox="1"/>
              <p:nvPr/>
            </p:nvSpPr>
            <p:spPr>
              <a:xfrm>
                <a:off x="7667640" y="5589720"/>
                <a:ext cx="649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1"/>
              <p:cNvSpPr txBox="1"/>
              <p:nvPr/>
            </p:nvSpPr>
            <p:spPr>
              <a:xfrm>
                <a:off x="8244000" y="5589720"/>
                <a:ext cx="6476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Freeform 24"/>
          <p:cNvSpPr/>
          <p:nvPr/>
        </p:nvSpPr>
        <p:spPr>
          <a:xfrm rot="9297600">
            <a:off x="3347640" y="3213000"/>
            <a:ext cx="2521080" cy="115272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3639" h="1524">
                <a:moveTo>
                  <a:pt x="0" y="624"/>
                </a:moveTo>
                <a:lnTo>
                  <a:pt x="1800" y="1524"/>
                </a:lnTo>
                <a:lnTo>
                  <a:pt x="3639" y="0"/>
                </a:ln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4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4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4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4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50D2-6AE2-4AE4-99EC-2F39053E931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0" y="935280"/>
            <a:ext cx="9144000" cy="56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берите те утверждения, в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 вер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ол – это геометрическая фиг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ол состоит из двух пересекающихся пря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ол состоит из двух лучей, выходящих из одной 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вные углы – это те, у которых равны стор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вает угол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вают углы острые и туп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ол может быть тон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упой угол – это угол, который нарисован плохо заточенным  карандаш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трый угол – это угол, который меньше пря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ёрнутый угол равен двум прям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931400" y="142920"/>
            <a:ext cx="44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«Верю – не верю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476080" y="269352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667200" y="269352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4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D0B3-A728-4E43-9C12-9BE98C3BCF5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79280" y="765000"/>
            <a:ext cx="612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Угол – геометрическая фиг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Прямой угол равен половине развёрнут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Острый угол больше пря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Стороной угла является лу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Тупой угол больше пря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Развернутый угол равен двум прямым угл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Тупой угол – это угол, который больше прямого уг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WordArt 5"/>
          <p:cNvSpPr txBox="1"/>
          <p:nvPr/>
        </p:nvSpPr>
        <p:spPr>
          <a:xfrm>
            <a:off x="1928880" y="142920"/>
            <a:ext cx="453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лаем выводы.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7" name="Text Box 37"/>
          <p:cNvSpPr/>
          <p:nvPr/>
        </p:nvSpPr>
        <p:spPr>
          <a:xfrm>
            <a:off x="6431760" y="247032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0"/>
          <p:cNvSpPr/>
          <p:nvPr/>
        </p:nvSpPr>
        <p:spPr>
          <a:xfrm>
            <a:off x="6793920" y="86508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2"/>
          <p:cNvSpPr/>
          <p:nvPr/>
        </p:nvSpPr>
        <p:spPr>
          <a:xfrm>
            <a:off x="6936480" y="283068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4"/>
          <p:cNvSpPr/>
          <p:nvPr/>
        </p:nvSpPr>
        <p:spPr>
          <a:xfrm>
            <a:off x="7946640" y="381636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6"/>
          <p:cNvSpPr/>
          <p:nvPr/>
        </p:nvSpPr>
        <p:spPr>
          <a:xfrm>
            <a:off x="7093080" y="4941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7"/>
          <p:cNvSpPr/>
          <p:nvPr/>
        </p:nvSpPr>
        <p:spPr>
          <a:xfrm>
            <a:off x="6782400" y="201600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9"/>
          <p:cNvSpPr/>
          <p:nvPr/>
        </p:nvSpPr>
        <p:spPr>
          <a:xfrm>
            <a:off x="7524720" y="1557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7"/>
          <p:cNvSpPr/>
          <p:nvPr/>
        </p:nvSpPr>
        <p:spPr>
          <a:xfrm>
            <a:off x="7308720" y="1413000"/>
            <a:ext cx="1152720" cy="91440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9"/>
          <p:cNvSpPr/>
          <p:nvPr/>
        </p:nvSpPr>
        <p:spPr>
          <a:xfrm>
            <a:off x="6659640" y="1844640"/>
            <a:ext cx="1008000" cy="987480"/>
          </a:xfrm>
          <a:prstGeom prst="irregularSeal1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8"/>
          <p:cNvSpPr/>
          <p:nvPr/>
        </p:nvSpPr>
        <p:spPr>
          <a:xfrm>
            <a:off x="6084720" y="2276640"/>
            <a:ext cx="987480" cy="985680"/>
          </a:xfrm>
          <a:prstGeom prst="irregularSeal1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1">
            <a:hlinkClick r:id="rId3"/>
          </p:cNvPr>
          <p:cNvSpPr/>
          <p:nvPr/>
        </p:nvSpPr>
        <p:spPr>
          <a:xfrm>
            <a:off x="6588000" y="692280"/>
            <a:ext cx="986040" cy="985680"/>
          </a:xfrm>
          <a:prstGeom prst="irregularSeal1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34"/>
          <p:cNvSpPr/>
          <p:nvPr/>
        </p:nvSpPr>
        <p:spPr>
          <a:xfrm>
            <a:off x="6804000" y="2852640"/>
            <a:ext cx="1079640" cy="914400"/>
          </a:xfrm>
          <a:prstGeom prst="irregularSeal1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32"/>
          <p:cNvSpPr/>
          <p:nvPr/>
        </p:nvSpPr>
        <p:spPr>
          <a:xfrm>
            <a:off x="7740720" y="3573360"/>
            <a:ext cx="1130400" cy="914400"/>
          </a:xfrm>
          <a:prstGeom prst="irregularSeal1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3"/>
          <p:cNvSpPr/>
          <p:nvPr/>
        </p:nvSpPr>
        <p:spPr>
          <a:xfrm>
            <a:off x="7000920" y="4714920"/>
            <a:ext cx="914400" cy="105732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4" dur="2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2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2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2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2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8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4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0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. 80-81(прочитать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65,268,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 учебни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15(г) по задачни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 желанию: подумать и рассказать, как сделать модель прямого угла из листа белой бумаги ( без клеточек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5643720"/>
            <a:ext cx="403848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EFAD-4F2C-4751-BCC7-304664399CE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B6B9-3F4E-40B4-9FEB-9A900D87995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16"/>
          <p:cNvSpPr/>
          <p:nvPr/>
        </p:nvSpPr>
        <p:spPr>
          <a:xfrm flipV="1">
            <a:off x="642960" y="4142880"/>
            <a:ext cx="0" cy="200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18"/>
          <p:cNvSpPr/>
          <p:nvPr/>
        </p:nvSpPr>
        <p:spPr>
          <a:xfrm>
            <a:off x="642960" y="414324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20"/>
          <p:cNvSpPr/>
          <p:nvPr/>
        </p:nvSpPr>
        <p:spPr>
          <a:xfrm flipV="1">
            <a:off x="2928960" y="2285640"/>
            <a:ext cx="0" cy="1857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22"/>
          <p:cNvSpPr/>
          <p:nvPr/>
        </p:nvSpPr>
        <p:spPr>
          <a:xfrm>
            <a:off x="2928960" y="2286000"/>
            <a:ext cx="2571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24"/>
          <p:cNvSpPr/>
          <p:nvPr/>
        </p:nvSpPr>
        <p:spPr>
          <a:xfrm flipV="1">
            <a:off x="5500800" y="571680"/>
            <a:ext cx="0" cy="1714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26"/>
          <p:cNvSpPr/>
          <p:nvPr/>
        </p:nvSpPr>
        <p:spPr>
          <a:xfrm>
            <a:off x="5500800" y="571680"/>
            <a:ext cx="2786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8"/>
          <p:cNvSpPr/>
          <p:nvPr/>
        </p:nvSpPr>
        <p:spPr>
          <a:xfrm>
            <a:off x="5649120" y="92880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ё уда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0"/>
          <p:cNvSpPr/>
          <p:nvPr/>
        </p:nvSpPr>
        <p:spPr>
          <a:xfrm>
            <a:off x="3294000" y="2643120"/>
            <a:ext cx="235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лохо поработ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что-то не совс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чи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31"/>
          <p:cNvSpPr/>
          <p:nvPr/>
        </p:nvSpPr>
        <p:spPr>
          <a:xfrm>
            <a:off x="1151280" y="450072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годня не получило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я не отчаива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http://kolesouspeha.ru/wp-content/uploads/2012/12/21.jpg"/>
          <p:cNvPicPr/>
          <p:nvPr/>
        </p:nvPicPr>
        <p:blipFill>
          <a:blip r:embed="rId1"/>
          <a:stretch/>
        </p:blipFill>
        <p:spPr>
          <a:xfrm>
            <a:off x="6072120" y="2373480"/>
            <a:ext cx="3071880" cy="448452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12"/>
          <p:cNvSpPr/>
          <p:nvPr/>
        </p:nvSpPr>
        <p:spPr>
          <a:xfrm>
            <a:off x="357120" y="357120"/>
            <a:ext cx="51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сенка 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9389-8CC5-41A2-BFD9-7074E58325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https://fs00.infourok.ru/images/doc/157/181619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BDF4-A7C4-4857-B9DA-DFB3632DF3A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ая соединительная линия 3"/>
          <p:cNvSpPr/>
          <p:nvPr/>
        </p:nvSpPr>
        <p:spPr>
          <a:xfrm flipV="1">
            <a:off x="642960" y="5643720"/>
            <a:ext cx="0" cy="1000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5"/>
          <p:cNvSpPr/>
          <p:nvPr/>
        </p:nvSpPr>
        <p:spPr>
          <a:xfrm>
            <a:off x="642960" y="5643720"/>
            <a:ext cx="1143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7"/>
          <p:cNvSpPr/>
          <p:nvPr/>
        </p:nvSpPr>
        <p:spPr>
          <a:xfrm flipV="1">
            <a:off x="1785960" y="4571640"/>
            <a:ext cx="0" cy="1071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ая соединительная линия 9"/>
          <p:cNvSpPr/>
          <p:nvPr/>
        </p:nvSpPr>
        <p:spPr>
          <a:xfrm>
            <a:off x="1857240" y="4572000"/>
            <a:ext cx="1214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ая соединительная линия 11"/>
          <p:cNvSpPr/>
          <p:nvPr/>
        </p:nvSpPr>
        <p:spPr>
          <a:xfrm flipV="1">
            <a:off x="3071880" y="3499920"/>
            <a:ext cx="0" cy="1071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13"/>
          <p:cNvSpPr/>
          <p:nvPr/>
        </p:nvSpPr>
        <p:spPr>
          <a:xfrm>
            <a:off x="3071880" y="3500280"/>
            <a:ext cx="1571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5"/>
          <p:cNvSpPr/>
          <p:nvPr/>
        </p:nvSpPr>
        <p:spPr>
          <a:xfrm>
            <a:off x="714240" y="5715000"/>
            <a:ext cx="20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егодня не получилос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 я не отчаиваю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6"/>
          <p:cNvSpPr/>
          <p:nvPr/>
        </p:nvSpPr>
        <p:spPr>
          <a:xfrm>
            <a:off x="1857240" y="4714920"/>
            <a:ext cx="185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плохо порабо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 что-то не совс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лучило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7"/>
          <p:cNvSpPr/>
          <p:nvPr/>
        </p:nvSpPr>
        <p:spPr>
          <a:xfrm>
            <a:off x="3214800" y="357192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ё удало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8"/>
          <p:cNvSpPr/>
          <p:nvPr/>
        </p:nvSpPr>
        <p:spPr>
          <a:xfrm>
            <a:off x="428760" y="357120"/>
            <a:ext cx="373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терии оцени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4 задания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6 заданий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-8 заданий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-10 заданий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6016680" y="64296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я оценка   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3D1B-545A-47F9-9D45-5328A6863F6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 flipV="1">
            <a:off x="4572000" y="4221000"/>
            <a:ext cx="3889440" cy="115128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V="1">
            <a:off x="4572000" y="1484280"/>
            <a:ext cx="2879640" cy="1008000"/>
          </a:xfrm>
          <a:prstGeom prst="line">
            <a:avLst/>
          </a:prstGeom>
          <a:ln w="57240">
            <a:solidFill>
              <a:srgbClr val="ff66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H="1">
            <a:off x="5579640" y="2421000"/>
            <a:ext cx="2879640" cy="39607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2987640" y="3933720"/>
            <a:ext cx="2449440" cy="71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H="1">
            <a:off x="324000" y="2708280"/>
            <a:ext cx="1079280" cy="1297080"/>
          </a:xfrm>
          <a:prstGeom prst="line">
            <a:avLst/>
          </a:prstGeom>
          <a:ln w="57240">
            <a:solidFill>
              <a:srgbClr val="c0504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909440" y="189000"/>
            <a:ext cx="58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еометрические фиг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4"/>
          <p:cNvSpPr/>
          <p:nvPr/>
        </p:nvSpPr>
        <p:spPr>
          <a:xfrm>
            <a:off x="1908000" y="4653000"/>
            <a:ext cx="1800360" cy="1728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 flipH="1">
            <a:off x="1476000" y="1628640"/>
            <a:ext cx="865080" cy="2592360"/>
          </a:xfrm>
          <a:prstGeom prst="line">
            <a:avLst/>
          </a:prstGeom>
          <a:ln w="57240">
            <a:solidFill>
              <a:srgbClr val="0066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>
            <a:off x="2340000" y="1628640"/>
            <a:ext cx="1152360" cy="14400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 flipH="1">
            <a:off x="611280" y="1628640"/>
            <a:ext cx="1728720" cy="5229360"/>
          </a:xfrm>
          <a:prstGeom prst="line">
            <a:avLst/>
          </a:prstGeom>
          <a:ln w="57240">
            <a:solidFill>
              <a:srgbClr val="0066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2340000" y="1628640"/>
            <a:ext cx="4176720" cy="522936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 flipV="1">
            <a:off x="4572000" y="907560"/>
            <a:ext cx="4572000" cy="1584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 flipV="1">
            <a:off x="5219640" y="1483920"/>
            <a:ext cx="3924360" cy="53737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1"/>
          <p:cNvSpPr/>
          <p:nvPr/>
        </p:nvSpPr>
        <p:spPr>
          <a:xfrm flipV="1">
            <a:off x="0" y="4005360"/>
            <a:ext cx="9144000" cy="273672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2160" y="3378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902160" y="22255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2197440" y="1052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1118160" y="364500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349416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4358160" y="191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5437800" y="3500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2629440" y="34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7598520" y="242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529452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4502880" y="47973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8174520" y="371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6806160" y="472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2"/>
          <p:cNvSpPr/>
          <p:nvPr/>
        </p:nvSpPr>
        <p:spPr>
          <a:xfrm>
            <a:off x="6732720" y="458136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5"/>
          <p:cNvSpPr/>
          <p:nvPr/>
        </p:nvSpPr>
        <p:spPr>
          <a:xfrm>
            <a:off x="6950160" y="907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UNI1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UNI2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UNI3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UNI5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E014-34C0-46A6-97A7-02449B3A887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2143080" y="260280"/>
            <a:ext cx="41576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ettenschweiler"/>
              </a:rPr>
              <a:t>Угол.</a:t>
            </a:r>
            <a:endParaRPr b="0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ettenschweiler"/>
              <a:ea typeface="Haettenschweiler"/>
            </a:endParaRPr>
          </a:p>
        </p:txBody>
      </p:sp>
      <p:pic>
        <p:nvPicPr>
          <p:cNvPr id="123" name="Picture 14" descr="https://fs00.infourok.ru/images/doc/121/142265/hello_html_m1b29d390.png"/>
          <p:cNvPicPr/>
          <p:nvPr/>
        </p:nvPicPr>
        <p:blipFill>
          <a:blip r:embed="rId1"/>
          <a:stretch/>
        </p:blipFill>
        <p:spPr>
          <a:xfrm>
            <a:off x="7920" y="4071960"/>
            <a:ext cx="9136080" cy="23097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684360" y="2708280"/>
            <a:ext cx="799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равнение и обознач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A2FD-FAE7-4265-83AC-5895DECE31E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737280"/>
            <a:ext cx="9144000" cy="59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берите те утверждения, в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 вер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ол – это геометрическая фиг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ол состоит из двух пересекающихся пря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ол состоит из двух лучей, выходящих из одной 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вные углы – это те, у которых равны стор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вает угол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вают углы острые и туп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ол может быть тон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упой угол – это угол, который нарисован плохо заточенным  карандаш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трый угол – это угол, который меньше пря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ёрнутый угол равен двум прям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931400" y="142920"/>
            <a:ext cx="44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«Верю – не верю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A326-428B-46FA-B98F-F0F31C2257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"/>
          <p:cNvGrpSpPr/>
          <p:nvPr/>
        </p:nvGrpSpPr>
        <p:grpSpPr>
          <a:xfrm>
            <a:off x="596520" y="404640"/>
            <a:ext cx="6868800" cy="4048560"/>
            <a:chOff x="596520" y="404640"/>
            <a:chExt cx="6868800" cy="4048560"/>
          </a:xfrm>
        </p:grpSpPr>
        <p:grpSp>
          <p:nvGrpSpPr>
            <p:cNvPr id="130" name="Group 3"/>
            <p:cNvGrpSpPr/>
            <p:nvPr/>
          </p:nvGrpSpPr>
          <p:grpSpPr>
            <a:xfrm>
              <a:off x="596520" y="3585240"/>
              <a:ext cx="870480" cy="867960"/>
              <a:chOff x="596520" y="3585240"/>
              <a:chExt cx="870480" cy="867960"/>
            </a:xfrm>
          </p:grpSpPr>
          <p:sp>
            <p:nvSpPr>
              <p:cNvPr id="131" name="Freeform 4"/>
              <p:cNvSpPr/>
              <p:nvPr/>
            </p:nvSpPr>
            <p:spPr>
              <a:xfrm rot="988800">
                <a:off x="682200" y="3666960"/>
                <a:ext cx="680400" cy="703800"/>
              </a:xfrm>
              <a:custGeom>
                <a:avLst/>
                <a:gdLst>
                  <a:gd name="textAreaLeft" fmla="*/ 0 w 680400"/>
                  <a:gd name="textAreaRight" fmla="*/ 680760 w 680400"/>
                  <a:gd name="textAreaTop" fmla="*/ 0 h 703800"/>
                  <a:gd name="textAreaBottom" fmla="*/ 704160 h 703800"/>
                </a:gdLst>
                <a:ahLst/>
                <a:rect l="textAreaLeft" t="textAreaTop" r="textAreaRight" b="textAreaBottom"/>
                <a:pathLst>
                  <a:path w="1633" h="1724">
                    <a:moveTo>
                      <a:pt x="0" y="1452"/>
                    </a:moveTo>
                    <a:lnTo>
                      <a:pt x="908" y="454"/>
                    </a:lnTo>
                    <a:lnTo>
                      <a:pt x="862" y="182"/>
                    </a:lnTo>
                    <a:lnTo>
                      <a:pt x="1044" y="0"/>
                    </a:lnTo>
                    <a:lnTo>
                      <a:pt x="1633" y="590"/>
                    </a:lnTo>
                    <a:lnTo>
                      <a:pt x="1463" y="763"/>
                    </a:lnTo>
                    <a:lnTo>
                      <a:pt x="1225" y="681"/>
                    </a:lnTo>
                    <a:lnTo>
                      <a:pt x="318" y="1724"/>
                    </a:lnTo>
                    <a:lnTo>
                      <a:pt x="182" y="1724"/>
                    </a:lnTo>
                    <a:lnTo>
                      <a:pt x="46" y="1679"/>
                    </a:lnTo>
                    <a:lnTo>
                      <a:pt x="0" y="1588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eece1"/>
                  </a:gs>
                  <a:gs pos="50000">
                    <a:srgbClr val="ffffff"/>
                  </a:gs>
                  <a:gs pos="100000">
                    <a:srgbClr val="eeece1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5"/>
              <p:cNvSpPr/>
              <p:nvPr/>
            </p:nvSpPr>
            <p:spPr>
              <a:xfrm rot="988800">
                <a:off x="1163880" y="3723120"/>
                <a:ext cx="269640" cy="27432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274320"/>
                  <a:gd name="textAreaBottom" fmla="*/ 274680 h 274320"/>
                </a:gdLst>
                <a:ahLst/>
                <a:rect l="textAreaLeft" t="textAreaTop" r="textAreaRight" b="textAreaBottom"/>
                <a:pathLst>
                  <a:path w="649" h="666">
                    <a:moveTo>
                      <a:pt x="30" y="38"/>
                    </a:moveTo>
                    <a:cubicBezTo>
                      <a:pt x="60" y="0"/>
                      <a:pt x="295" y="76"/>
                      <a:pt x="393" y="174"/>
                    </a:cubicBezTo>
                    <a:cubicBezTo>
                      <a:pt x="491" y="272"/>
                      <a:pt x="649" y="590"/>
                      <a:pt x="619" y="628"/>
                    </a:cubicBezTo>
                    <a:cubicBezTo>
                      <a:pt x="589" y="666"/>
                      <a:pt x="309" y="499"/>
                      <a:pt x="211" y="401"/>
                    </a:cubicBezTo>
                    <a:cubicBezTo>
                      <a:pt x="113" y="303"/>
                      <a:pt x="0" y="76"/>
                      <a:pt x="30" y="38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6"/>
              <p:cNvSpPr/>
              <p:nvPr/>
            </p:nvSpPr>
            <p:spPr>
              <a:xfrm rot="988800">
                <a:off x="1135440" y="3764160"/>
                <a:ext cx="239400" cy="24372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576" h="592">
                    <a:moveTo>
                      <a:pt x="0" y="0"/>
                    </a:moveTo>
                    <a:cubicBezTo>
                      <a:pt x="31" y="61"/>
                      <a:pt x="88" y="269"/>
                      <a:pt x="184" y="368"/>
                    </a:cubicBezTo>
                    <a:cubicBezTo>
                      <a:pt x="280" y="467"/>
                      <a:pt x="494" y="545"/>
                      <a:pt x="576" y="5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7"/>
              <p:cNvSpPr/>
              <p:nvPr/>
            </p:nvSpPr>
            <p:spPr>
              <a:xfrm rot="988800">
                <a:off x="1097280" y="3894480"/>
                <a:ext cx="37440" cy="37080"/>
              </a:xfrm>
              <a:prstGeom prst="ellipse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8"/>
              <p:cNvSpPr/>
              <p:nvPr/>
            </p:nvSpPr>
            <p:spPr>
              <a:xfrm rot="988800">
                <a:off x="1134360" y="3769200"/>
                <a:ext cx="37440" cy="37080"/>
              </a:xfrm>
              <a:prstGeom prst="ellipse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9"/>
              <p:cNvSpPr/>
              <p:nvPr/>
            </p:nvSpPr>
            <p:spPr>
              <a:xfrm rot="988800">
                <a:off x="1050480" y="3919680"/>
                <a:ext cx="37440" cy="37080"/>
              </a:xfrm>
              <a:prstGeom prst="ellipse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10"/>
            <p:cNvGrpSpPr/>
            <p:nvPr/>
          </p:nvGrpSpPr>
          <p:grpSpPr>
            <a:xfrm>
              <a:off x="1272960" y="404640"/>
              <a:ext cx="6192360" cy="3455640"/>
              <a:chOff x="1272960" y="404640"/>
              <a:chExt cx="6192360" cy="3455640"/>
            </a:xfrm>
          </p:grpSpPr>
          <p:sp>
            <p:nvSpPr>
              <p:cNvPr id="138" name="Freeform 11"/>
              <p:cNvSpPr/>
              <p:nvPr/>
            </p:nvSpPr>
            <p:spPr>
              <a:xfrm>
                <a:off x="1272960" y="445320"/>
                <a:ext cx="6091920" cy="3414960"/>
              </a:xfrm>
              <a:custGeom>
                <a:avLst/>
                <a:gdLst>
                  <a:gd name="textAreaLeft" fmla="*/ 0 w 6091920"/>
                  <a:gd name="textAreaRight" fmla="*/ 6092280 w 6091920"/>
                  <a:gd name="textAreaTop" fmla="*/ 0 h 3414960"/>
                  <a:gd name="textAreaBottom" fmla="*/ 3415320 h 3414960"/>
                </a:gdLst>
                <a:ahLst/>
                <a:rect l="textAreaLeft" t="textAreaTop" r="textAreaRight" b="textAreaBottom"/>
                <a:pathLst>
                  <a:path w="3220" h="2495">
                    <a:moveTo>
                      <a:pt x="0" y="2405"/>
                    </a:moveTo>
                    <a:lnTo>
                      <a:pt x="3039" y="0"/>
                    </a:lnTo>
                    <a:lnTo>
                      <a:pt x="3220" y="273"/>
                    </a:lnTo>
                    <a:lnTo>
                      <a:pt x="91" y="2495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18900000"/>
              </a:gra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2"/>
              <p:cNvSpPr/>
              <p:nvPr/>
            </p:nvSpPr>
            <p:spPr>
              <a:xfrm>
                <a:off x="6965640" y="404640"/>
                <a:ext cx="499680" cy="42408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424080"/>
                  <a:gd name="textAreaBottom" fmla="*/ 424440 h 424080"/>
                </a:gdLst>
                <a:ahLst/>
                <a:rect l="textAreaLeft" t="textAreaTop" r="textAreaRight" b="textAreaBottom"/>
                <a:pathLst>
                  <a:path w="264" h="310">
                    <a:moveTo>
                      <a:pt x="30" y="30"/>
                    </a:moveTo>
                    <a:cubicBezTo>
                      <a:pt x="7" y="60"/>
                      <a:pt x="0" y="167"/>
                      <a:pt x="30" y="212"/>
                    </a:cubicBezTo>
                    <a:cubicBezTo>
                      <a:pt x="60" y="257"/>
                      <a:pt x="173" y="310"/>
                      <a:pt x="211" y="303"/>
                    </a:cubicBezTo>
                    <a:cubicBezTo>
                      <a:pt x="249" y="296"/>
                      <a:pt x="264" y="212"/>
                      <a:pt x="257" y="167"/>
                    </a:cubicBezTo>
                    <a:cubicBezTo>
                      <a:pt x="250" y="122"/>
                      <a:pt x="204" y="53"/>
                      <a:pt x="166" y="30"/>
                    </a:cubicBezTo>
                    <a:cubicBezTo>
                      <a:pt x="128" y="7"/>
                      <a:pt x="53" y="0"/>
                      <a:pt x="30" y="3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Freeform 13"/>
          <p:cNvSpPr/>
          <p:nvPr/>
        </p:nvSpPr>
        <p:spPr>
          <a:xfrm>
            <a:off x="1447920" y="774720"/>
            <a:ext cx="5219640" cy="3022560"/>
          </a:xfrm>
          <a:custGeom>
            <a:avLst/>
            <a:gdLst>
              <a:gd name="textAreaLeft" fmla="*/ 0 w 5219640"/>
              <a:gd name="textAreaRight" fmla="*/ 5220000 w 5219640"/>
              <a:gd name="textAreaTop" fmla="*/ 0 h 3022560"/>
              <a:gd name="textAreaBottom" fmla="*/ 3022920 h 3022560"/>
            </a:gdLst>
            <a:ahLst/>
            <a:rect l="textAreaLeft" t="textAreaTop" r="textAreaRight" b="textAreaBottom"/>
            <a:pathLst>
              <a:path w="3288" h="1904">
                <a:moveTo>
                  <a:pt x="0" y="1904"/>
                </a:moveTo>
                <a:lnTo>
                  <a:pt x="328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"/>
          <p:cNvGrpSpPr/>
          <p:nvPr/>
        </p:nvGrpSpPr>
        <p:grpSpPr>
          <a:xfrm>
            <a:off x="1403280" y="3716280"/>
            <a:ext cx="6337440" cy="1513080"/>
            <a:chOff x="1403280" y="3716280"/>
            <a:chExt cx="6337440" cy="1513080"/>
          </a:xfrm>
        </p:grpSpPr>
        <p:sp>
          <p:nvSpPr>
            <p:cNvPr id="142" name="Line 15"/>
            <p:cNvSpPr/>
            <p:nvPr/>
          </p:nvSpPr>
          <p:spPr>
            <a:xfrm>
              <a:off x="1476360" y="3789360"/>
              <a:ext cx="6264360" cy="144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6"/>
            <p:cNvSpPr/>
            <p:nvPr/>
          </p:nvSpPr>
          <p:spPr>
            <a:xfrm>
              <a:off x="1403280" y="371628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17"/>
          <p:cNvSpPr/>
          <p:nvPr/>
        </p:nvSpPr>
        <p:spPr>
          <a:xfrm>
            <a:off x="2384640" y="333360"/>
            <a:ext cx="21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Haettenschweiler"/>
              </a:rPr>
              <a:t>Угол</a:t>
            </a:r>
            <a:r>
              <a:rPr b="1" lang="en-US" sz="3600" spc="-1" strike="noStrike">
                <a:solidFill>
                  <a:srgbClr val="ff0000"/>
                </a:solidFill>
                <a:latin typeface="Haettenschweiler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A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1333800" y="37162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7165800" y="5084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6229080" y="260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 rot="19939200">
            <a:off x="3421440" y="1483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уч О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 rot="622800">
            <a:off x="3512880" y="4436640"/>
            <a:ext cx="178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уч 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5"/>
          <p:cNvSpPr/>
          <p:nvPr/>
        </p:nvSpPr>
        <p:spPr>
          <a:xfrm>
            <a:off x="1403280" y="371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1500120" y="-142920"/>
            <a:ext cx="7766280" cy="5729400"/>
          </a:xfrm>
          <a:custGeom>
            <a:avLst/>
            <a:gdLst>
              <a:gd name="textAreaLeft" fmla="*/ 0 w 7766280"/>
              <a:gd name="textAreaRight" fmla="*/ 7766640 w 7766280"/>
              <a:gd name="textAreaTop" fmla="*/ 0 h 5729400"/>
              <a:gd name="textAreaBottom" fmla="*/ 5729760 h 5729400"/>
            </a:gdLst>
            <a:ahLst/>
            <a:rect l="textAreaLeft" t="textAreaTop" r="textAreaRight" b="textAreaBottom"/>
            <a:pathLst>
              <a:path w="4892" h="3609">
                <a:moveTo>
                  <a:pt x="4349" y="0"/>
                </a:moveTo>
                <a:lnTo>
                  <a:pt x="0" y="2496"/>
                </a:lnTo>
                <a:lnTo>
                  <a:pt x="4825" y="3609"/>
                </a:lnTo>
                <a:lnTo>
                  <a:pt x="4892" y="192"/>
                </a:lnTo>
                <a:lnTo>
                  <a:pt x="4349" y="0"/>
                </a:lnTo>
                <a:close/>
              </a:path>
            </a:pathLst>
          </a:custGeom>
          <a:blipFill rotWithShape="0">
            <a:blip r:embed="rId1">
              <a:alphaModFix amt="87000"/>
            </a:blip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1"/>
          <p:cNvSpPr/>
          <p:nvPr/>
        </p:nvSpPr>
        <p:spPr>
          <a:xfrm>
            <a:off x="142920" y="5286240"/>
            <a:ext cx="56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чка О – вершина      А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2"/>
              <p:cNvSpPr txBox="1"/>
              <p:nvPr/>
            </p:nvSpPr>
            <p:spPr>
              <a:xfrm>
                <a:off x="4214880" y="5357880"/>
                <a:ext cx="5032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Text Box 33"/>
          <p:cNvSpPr/>
          <p:nvPr/>
        </p:nvSpPr>
        <p:spPr>
          <a:xfrm>
            <a:off x="176760" y="6021360"/>
            <a:ext cx="67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учи ОА и ОВ – стороны      А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4"/>
              <p:cNvSpPr txBox="1"/>
              <p:nvPr/>
            </p:nvSpPr>
            <p:spPr>
              <a:xfrm>
                <a:off x="5508720" y="6093000"/>
                <a:ext cx="504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7037E-007 C 0.01076 0.0375 0.0217 0.07569 0.02622 0.12546 C 0.03073 0.17546 0.0283 0.23681 0.02622 0.29861 E">
                                      <p:cBhvr>
                                        <p:cTn id="12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580000">
                                      <p:cBhvr>
                                        <p:cTn id="12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13840" y="214200"/>
            <a:ext cx="69296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Сравнение уг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E192-27AB-4B17-ACAE-9D90F7BCFF2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6"/>
          <p:cNvSpPr/>
          <p:nvPr/>
        </p:nvSpPr>
        <p:spPr>
          <a:xfrm>
            <a:off x="1428840" y="221472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8"/>
          <p:cNvSpPr/>
          <p:nvPr/>
        </p:nvSpPr>
        <p:spPr>
          <a:xfrm flipH="1">
            <a:off x="1071720" y="1785960"/>
            <a:ext cx="142560" cy="228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21"/>
          <p:cNvSpPr/>
          <p:nvPr/>
        </p:nvSpPr>
        <p:spPr>
          <a:xfrm>
            <a:off x="1214280" y="1785960"/>
            <a:ext cx="857520" cy="20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4"/>
          <p:cNvSpPr/>
          <p:nvPr/>
        </p:nvSpPr>
        <p:spPr>
          <a:xfrm flipH="1">
            <a:off x="5643720" y="1499400"/>
            <a:ext cx="2714400" cy="7164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29"/>
          <p:cNvSpPr/>
          <p:nvPr/>
        </p:nvSpPr>
        <p:spPr>
          <a:xfrm flipH="1">
            <a:off x="3857400" y="1571760"/>
            <a:ext cx="1785960" cy="185724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7260-0611-4D07-AE32-96CCCC496F1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413440" y="333360"/>
            <a:ext cx="30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ямой уг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8101080" y="40464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7301"/>
                </a:moveTo>
                <a:lnTo>
                  <a:pt x="10094" y="7301"/>
                </a:lnTo>
                <a:lnTo>
                  <a:pt x="10477" y="7667"/>
                </a:lnTo>
                <a:lnTo>
                  <a:pt x="19685" y="7667"/>
                </a:lnTo>
                <a:lnTo>
                  <a:pt x="20242" y="8224"/>
                </a:lnTo>
                <a:lnTo>
                  <a:pt x="20242" y="8772"/>
                </a:lnTo>
                <a:lnTo>
                  <a:pt x="22088" y="8772"/>
                </a:lnTo>
                <a:lnTo>
                  <a:pt x="22453" y="8224"/>
                </a:lnTo>
                <a:lnTo>
                  <a:pt x="23193" y="8224"/>
                </a:lnTo>
                <a:lnTo>
                  <a:pt x="23193" y="13376"/>
                </a:lnTo>
                <a:lnTo>
                  <a:pt x="22453" y="13376"/>
                </a:lnTo>
                <a:lnTo>
                  <a:pt x="22088" y="12828"/>
                </a:lnTo>
                <a:lnTo>
                  <a:pt x="20242" y="12828"/>
                </a:lnTo>
                <a:lnTo>
                  <a:pt x="20242" y="14107"/>
                </a:lnTo>
                <a:lnTo>
                  <a:pt x="10660" y="14107"/>
                </a:lnTo>
                <a:lnTo>
                  <a:pt x="10660" y="9877"/>
                </a:lnTo>
                <a:lnTo>
                  <a:pt x="10477" y="9877"/>
                </a:lnTo>
                <a:lnTo>
                  <a:pt x="10094" y="10243"/>
                </a:lnTo>
                <a:lnTo>
                  <a:pt x="9180" y="1024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6"/>
          <p:cNvSpPr/>
          <p:nvPr/>
        </p:nvSpPr>
        <p:spPr>
          <a:xfrm rot="6451200">
            <a:off x="574920" y="2385000"/>
            <a:ext cx="3673440" cy="216036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2160360"/>
              <a:gd name="textAreaBottom" fmla="*/ 2160720 h 2160360"/>
            </a:gdLst>
            <a:ahLst/>
            <a:rect l="textAreaLeft" t="textAreaTop" r="textAreaRight" b="textAreaBottom"/>
            <a:pathLst>
              <a:path w="1858" h="999">
                <a:moveTo>
                  <a:pt x="0" y="324"/>
                </a:moveTo>
                <a:lnTo>
                  <a:pt x="1265" y="999"/>
                </a:lnTo>
                <a:lnTo>
                  <a:pt x="1858" y="0"/>
                </a:lnTo>
              </a:path>
            </a:pathLst>
          </a:custGeom>
          <a:solidFill>
            <a:srgbClr val="ffff66">
              <a:alpha val="87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8"/>
          <p:cNvSpPr/>
          <p:nvPr/>
        </p:nvSpPr>
        <p:spPr>
          <a:xfrm>
            <a:off x="2843280" y="1773360"/>
            <a:ext cx="588960" cy="3816360"/>
          </a:xfrm>
          <a:custGeom>
            <a:avLst/>
            <a:gdLst>
              <a:gd name="textAreaLeft" fmla="*/ 0 w 588960"/>
              <a:gd name="textAreaRight" fmla="*/ 589320 w 588960"/>
              <a:gd name="textAreaTop" fmla="*/ 0 h 3816360"/>
              <a:gd name="textAreaBottom" fmla="*/ 3816720 h 3816360"/>
            </a:gdLst>
            <a:ahLst/>
            <a:rect l="textAreaLeft" t="textAreaTop" r="textAreaRight" b="textAreaBottom"/>
            <a:pathLst>
              <a:path w="371" h="2404">
                <a:moveTo>
                  <a:pt x="272" y="0"/>
                </a:moveTo>
                <a:cubicBezTo>
                  <a:pt x="321" y="256"/>
                  <a:pt x="371" y="513"/>
                  <a:pt x="363" y="725"/>
                </a:cubicBezTo>
                <a:cubicBezTo>
                  <a:pt x="355" y="937"/>
                  <a:pt x="242" y="1111"/>
                  <a:pt x="227" y="1270"/>
                </a:cubicBezTo>
                <a:cubicBezTo>
                  <a:pt x="212" y="1429"/>
                  <a:pt x="302" y="1534"/>
                  <a:pt x="272" y="1678"/>
                </a:cubicBezTo>
                <a:cubicBezTo>
                  <a:pt x="242" y="1822"/>
                  <a:pt x="90" y="2011"/>
                  <a:pt x="45" y="2132"/>
                </a:cubicBezTo>
                <a:cubicBezTo>
                  <a:pt x="0" y="2253"/>
                  <a:pt x="7" y="2359"/>
                  <a:pt x="0" y="2404"/>
                </a:cubicBezTo>
              </a:path>
            </a:pathLst>
          </a:custGeom>
          <a:solidFill>
            <a:srgbClr val="ffff66">
              <a:alpha val="7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9"/>
          <p:cNvSpPr/>
          <p:nvPr/>
        </p:nvSpPr>
        <p:spPr>
          <a:xfrm>
            <a:off x="1187280" y="0"/>
            <a:ext cx="8121960" cy="6934320"/>
          </a:xfrm>
          <a:custGeom>
            <a:avLst/>
            <a:gdLst>
              <a:gd name="textAreaLeft" fmla="*/ 0 w 8121960"/>
              <a:gd name="textAreaRight" fmla="*/ 8122320 w 8121960"/>
              <a:gd name="textAreaTop" fmla="*/ 0 h 6934320"/>
              <a:gd name="textAreaBottom" fmla="*/ 6934680 h 6934320"/>
            </a:gdLst>
            <a:ahLst/>
            <a:rect l="textAreaLeft" t="textAreaTop" r="textAreaRight" b="textAreaBottom"/>
            <a:pathLst>
              <a:path w="5116" h="4368">
                <a:moveTo>
                  <a:pt x="1892" y="4360"/>
                </a:moveTo>
                <a:lnTo>
                  <a:pt x="0" y="2351"/>
                </a:lnTo>
                <a:lnTo>
                  <a:pt x="2584" y="0"/>
                </a:lnTo>
                <a:lnTo>
                  <a:pt x="5044" y="8"/>
                </a:lnTo>
                <a:lnTo>
                  <a:pt x="5068" y="248"/>
                </a:lnTo>
                <a:lnTo>
                  <a:pt x="5116" y="4368"/>
                </a:lnTo>
                <a:lnTo>
                  <a:pt x="1892" y="436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1" descr="сканирование002"/>
          <p:cNvPicPr/>
          <p:nvPr/>
        </p:nvPicPr>
        <p:blipFill>
          <a:blip r:embed="rId1"/>
          <a:srcRect l="10422" t="0" r="4307" b="0"/>
          <a:stretch/>
        </p:blipFill>
        <p:spPr>
          <a:xfrm rot="19032600">
            <a:off x="1908000" y="2276640"/>
            <a:ext cx="3144960" cy="3336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0" name="Picture 26" descr="BL00130_"/>
          <p:cNvPicPr/>
          <p:nvPr/>
        </p:nvPicPr>
        <p:blipFill>
          <a:blip r:embed="rId2"/>
          <a:stretch/>
        </p:blipFill>
        <p:spPr>
          <a:xfrm>
            <a:off x="5651640" y="333360"/>
            <a:ext cx="3276360" cy="3205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7" descr="сканирование002"/>
          <p:cNvPicPr/>
          <p:nvPr/>
        </p:nvPicPr>
        <p:blipFill>
          <a:blip r:embed="rId3"/>
          <a:srcRect l="0" t="9777" r="0" b="2364"/>
          <a:stretch/>
        </p:blipFill>
        <p:spPr>
          <a:xfrm>
            <a:off x="5124600" y="1628640"/>
            <a:ext cx="3336840" cy="324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6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6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4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4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4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4A59-DF7B-4C4C-9343-A1C4FE5DDD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"/>
          <p:cNvSpPr/>
          <p:nvPr/>
        </p:nvSpPr>
        <p:spPr>
          <a:xfrm>
            <a:off x="714240" y="714240"/>
            <a:ext cx="728676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Arial"/>
              </a:rPr>
              <a:t>     </a:t>
            </a: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Arial"/>
              </a:rPr>
              <a:t>Физкультминут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Руки кверху поднимае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А потом их отпуска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А потом их разверн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И к себе скорей прижм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А потом быстрей, быстр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Хлопай, хлопай вес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009A-131D-467D-A9FC-B1DE6DE7799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http://festival.1september.ru/articles/629631/presentation/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7:55:25Z</dcterms:created>
  <dc:creator>Антуфьева</dc:creator>
  <dc:description/>
  <dc:language>en-US</dc:language>
  <cp:lastModifiedBy>Учитель к201</cp:lastModifiedBy>
  <dcterms:modified xsi:type="dcterms:W3CDTF">2016-11-23T09:56:57Z</dcterms:modified>
  <cp:revision>161</cp:revision>
  <dc:subject/>
  <dc:title>Слайд 1</dc:title>
</cp:coreProperties>
</file>