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256A-E1D0-43D0-8960-11358267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093-CB22-40C0-B62D-B6794493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D3E-5836-4B69-83C0-1604282C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979-8450-4F5A-8662-60CA003C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025B-F761-4564-A29F-F2B44F9B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8614-5CEA-416F-ABC0-0CF26262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3463-4714-4BA8-86BF-8D2D60D5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DE75-FB3F-4CF8-AB2B-B4EA98C6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7E16-96EC-40D8-A640-AF4DA239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7F39-5EE7-4B23-BE22-820DBB0B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BB7B-E67C-4FCC-8BA8-9AAD1AD2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C3F-1474-484A-93E0-09C9C8D6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2D79-B7FE-4D93-A6A9-D3E5BD9F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3BAA-E7E9-44EB-8346-37965AC1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7F4F-75F4-465A-BF07-9EB2965C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07A8-C240-4670-8981-C9A7C73B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3A98-90D6-45C4-A360-033C1D10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8DFC-164D-405C-A8D2-5474A3DC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140-1265-4483-8523-66A49290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2D3-34C8-4061-A480-16032E00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4B5-62D1-4754-8F8A-57C6BF36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14C8-C61C-4183-A0C8-94DBDF60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221-226C-4915-91BC-21543BDD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40E-A1F9-4478-8EA1-66A59FCB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4F64-090E-4216-BD29-FFEFE746F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45A3-26BF-49D9-BCA3-9A94ABB0D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5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304560"/>
            <a:ext cx="7467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Числа в загадках, в стихах, пословицах и поговорках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в крылатых выражениях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Математика всюду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Где только не встретишь разные числа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Презентацию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подготовил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Андреева Ви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ученица 1-б класс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ГБОУ Школа №1460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4000680" cy="3000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190760" cy="3152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00600" y="3429000"/>
            <a:ext cx="4191120" cy="3135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4191120" cy="3136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343400" cy="3335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0" y="171360"/>
            <a:ext cx="4419720" cy="3316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600200" y="3733920"/>
            <a:ext cx="6058080" cy="2639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8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228600"/>
            <a:ext cx="4114800" cy="3448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4267440" cy="3381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209680" y="3733920"/>
            <a:ext cx="4343400" cy="2849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14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24280" y="228600"/>
            <a:ext cx="4267440" cy="3213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209680" y="3886200"/>
            <a:ext cx="4343400" cy="2624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4952880" cy="2590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4191120" cy="3200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4287600" cy="321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14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724280" y="152280"/>
            <a:ext cx="4114800" cy="3276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3809880" cy="3353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800600" y="3733920"/>
            <a:ext cx="3981600" cy="2993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8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0" y="209520"/>
            <a:ext cx="4343400" cy="3281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905120" y="4191120"/>
            <a:ext cx="6172200" cy="2314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190760" cy="2793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181480" y="114300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33520" y="3440160"/>
            <a:ext cx="4190760" cy="3162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114800" cy="3082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819520" y="3581280"/>
            <a:ext cx="4038480" cy="3035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9-18T12:17:5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