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749-1AF6-437B-A307-7664F9B0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3EB-822D-4346-B451-2828782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637-7955-479B-AA9D-354CA48D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943-D3A9-4263-88F2-D3F6A539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DC42-F750-491C-BC56-2D3745A3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B52-539B-436B-95A9-F435ABB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F51-47BF-483B-9D1C-4811638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12CD-ADB5-435A-A594-7F1867B6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96FB-777D-423D-8337-3FD72DDD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B3FE-A3BD-4509-A8F9-BCCF09B7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EE6-2899-45A1-B665-EB70DB86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161-B39E-4205-96E3-C8E6EAD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A78F-9139-4E47-B6CB-43C67AD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E1B0-DFA4-41FF-847C-22C0A68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5A3-B351-42D4-B7EE-37C42F9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30F-F7EE-4BA9-A142-9C1A649C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49D2-AA76-4E17-AA78-21262251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528-2413-4F09-A98B-83B8589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3AA-5B39-41B5-86ED-DF79384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35C-8E31-4D89-917F-372E4525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8D2-6A7C-4303-AEE7-3EDDB9A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B6B-5298-420D-B69B-A1695A4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030-4052-47D4-8CCC-477CAFA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12E-6167-4861-BAA7-0ABAD13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C30-4143-4A76-8492-1009EFE1E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574-2352-42E4-8AF7-DE0B05D04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5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746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Числа в загадках, в стихах, пословицах и поговорках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в крылатых выражениях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Математика всюду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Где только не встретишь разные числ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Презентацию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подготовил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Андреева В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ученица 1-б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ГБОУ Школа №1460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15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4191120" cy="3135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4191120" cy="3136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43400" cy="33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1713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600200" y="3733920"/>
            <a:ext cx="6058080" cy="263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44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338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09680" y="3733920"/>
            <a:ext cx="4343400" cy="284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267440" cy="321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4343400" cy="262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95288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9112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287600" cy="32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809880" cy="335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981600" cy="299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209520"/>
            <a:ext cx="4343400" cy="3281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6172200" cy="2314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33520" y="3440160"/>
            <a:ext cx="4190760" cy="3162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082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12:17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