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77E-7CD9-4B25-98E9-63E026D6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F74-9DE2-43EC-A0CD-3A85F7D0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88C-D21B-4C64-99A0-C677870A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A4F-CCF6-40C8-B68D-0D804C98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A52E-942A-457D-8BA1-1A6EE093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7A18-6A78-41D5-95C5-D7674428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EC16-9949-4DFC-9249-6B36840E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ADAA-B15B-45CA-8C80-976B5BFF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24A1-94D6-4820-B196-1DFB026F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1086-41F4-43DC-827E-E1E66FF7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62B9-2864-43DB-B585-ECC7CC75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48E-1591-49A3-86FE-0263E8E1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50EF-0626-4D76-8169-2EC262E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C01E-6FCE-4131-9300-7890402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2BC8-FA60-4598-B760-C55F3AE4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39BE-597D-49A9-9028-2AE731AA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F480-D48A-41C7-AE8A-77449DD1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158-D5E4-49D9-8B3B-84A1E4A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B34-3057-4917-B129-423265D6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A0F-FD58-4118-91E2-1AEB6A38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4B6-1426-4818-B340-9B695CD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910-4881-4BE0-8AF4-194B63F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04F-C987-429D-80F7-A472C020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8CD-A234-4D7C-9ED6-F74AC1E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83EC-584D-4FC0-BED9-8594E872E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8BAB-B5D1-4E71-B100-3C01DA53C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ехнология синквейн и лепбук - как совместная работа родителей и воспитателя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86920" y="4005000"/>
            <a:ext cx="64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и воспитатели МБДОУ «Детский сад комбинированного вида №63» г. Нижнекамс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умак С.А., Хидиятова Л.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016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к мы создаём лэпбук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Начинаем мы с выбора те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а лэпбука может быть люба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интересные события, происходящие с ребенк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увлечения дет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темы недел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литературные произвед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мультипликационные герои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ы могут быть как общие, так и частные. Например, можно сделать общий лэпбук на тему "Насекомые". А можно взять какое-нибудь конкретное насекомое и в лэпбуке дать подробную информацию о н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2. План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ле того, как мы выбрали тему, надо взять бумагу и ручку и написать план. Ведь лэпбук - это не просто книжка с картинками. Поэтому вам надо продумать, что он должен включать в себя, чтобы полностью раскрыть тему. А для этого нужен план того, что вы хотите в этой папке рассказ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пример, план лэпбука на тему «Осень»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Книжечка с осенними стихотвор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Кармашек с загадк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Конверт с осенними листь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Таблица трёх осенних месяцев «Календарь погоды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Корзинка с плодами ос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Кармашек для новых с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. Создание макет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16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ледующий этап самый интересный. Теперь надо придумать, как в лэпбуке будет представлен каждый из пунктов плана. То есть нарисовать макет. Здесь нет границ для фантазии: формы представления могут быть любые. От самого простого, до игр и развивающих заданий. И все это разместить на разных элементах: в кармашках, блокнотиках, мини-книжках, книжках-гармошках, вращающихся кругах, конвертиках разных форм и т.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анная форма работы помогла педагогам создать условия для поддержки детской инициативы и творчества в группе. В процессе наблюдения воспитатель узнает, что ребенок делает с большим интересом. В процессе такого творчества ребенок становится не только создателем своей собственной книги, но и дизайнером, художником-иллюстратором, сочинителем собственных историй, загадок, стихотворений. Такая увлекательная форма работы создает условия для развития личности, мотивации и способностей ребен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3280" y="1625760"/>
            <a:ext cx="43214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Зачем нужен лэпбук?</a:t>
            </a:r>
            <a:br>
              <a:rPr sz="4000"/>
            </a:b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Он помогает ребенку по своему желанию организовать информацию по изучаемой теме и лучше понять и запомнить материал (особенно если ваш ребенок визуал). Взрослым визуалам такая форма обучения тоже понравитс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Это отличный способ для повторения пройденного. В любое удобное время ребенок просто открывает лэпбук и с радостью повторяет пройденное, рассматривая сделанную своими же руками книж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 Ребенок научится самостоятельно собирать и организовывать информацию – хорошая подготовка к написанию рефератов и курсов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 Лэпбук хорошо подойдет для занятий в группах, где одновременно обучаются дети разных возрастов, как, например, в нашей семье. Можно выбрать задания под силу каждому (для малышей – кармашки с карточками или фигурками животных, например, а старшим детям – задания, подразумевающие умение писать и т.д.) и сделать такую коллективную книж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. Это просто интересно, в конце концов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одном из кармашков можно сложить стихи, написанные детьми и их родителями. Это будет у вас как словарная работа и как совместная работа взрослых и де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832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Не рядом, не над ним, а вместе!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образовательной области «Речевое развитие» прописана задача: развитие речевого творчества. Синквей решает эту задач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дактический синквейн был введён в практику американской школы в ХХ веке под влиянием японской поэзии. Слово «синквейн» происходит от французского слова «пять». Таким образом, синквейн — это стихотворение, состоящее из пяти строк, строящееся по определённым правилам. В этом жанре текст основывается не на слоговой зависимости, а на содержательной и синтаксической заданности каждой строки. СИНКВЕЙН— МЫСЛЬ, ПЕРЕВЕДЁННАЯ В ОБРА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ять причин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ять причин, по которым, рекомендуем внедрить синквейн в работе с дошкольник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стой инструмент для синтеза и обобщения сложной информа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богащает словарный запас, подготовка к краткому рассказу и пересказу, учит формулировать идею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иём технологии критического мыш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средство творческого самовыраж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получается у всех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 ЧЁМ МОЖНО НАПИСАТЬ СИНКВЕЙН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 ЧЁМ МОЖНО НАПИСАТЬ СИНКВЕЙН? О природе; о картине или литературном герое; о папе или маме; о настроении; о временах г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написать синквейн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строка: одно слово, обычно существительное с идейным содержа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торая строка: два слова. Это прилагательные, обозначающие качество первого сл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етья строка: три слова, описывающие действие первого слова. «Что делает?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вёртая строка: фраза или предложение и из трёх-четырёх слов, показывающее личное отношение к первому сло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ая строка: одно или два слова рекламного характе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5640" y="3246480"/>
            <a:ext cx="45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 ЧЁМ МОЖНО НАПИСАТЬ СИНКВЕЙ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пример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сокая, крут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оит, растёт, возвыш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люблю отдыхать в гор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мантик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5528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773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де можно практически применить технологию синквейн?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образовательной деятельност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самостоятельной деятельности дете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работе с родителям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прогулк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режимных моментах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едложе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предлагаем использовать технологию синквейн в работе с родителями, а именно, при изготовлении лепбука. Что такое лепбук? Какова технология его изготовл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Чем для нас стала привлекательна данная форма работы?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-первых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эпбук помогает ребенку по своему желанию организовать информацию по интересующей его теме, лучше понять и запомнить материал.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-вторых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это отличный способ для повторения пройденного материала. В любое удобное время ребенок просто открывает лэпбук и с радостью повторяет пройденное, рассматривая сделанную своими же руками книжк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-третьих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бенок учится самостоятельно собирать и организовывать информ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-четвертых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можно выбрать задания под силу каждому (для малышей – кармашки с карточками или фигурками животных, например, а старшим детям – задания, подразумевающие умение писать и т.д.) Ну и в конце концов, это просто интерес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8:12:30Z</dcterms:created>
  <dc:creator>Тумак</dc:creator>
  <dc:description/>
  <dc:language>en-US</dc:language>
  <cp:lastModifiedBy>Тумак</cp:lastModifiedBy>
  <dcterms:modified xsi:type="dcterms:W3CDTF">2016-04-18T19:14:22Z</dcterms:modified>
  <cp:revision>4</cp:revision>
  <dc:subject/>
  <dc:title>Технология синквейн и лепбук - как совместная работа родителей и воспитателя.</dc:title>
</cp:coreProperties>
</file>