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9009-1ECE-437D-97DD-8AF9BF883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A2FC-59C1-46EB-868A-A7EFE72B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0C5B-04B8-4866-8B26-91262767D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573A-A2E6-4AFB-AF1C-4C43CE28A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B422-42DB-4793-9A28-A5DB12A0E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3295-7312-4435-9EC5-436EE002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BCEE-745B-4A4E-938A-359F35EE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EE5E-7EB8-417D-AC6C-09014D5C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5C21-4C90-47B5-B96B-3E12182A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B3A8-B1A0-4969-AD82-23199688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E6FE-218F-4A48-A4A7-48A3258E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04A4-DFA2-4532-B7C6-5411B90D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6BD0-7329-4B86-802F-0B181AB6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BC2A-84DA-4796-8F8F-E0B75733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B9A2-8F90-44EB-8003-F6742922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4A17-4B5C-4C49-981B-0AB967CE5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0DEE-A466-481A-ADC9-724D9941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643A-DA83-4935-9668-506A1091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C948-EC67-4FC0-A3A8-3272D8FE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CB72-6C0B-4754-AB09-0C006341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9FB3-CF74-4B87-80F3-48EA2CD4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F042-A534-4F14-AC7C-A65D0B9B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28DB-1F7F-47B4-AAEE-5B508FFB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2E0F-210E-41C0-913C-0BA18302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BC9D-9E02-4F32-9F0B-9CC64E9795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E5A5-8374-48FB-890E-162B2B80FD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Технология синквейн и лепбук - как совместная работа родителей и воспитателя.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186920" y="4005000"/>
            <a:ext cx="64407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готовили воспитатели МБДОУ «Детский сад комбинированного вида №63» г. Нижнекамс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умак С.А., Хидиятова Л.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016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Как мы создаём лэпбуки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 Начинаем мы с выбора тем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ма лэпбука может быть люба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интересные события, происходящие с ребенком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увлечения дете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темы недел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литературные произвед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мультипликационные герои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мы могут быть как общие, так и частные. Например, можно сделать общий лэпбук на тему "Насекомые". А можно взять какое-нибудь конкретное насекомое и в лэпбуке дать подробную информацию о не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2. План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сле того, как мы выбрали тему, надо взять бумагу и ручку и написать план. Ведь лэпбук - это не просто книжка с картинками. Поэтому вам надо продумать, что он должен включать в себя, чтобы полностью раскрыть тему. А для этого нужен план того, что вы хотите в этой папке рассказат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пример, план лэпбука на тему «Осень»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 Книжечка с осенними стихотворения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Кармашек с загадка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 Конверт с осенними листья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 Таблица трёх осенних месяцев «Календарь погоды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. Корзинка с плодами осен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. Кармашек для новых сл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. Создание макета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164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ледующий этап самый интересный. Теперь надо придумать, как в лэпбуке будет представлен каждый из пунктов плана. То есть нарисовать макет. Здесь нет границ для фантазии: формы представления могут быть любые. От самого простого, до игр и развивающих заданий. И все это разместить на разных элементах: в кармашках, блокнотиках, мини-книжках, книжках-гармошках, вращающихся кругах, конвертиках разных форм и т.д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анная форма работы помогла педагогам создать условия для поддержки детской инициативы и творчества в группе. В процессе наблюдения воспитатель узнает, что ребенок делает с большим интересом. В процессе такого творчества ребенок становится не только создателем своей собственной книги, но и дизайнером, художником-иллюстратором, сочинителем собственных историй, загадок, стихотворений. Такая увлекательная форма работы создает условия для развития личности, мотивации и способностей ребен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43280" y="1625760"/>
            <a:ext cx="432144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eec94"/>
                </a:solidFill>
                <a:latin typeface="Times New Roman"/>
              </a:rPr>
              <a:t>Зачем нужен лэпбук?</a:t>
            </a:r>
            <a:br>
              <a:rPr sz="4000"/>
            </a:br>
            <a:r>
              <a:rPr b="0" lang="ru-RU" sz="40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.Он помогает ребенку по своему желанию организовать информацию по изучаемой теме и лучше понять и запомнить материал (особенно если ваш ребенок визуал). Взрослым визуалам такая форма обучения тоже понравитс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2. Это отличный способ для повторения пройденного. В любое удобное время ребенок просто открывает лэпбук и с радостью повторяет пройденное, рассматривая сделанную своими же руками книжк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3. Ребенок научится самостоятельно собирать и организовывать информацию – хорошая подготовка к написанию рефератов и курсов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4. Лэпбук хорошо подойдет для занятий в группах, где одновременно обучаются дети разных возрастов, как, например, в нашей семье. Можно выбрать задания под силу каждому (для малышей – кармашки с карточками или фигурками животных, например, а старшим детям – задания, подразумевающие умение писать и т.д.) и сделать такую коллективную книжк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5. Это просто интересно, в конце концов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одном из кармашков можно сложить стихи, написанные детьми и их родителями. Это будет у вас как словарная работа и как совместная работа взрослых и дете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43280" y="2133720"/>
            <a:ext cx="403884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пасибо за внимание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583272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«Не рядом, не над ним, а вместе!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образовательной области «Речевое развитие» прописана задача: развитие речевого творчества. Синквей решает эту задач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идактический синквейн был введён в практику американской школы в ХХ веке под влиянием японской поэзии. Слово «синквейн» происходит от французского слова «пять». Таким образом, синквейн — это стихотворение, состоящее из пяти строк, строящееся по определённым правилам. В этом жанре текст основывается не на слоговой зависимости, а на содержательной и синтаксической заданности каждой строки. СИНКВЕЙН— МЫСЛЬ, ПЕРЕВЕДЁННАЯ В ОБРАЗ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ять причин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ять причин, по которым, рекомендуем внедрить синквейн в работе с дошкольникам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простой инструмент для синтеза и обобщения сложной информаци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обогащает словарный запас, подготовка к краткому рассказу и пересказу, учит формулировать идею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приём технологии критического мышле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средство творческого самовыраже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. получается у всех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О ЧЁМ МОЖНО НАПИСАТЬ СИНКВЕЙН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 ЧЁМ МОЖНО НАПИСАТЬ СИНКВЕЙН? О природе; о картине или литературном герое; о папе или маме; о настроении; о временах год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к написать синквейн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рвая строка: одно слово, обычно существительное с идейным содержани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торая строка: два слова. Это прилагательные, обозначающие качество первого сло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ретья строка: три слова, описывающие действие первого слова. «Что делает?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етвёртая строка: фраза или предложение и из трёх-четырёх слов, показывающее личное отношение к первому слов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ятая строка: одно или два слова рекламного характер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5640" y="3246480"/>
            <a:ext cx="457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 ЧЁМ МОЖНО НАПИСАТЬ СИНКВЕЙН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Например: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ор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ысокая, крута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оит, растёт, возвышаетс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Я люблю отдыхать в гор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омантика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859280" y="2060640"/>
            <a:ext cx="355284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116000" y="773280"/>
            <a:ext cx="66960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Где можно практически применить технологию синквейн?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 образовательной деятельност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 самостоятельной деятельности детей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 работе с родителям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а прогулке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 режимных моментах и т.д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редложение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ы предлагаем использовать технологию синквейн в работе с родителями, а именно, при изготовлении лепбука. Что такое лепбук? Какова технология его изготовления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Чем для нас стала привлекательна данная форма работы?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о-первых,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эпбук помогает ребенку по своему желанию организовать информацию по интересующей его теме, лучше понять и запомнить материал.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о-вторых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это отличный способ для повторения пройденного материала. В любое удобное время ребенок просто открывает лэпбук и с радостью повторяет пройденное, рассматривая сделанную своими же руками книжк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-третьих,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бенок учится самостоятельно собирать и организовывать информацию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-четвертых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можно выбрать задания под силу каждому (для малышей – кармашки с карточками или фигурками животных, например, а старшим детям – задания, подразумевающие умение писать и т.д.) Ну и в конце концов, это просто интересн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8T18:12:30Z</dcterms:created>
  <dc:creator>Тумак</dc:creator>
  <dc:description/>
  <dc:language>en-US</dc:language>
  <cp:lastModifiedBy>Тумак</cp:lastModifiedBy>
  <dcterms:modified xsi:type="dcterms:W3CDTF">2016-04-18T19:14:22Z</dcterms:modified>
  <cp:revision>4</cp:revision>
  <dc:subject/>
  <dc:title>Технология синквейн и лепбук - как совместная работа родителей и воспитателя.</dc:title>
</cp:coreProperties>
</file>