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135-E1ED-427B-A4B1-37CA34CB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C1A-6A05-4E7D-BDF5-36821A6A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BE5-3F0F-4680-82E8-90866430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917-E08A-4526-9CF9-47064229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CCB8-2FEF-4986-90E7-1649C031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0B95-7AA4-4742-947F-66A01C0F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1FB8-B80D-4F93-B954-4CE10C3A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387-251E-4061-BAF1-56E2C32D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2C2E-4021-4C2A-80BD-17D64D6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768C-117C-4742-A5CD-CA1F0672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9444-4E74-4694-B0D7-CC66D18A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D41-8267-41A4-8D2F-C65D07C3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F1FE-44D6-41C9-8C75-5CC2D4F3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BF5-7C82-41D1-B572-090ED47C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F85F-0C16-45A7-9F3D-054153B7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DDD6-730C-4C3F-87A5-3EA87A73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1F5E-3982-4D82-A646-0DEFF464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5C4-7CA5-4401-A17B-2B3FE901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F57-35CF-4C8D-B9BA-4E39F670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FF7-6300-400C-AE78-8411A874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DDC-024F-49AA-985E-C8912A74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EB0-4D3E-4099-AB23-300063E7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26C-F6C3-4AAB-B69D-5CC29E7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6B5-9DD6-43A3-BF7F-A4D9CBF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A6A1-027A-4E6D-918A-864C3B4D10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02AA-54FB-44DD-9DD4-BFFD810602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тили семейного воспитания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5280" y="2927520"/>
            <a:ext cx="73915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это наиболее характерные способы отношений родителей к ребенку,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определенные средства и методы воздействия на ребенка, своеобразная манера словесного обращения и взаимодействия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опустительский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состязательный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рассудительный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едупредительный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контролирующий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сочувствующий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Гармоничны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задумываются над тем, какого ребенка хотят вырасти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бенок растет в доброжелательной атмосфер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ольшое внимание уделяется формированию традиций в сем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являют рассудитель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уроках актив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 боятся никакой деятельности, ответствен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пустительски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предоставляют полную свободу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зрослые заняты собой, мало волнует  душевное состояние ребенка, они безразличны к его потребностям и запроса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непроизвольно культивируют поиск у ребенка наиболее выгодных форм взаимодействия с окружающи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е любят ни умственный труд, ни физическ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юбят хвастаться, не умеют искренне сочувствова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 время урока очень быстро устаю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е мотивированы на учебную деятельность, но при этом их интересует конечный результат - оцен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рудно вживаются в детский коллекти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асто попадают в конфликтные ситу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стязательны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и ищут в своем ребенке нечто выдающееся и необычно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ктивность ребенка постоянно поощряетс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тоянно сравнивают своего ребенка с другими и очень страдают, если это сравнение не в пользу их ребен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своей любви к ребенку не обращают на человеческие качества малыш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лишне самоуверенны, при любой неудаче впадают в депресс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ремятся учиться на «отлично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но могут достигать значительных успех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 умеют ответить за нанесенные обиды и не умеют прощ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ссудительны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дают возможность приобрести личный опы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ключают окрики и упреки, физическое наказа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семье теплые и добрые отнош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с энтузиазмом принимают участие в жизни детского коллекти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юбознательны и актив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стоятель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формирована познавательная мотивац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ытывают потребность в постоян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нтролирующи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бенок строго контролируетс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активно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уют методы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каз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 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орошо знают только свои слабые сторо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ытывают высокий уровень тревож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нешне отличаются от товарищ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чебе испытывают труд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бросовестн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9-18T18:01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