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3539-214A-48F2-87F5-46332032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EB20-C28C-4BF5-A426-E28C0F44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6FB1-93C7-4C4E-AA1D-FB90D5E9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5426-64AD-4D5B-80BF-6316827B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C0DF-2D76-4E5E-96C3-C3D54E37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D753-C953-4877-AAC9-78AEB70F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EB84-E6E8-4DEE-9EBB-2699EAE4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3D98-FD94-4C6A-B38F-F55D02A0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FA77-036C-4C65-976D-445C3B39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557E-2700-4321-A5FC-078DACEF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A560-C09E-4473-AE2E-A28B6474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38EA-8191-48DE-BA0A-23B397D6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818B-042F-4434-BCEF-97A60959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CC3E-9261-4309-A8B9-7B00A5A5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44A7-BB53-4D08-AD3C-D7166948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8016-17B5-497A-9FAE-58EDCD8F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9110-3AEE-4C29-8CA0-867B07F7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0E91-5970-4360-AAC6-0433D13C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0A68-C6B9-44BB-9F53-CFBC9E84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030-540B-4C00-8263-CA46470E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479-B24C-4118-9FB3-04456883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2D6C-0518-4066-8703-8638F708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6CF2-0815-4711-93F8-83330F78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52D9-DE91-418C-995F-5E9F45C8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FCA8-7EC6-41AD-BBDA-2D5B3E215C1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0929-9726-47A1-ABB0-4505018D2A2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Стили семейного воспитания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95280" y="2927520"/>
            <a:ext cx="739152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66"/>
                </a:solidFill>
                <a:latin typeface="Arial"/>
              </a:rPr>
              <a:t>это наиболее характерные способы отношений родителей к ребенку,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66"/>
                </a:solidFill>
                <a:latin typeface="Arial"/>
              </a:rPr>
              <a:t>определенные средства и методы воздействия на ребенка, своеобразная манера словесного обращения и взаимодействия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попустительский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состязательный 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рассудительный 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предупредительный 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контролирующий 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сочувствующий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Гармоничный стиль семейного воспит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одители задумываются над тем, какого ребенка хотят вырастить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ебенок растет в доброжелательной атмосфере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большое внимание уделяется формированию традиций в семь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Младшие школьники такого типа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оявляют рассудительность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 уроках активн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е боятся никакой деятельности, ответственн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пустительский стиль семейного воспит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одители предоставляют полную свободу действи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зрослые заняты собой, мало волнует  душевное состояние ребенка, они безразличны к его потребностям и запроса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одители непроизвольно культивируют поиск у ребенка наиболее выгодных форм взаимодействия с окружающим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Младшие школьники такого тип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е любят ни умственный труд, ни физическ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любят хвастаться, не умеют искренне сочувствоват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о время урока очень быстро устают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е мотивированы на учебную деятельность, но при этом их интересует конечный результат - оцен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рудно вживаются в детский коллекти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часто попадают в конфликтные ситу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остязательный стиль семейного воспит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одители ищут в своем ребенке нечто выдающееся и необычно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активность ребенка постоянно поощряетс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стоянно сравнивают своего ребенка с другими и очень страдают, если это сравнение не в пользу их ребен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 своей любви к ребенку не обращают на человеческие качества малыш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Младшие школьники такого типа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злишне самоуверенны, при любой неудаче впадают в депрессию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тремятся учиться на «отлично»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ано могут достигать значительных успехов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е умеют ответить за нанесенные обиды и не умеют проща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ассудительный стиль семейного воспит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одители дают возможность приобрести личный опыт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сключают окрики и упреки, физическое наказание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семье теплые и добрые отноше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одители с энтузиазмом принимают участие в жизни детского коллекти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Младшие школьники такого типа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любознательны и активн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амостоятельн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формирована познавательная мотивац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спытывают потребность в постоянной деятель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Контролирующий стиль семейного воспит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ебенок строго контролируетс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одители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активно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спользуют методы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наказ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Младшие школьники такого типа 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хорошо знают только свои слабые сторон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спытывают высокий уровень тревожност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нешне отличаются от товарище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чебе испытывают трудност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добросовестны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7-09-18T18:01:1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