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4DA-1AB6-431F-918A-C890EC67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BAC-5AEE-45D1-9461-92D780E5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FE6-B49B-44F8-B764-AB9412B7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0D1-6A9D-4DB5-BA2B-65F97F36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AF13-4926-4D74-8B93-C9C8D99D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2504-7215-4B9B-9F41-CA9FDE8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C571-604F-47E6-8D92-3A813AD2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1B0E-F2A8-49F2-B834-CD395287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034F-928A-4489-9401-C5FEAFD4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522A-DB43-4E68-8B73-AFDB5A50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82C5-8452-4252-834D-F7EEA0D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AFD-E992-4A74-BCE0-6298F3D1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6B9F-B216-4626-831D-6148A08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C2D4-E282-41FA-B0F1-2423B07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220A-1B8E-4ACF-A012-0E59709F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C16C-6DFF-4592-8E2C-F4FEA6AD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D58F-B664-4B5E-A777-8C81B513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9DD-B1A6-488E-A074-EBE0F73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9B7-0BF1-46E5-86F7-51A40CE9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827-36AB-4B48-AD8E-772B42E2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5B6-38BD-4DBB-930A-19386D41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A1B-A80C-4D34-B31F-DB5C53D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5AD-9BD4-412B-ABD8-1BA5A10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D31-6F09-41AF-B11B-54032ED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51F5-67DE-4CAA-B3B1-DB4DFB8F20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8CCF-EE08-46D1-BAAA-FD5CBC570E1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609480" y="83808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227160"/>
            <a:ext cx="754380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dcfa7a"/>
                </a:solidFill>
                <a:latin typeface="Arial"/>
              </a:rPr>
              <a:t>Государственное бюджетное дошкольное образовательное учреждение </a:t>
            </a:r>
            <a:br>
              <a:rPr sz="1400"/>
            </a:br>
            <a:r>
              <a:rPr b="1" lang="ru-RU" sz="1400" spc="-1" strike="noStrike">
                <a:solidFill>
                  <a:srgbClr val="dcfa7a"/>
                </a:solidFill>
                <a:latin typeface="Arial"/>
              </a:rPr>
              <a:t>детский сад № 22 Колпинского района Санкт-Петербурга</a:t>
            </a:r>
            <a:br>
              <a:rPr sz="1400"/>
            </a:br>
            <a:br>
              <a:rPr sz="1400"/>
            </a:br>
            <a:r>
              <a:rPr b="1" lang="ru-RU" sz="2400" spc="-1" strike="noStrike">
                <a:solidFill>
                  <a:srgbClr val="370cee"/>
                </a:solidFill>
                <a:latin typeface="Arial"/>
              </a:rPr>
              <a:t>«ПРИОБЩЕНИЕ ДЕТЕЙ К ИСТОКАМ </a:t>
            </a:r>
            <a:br>
              <a:rPr sz="2400"/>
            </a:br>
            <a:r>
              <a:rPr b="1" lang="ru-RU" sz="2400" spc="-1" strike="noStrike">
                <a:solidFill>
                  <a:srgbClr val="370cee"/>
                </a:solidFill>
                <a:latin typeface="Arial"/>
              </a:rPr>
              <a:t>РУССКОЙ НАРОДНОЙ КУЛЬТУРЫ ПОСРЕДСТВОМ УСТНОГО НАРОДНОГО ТВОРЧЕСТВА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0cee"/>
                </a:solidFill>
                <a:latin typeface="Arial"/>
              </a:rPr>
              <a:t>Воспитатель: 1 квалификационной категор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fa7a"/>
                </a:solidFill>
                <a:latin typeface="Arial"/>
              </a:rPr>
              <a:t>Щевелева Наталья Владимиро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14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9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9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9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6966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 свидания! 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 новых встреч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fa7a"/>
                </a:solidFill>
                <a:latin typeface="Arial"/>
              </a:rPr>
              <a:t>ФОЛЬКЛО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152280" y="3657600"/>
            <a:ext cx="2133720" cy="838080"/>
          </a:xfrm>
          <a:custGeom>
            <a:avLst/>
            <a:gdLst>
              <a:gd name="textAreaLeft" fmla="*/ 0 w 2133720"/>
              <a:gd name="textAreaRight" fmla="*/ 2134080 w 213372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кли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3429000" y="5486400"/>
            <a:ext cx="2133720" cy="838080"/>
          </a:xfrm>
          <a:custGeom>
            <a:avLst/>
            <a:gdLst>
              <a:gd name="textAreaLeft" fmla="*/ 0 w 2133720"/>
              <a:gd name="textAreaRight" fmla="*/ 2134080 w 213372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каз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1066680" y="2514600"/>
            <a:ext cx="2133720" cy="838080"/>
          </a:xfrm>
          <a:custGeom>
            <a:avLst/>
            <a:gdLst>
              <a:gd name="textAreaLeft" fmla="*/ 0 w 2133720"/>
              <a:gd name="textAreaRight" fmla="*/ 2134080 w 213372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усские народны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есен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990720" y="4952880"/>
            <a:ext cx="2133360" cy="838440"/>
          </a:xfrm>
          <a:custGeom>
            <a:avLst/>
            <a:gdLst>
              <a:gd name="textAreaLeft" fmla="*/ 0 w 2133360"/>
              <a:gd name="textAreaRight" fmla="*/ 2133720 w 2133360"/>
              <a:gd name="textAreaTop" fmla="*/ 108720 h 838440"/>
              <a:gd name="textAreaBottom" fmla="*/ 7297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ыбельн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есен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5334120" y="4572000"/>
            <a:ext cx="2133360" cy="838080"/>
          </a:xfrm>
          <a:custGeom>
            <a:avLst/>
            <a:gdLst>
              <a:gd name="textAreaLeft" fmla="*/ 0 w 2133360"/>
              <a:gd name="textAreaRight" fmla="*/ 2133720 w 213336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словицы 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говор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AutoShape 16"/>
          <p:cNvSpPr/>
          <p:nvPr/>
        </p:nvSpPr>
        <p:spPr>
          <a:xfrm>
            <a:off x="4800600" y="2743200"/>
            <a:ext cx="2133720" cy="838080"/>
          </a:xfrm>
          <a:custGeom>
            <a:avLst/>
            <a:gdLst>
              <a:gd name="textAreaLeft" fmla="*/ 0 w 2133720"/>
              <a:gd name="textAreaRight" fmla="*/ 2134080 w 213372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теш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3048120" y="3657600"/>
            <a:ext cx="2133360" cy="838080"/>
          </a:xfrm>
          <a:custGeom>
            <a:avLst/>
            <a:gdLst>
              <a:gd name="textAreaLeft" fmla="*/ 0 w 2133360"/>
              <a:gd name="textAreaRight" fmla="*/ 2133720 w 213336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f917"/>
                </a:solidFill>
                <a:latin typeface="Arial"/>
              </a:rPr>
              <a:t>Колыбельные пес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386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cee"/>
                </a:solidFill>
                <a:latin typeface="Arial"/>
              </a:rPr>
              <a:t>Формируют грамматический строй реч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cee"/>
                </a:solidFill>
                <a:latin typeface="Arial"/>
              </a:rPr>
              <a:t>Развивают фонематический слух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cee"/>
                </a:solidFill>
                <a:latin typeface="Arial"/>
              </a:rPr>
              <a:t>Способствуют формированию   образной речи дошкольник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cee"/>
                </a:solidFill>
                <a:latin typeface="Arial"/>
              </a:rPr>
              <a:t>Словесному творчеству де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5"/>
          <a:stretch/>
        </p:blipFill>
        <p:spPr>
          <a:xfrm>
            <a:off x="3276720" y="39625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f917"/>
                </a:solidFill>
                <a:latin typeface="Arial"/>
              </a:rPr>
              <a:t>Пословицы и поговор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0cee"/>
                </a:solidFill>
                <a:latin typeface="Arial"/>
              </a:rPr>
              <a:t>Пословица-это краткое, ритмически организованное, устойчивое в речи, образное народное изречен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0cee"/>
                </a:solidFill>
                <a:latin typeface="Arial"/>
              </a:rPr>
              <a:t>Поговорка-это меткое слово, образное выраж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1943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f917"/>
                </a:solidFill>
                <a:latin typeface="Arial"/>
              </a:rPr>
              <a:t>Пословицы и поговор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914040"/>
            <a:ext cx="7386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0cee"/>
                </a:solidFill>
                <a:latin typeface="Arial"/>
              </a:rPr>
              <a:t>Используются в младшем дошкольном возраст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4f917"/>
                </a:solidFill>
                <a:latin typeface="Arial"/>
              </a:rPr>
              <a:t>для выработки дик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f917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4f917"/>
                </a:solidFill>
                <a:latin typeface="Arial"/>
              </a:rPr>
              <a:t>для развития артикуляционного аппара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f917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4f917"/>
                </a:solidFill>
                <a:latin typeface="Arial"/>
              </a:rPr>
              <a:t>для обогащения словарного   запас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66688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70cee"/>
                </a:solidFill>
                <a:latin typeface="Arial"/>
              </a:rPr>
              <a:t>Игровое упражнение</a:t>
            </a:r>
            <a:br>
              <a:rPr sz="3600"/>
            </a:br>
            <a:r>
              <a:rPr b="0" lang="ru-RU" sz="3600" spc="-1" strike="noStrike">
                <a:solidFill>
                  <a:srgbClr val="370cee"/>
                </a:solidFill>
                <a:latin typeface="Arial"/>
              </a:rPr>
              <a:t>«Угадай пословицу»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5410080"/>
            <a:ext cx="7386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1752480"/>
            <a:ext cx="48765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f917"/>
                </a:solidFill>
                <a:latin typeface="Arial"/>
              </a:rPr>
              <a:t>Без печки холодно, без хлеба…</a:t>
            </a:r>
            <a:r>
              <a:rPr b="1" lang="ru-RU" sz="1800" spc="-1" strike="noStrike">
                <a:solidFill>
                  <a:srgbClr val="f4f917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1055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голодн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04920" y="2895480"/>
            <a:ext cx="40384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917"/>
                </a:solidFill>
                <a:latin typeface="Arial"/>
              </a:rPr>
              <a:t>Не шуба греет, а 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105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хле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04920" y="3886200"/>
            <a:ext cx="48765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917"/>
                </a:solidFill>
                <a:latin typeface="Arial"/>
              </a:rPr>
              <a:t>Не будет хлеба, не будет и …</a:t>
            </a:r>
            <a:r>
              <a:rPr b="1" lang="ru-RU" sz="1800" spc="-1" strike="noStrike">
                <a:solidFill>
                  <a:srgbClr val="f4f917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105520" y="3886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обе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80880" y="4952880"/>
            <a:ext cx="39625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917"/>
                </a:solidFill>
                <a:latin typeface="Arial"/>
              </a:rPr>
              <a:t>Хлеб на столе и стол 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029200" y="4952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расцвё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0cee"/>
                </a:solidFill>
                <a:latin typeface="Arial"/>
              </a:rPr>
              <a:t>«Угадай пословицу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76320" y="1447920"/>
            <a:ext cx="5410080" cy="83808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917"/>
                </a:solidFill>
                <a:latin typeface="Arial"/>
              </a:rPr>
              <a:t>За (какой?) головой, как за каменной сте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5748480" y="3124080"/>
            <a:ext cx="1904760" cy="114300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0cee"/>
                </a:solidFill>
                <a:latin typeface="Arial"/>
              </a:rPr>
              <a:t>(верную, долгую, красивую)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5748480" y="5029200"/>
            <a:ext cx="1904760" cy="106668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0cee"/>
                </a:solidFill>
                <a:latin typeface="Arial"/>
              </a:rPr>
              <a:t>(добра, встреч, помощ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111240" y="4267080"/>
            <a:ext cx="5451480" cy="76212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917"/>
                </a:solidFill>
                <a:latin typeface="Arial"/>
              </a:rPr>
              <a:t>Худо тому, кто (что?) не делает никому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Прямоугольник 8"/>
          <p:cNvSpPr/>
          <p:nvPr/>
        </p:nvSpPr>
        <p:spPr>
          <a:xfrm>
            <a:off x="5748480" y="1676520"/>
            <a:ext cx="1904760" cy="114300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0cee"/>
                </a:solidFill>
                <a:latin typeface="Arial"/>
              </a:rPr>
              <a:t>(умной, большой, старой)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Прямоугольник 9"/>
          <p:cNvSpPr/>
          <p:nvPr/>
        </p:nvSpPr>
        <p:spPr>
          <a:xfrm>
            <a:off x="76320" y="2819520"/>
            <a:ext cx="5181480" cy="76176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917"/>
                </a:solidFill>
                <a:latin typeface="Arial"/>
              </a:rPr>
              <a:t>(Какую?) дружбу и топором не разрубишь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3"/>
          <p:cNvSpPr/>
          <p:nvPr/>
        </p:nvSpPr>
        <p:spPr>
          <a:xfrm>
            <a:off x="457200" y="533520"/>
            <a:ext cx="3657600" cy="91440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917"/>
                </a:solidFill>
                <a:latin typeface="Arial"/>
              </a:rPr>
              <a:t>(Какое?) слово до сердца доходит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4896000" y="1353960"/>
            <a:ext cx="2819160" cy="91440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0cee"/>
                </a:solidFill>
                <a:latin typeface="Arial"/>
              </a:rPr>
              <a:t>(длинное, сердечное, непонятное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484200" y="2671920"/>
            <a:ext cx="3630600" cy="91440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917"/>
                </a:solidFill>
                <a:latin typeface="Arial"/>
              </a:rPr>
              <a:t>(Какое?) слово, что дождь в засух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Прямоугольник 6"/>
          <p:cNvSpPr/>
          <p:nvPr/>
        </p:nvSpPr>
        <p:spPr>
          <a:xfrm>
            <a:off x="4869000" y="3363840"/>
            <a:ext cx="2819160" cy="91440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0cee"/>
                </a:solidFill>
                <a:latin typeface="Arial"/>
              </a:rPr>
              <a:t>(доброе, короткое, весёлое)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Прямоугольник 7"/>
          <p:cNvSpPr/>
          <p:nvPr/>
        </p:nvSpPr>
        <p:spPr>
          <a:xfrm>
            <a:off x="484200" y="4789440"/>
            <a:ext cx="3630600" cy="91440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917"/>
                </a:solidFill>
                <a:latin typeface="Arial"/>
              </a:rPr>
              <a:t>Людям забота, как воздух нужна, стать всем (какими?) поможет о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4838760" y="5638680"/>
            <a:ext cx="2819520" cy="914400"/>
          </a:xfrm>
          <a:prstGeom prst="rect">
            <a:avLst/>
          </a:prstGeom>
          <a:solidFill>
            <a:srgbClr val="d5b781"/>
          </a:solidFill>
          <a:ln w="1260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0cee"/>
                </a:solidFill>
                <a:latin typeface="Arial"/>
              </a:rPr>
              <a:t>(выше, богаче, добрее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0cee"/>
                </a:solidFill>
                <a:latin typeface="Arial"/>
              </a:rPr>
              <a:t>Приобщая детей к восприятию пословиц как фольклорного жанра, мы развиваем нравственные качества личности, образное мышление, обогащаем речь, используя разнообразные приёмы, которые позволяют сделать эту работу интересной и наиболее эффективной, для формирования нравственных качеств каждого ребён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7-03-18T07:39:5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