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1D2-DDC7-401C-BB03-91C70EA2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9D4-C288-44C0-AB41-5B122FA6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B18-D1FF-4A23-958D-9B440123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9E9-CB2B-4CDE-9620-22D392CD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59A-D76F-4545-BB29-64E5EEF3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1AE-A1B8-4310-9AF5-C356ECB1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D26-A624-464D-805D-D295695F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BA6-F4C7-4434-AD36-04B334D1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B20-A5A5-4AFF-8857-300781A3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E0B-6229-4306-9641-1D737612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8BD-9128-4792-95E9-EE622F41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C9A-5283-4ECE-A015-B2431E6A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507D-0AF5-45F4-B390-7065DD426A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133360"/>
            <a:ext cx="6400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классного руководителя в повышении качества обучения шк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ьная организация работы с класс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ь учащих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ые” ученики чувствуют уверенность в своих сил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е” ученики ощущают необходимость и пользу в помощи товарищ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взять ответственность на себ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детей самостоятельно решать небольшие, но все же проблемы, самостоятельно исследовать 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аргументировать свои реш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легкое и прочное усвоение программного матери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желательное отношение друг к друг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щательность и добросовестность в выполнении раб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работать с разными источниками информ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организовать не только свою работу, но и работу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итель должен быть всегда молоды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 - молод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озор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 - любознате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отзывчив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 - добродуш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оптимис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- созидат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 - твор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Ь – для смягчения жизненного нега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84360" y="4869000"/>
            <a:ext cx="77752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332000" y="2205000"/>
            <a:ext cx="6335640" cy="26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619280" y="333360"/>
            <a:ext cx="5905440" cy="187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916360" y="27813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даго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492360" y="4941720"/>
            <a:ext cx="40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059280" y="1557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SCN2611"/>
          <p:cNvPicPr/>
          <p:nvPr/>
        </p:nvPicPr>
        <p:blipFill>
          <a:blip r:embed="rId1"/>
          <a:stretch/>
        </p:blipFill>
        <p:spPr>
          <a:xfrm>
            <a:off x="324000" y="260280"/>
            <a:ext cx="828036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а горд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40"/>
          <p:cNvPicPr/>
          <p:nvPr/>
        </p:nvPicPr>
        <p:blipFill>
          <a:blip r:embed="rId1"/>
          <a:stretch/>
        </p:blipFill>
        <p:spPr>
          <a:xfrm rot="665400">
            <a:off x="4642920" y="1413000"/>
            <a:ext cx="3457800" cy="263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045"/>
          <p:cNvPicPr/>
          <p:nvPr/>
        </p:nvPicPr>
        <p:blipFill>
          <a:blip r:embed="rId2"/>
          <a:stretch/>
        </p:blipFill>
        <p:spPr>
          <a:xfrm>
            <a:off x="1763640" y="3755880"/>
            <a:ext cx="4608720" cy="310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041"/>
          <p:cNvPicPr/>
          <p:nvPr/>
        </p:nvPicPr>
        <p:blipFill>
          <a:blip r:embed="rId3"/>
          <a:stretch/>
        </p:blipFill>
        <p:spPr>
          <a:xfrm rot="21312000">
            <a:off x="468360" y="1267920"/>
            <a:ext cx="345600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ы, влияющие на успеваемость и качество знаний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атмосферы эмоционального комфо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познавательного интереса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учёбой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ое развитие педаго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удности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ть и слышать, запоминать и воспроизводить изученный материал, организовать   рабочее место и поддерживать поряд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ться  в работу, работать в заданном темпе, доводить дело до кон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овали прилежание, интерес к учебно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и определение круга реальных учебных возможностей каждого ученика, его ближайшей зоны разви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зание помощи ученикам в развитии индивидуальных способностей - действовать целесообразно, мыслить рационально и эффективно проявлять себя в окружающей сре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00_4156"/>
          <p:cNvPicPr/>
          <p:nvPr/>
        </p:nvPicPr>
        <p:blipFill>
          <a:blip r:embed="rId1"/>
          <a:stretch/>
        </p:blipFill>
        <p:spPr>
          <a:xfrm>
            <a:off x="539640" y="260280"/>
            <a:ext cx="5040360" cy="302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P1010817"/>
          <p:cNvPicPr/>
          <p:nvPr/>
        </p:nvPicPr>
        <p:blipFill>
          <a:blip r:embed="rId2"/>
          <a:stretch/>
        </p:blipFill>
        <p:spPr>
          <a:xfrm>
            <a:off x="5867280" y="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P1020956"/>
          <p:cNvPicPr/>
          <p:nvPr/>
        </p:nvPicPr>
        <p:blipFill>
          <a:blip r:embed="rId3"/>
          <a:stretch/>
        </p:blipFill>
        <p:spPr>
          <a:xfrm>
            <a:off x="5110200" y="4487760"/>
            <a:ext cx="4033800" cy="237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P1020950"/>
          <p:cNvPicPr/>
          <p:nvPr/>
        </p:nvPicPr>
        <p:blipFill>
          <a:blip r:embed="rId4"/>
          <a:stretch/>
        </p:blipFill>
        <p:spPr>
          <a:xfrm>
            <a:off x="5796000" y="242100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P1020965"/>
          <p:cNvPicPr/>
          <p:nvPr/>
        </p:nvPicPr>
        <p:blipFill>
          <a:blip r:embed="rId5"/>
          <a:stretch/>
        </p:blipFill>
        <p:spPr>
          <a:xfrm>
            <a:off x="611280" y="3573360"/>
            <a:ext cx="42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мотивацию к учению каждого ребенка, изучая его возрастные и индивидуальные особ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ировать выбор форм и методов индивидуальной и групповой внеклассной деятельности, организовывать участие класса в общешкольных мероприят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кать школьников к работе в творческих объединениях по интересам, действующих в шко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2:25:47Z</dcterms:created>
  <dc:creator>User</dc:creator>
  <dc:description/>
  <dc:language>en-US</dc:language>
  <cp:lastModifiedBy>User</cp:lastModifiedBy>
  <dcterms:modified xsi:type="dcterms:W3CDTF">2017-09-16T03:14:29Z</dcterms:modified>
  <cp:revision>4</cp:revision>
  <dc:subject/>
  <dc:title>Слайд 1</dc:title>
</cp:coreProperties>
</file>