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AFA-2CFB-40B9-BF13-BD4C3B23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E52-64B7-4EFD-99B0-70CD035D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ECE-C25F-423A-BD58-E6470B33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E8F-D870-4636-8174-F22A7D7A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F76E-20E2-41D0-A349-9ED667DB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A0FB-C560-45D2-9F70-0CE4F924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07F2-892D-4D83-A425-256B1470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1B8E-59DD-458A-8F62-EE9395F8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508C-958B-4666-84AF-00C1895B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8B47-E209-44C6-851A-E7BE2691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BA73-16EA-408F-841F-AF16B992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BC6-0520-4E42-93DC-32CFA9E5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0507-D088-4C41-B67A-CF3CDAA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DC7F-EB56-4B27-952F-DA90BD3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1557-32A2-4498-9EA2-E78F518F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A160-1C9A-4EFA-90CD-8F375178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5832-0777-452E-B4D2-7B03B22E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F10-947B-4793-9BBB-6DB56CB5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740-B4E3-4D6B-AC29-6F6F4E75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291-C95F-4E81-834D-EDCA2FD3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40A-6A15-45E5-BF27-5206BDD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DB5-7721-4688-AF4A-8B183D7E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BDD-DA34-4F41-8DE5-CBC4F1AC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AAE-40A9-457A-9505-7590C356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CCD7-42AB-4779-8AE7-79CAD65CF5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AABA-C155-4A50-BD36-4684593020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усский язык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удо-птица – алый хво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етела в стаю звез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56228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«Роль глаголов в языке»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егодня я узнал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Теперь я умею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Мне было трудно 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пасибо за внимание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9T16:36:23Z</dcterms:created>
  <dc:creator>ЯЯЯЯЯЯЯЯЯЯЯЯЯЯЯЯЯЯЯ</dc:creator>
  <dc:description/>
  <dc:language>en-US</dc:language>
  <cp:lastModifiedBy>User</cp:lastModifiedBy>
  <dcterms:modified xsi:type="dcterms:W3CDTF">2017-03-19T16:44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