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CD3-188D-4DEC-BC5D-36D97E4D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9EA-9CB8-47BD-B1F6-204A3EA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E34-6602-4D85-B589-8711E95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BEA-9872-434D-91E2-4462B1DE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F73-E07B-4E16-947D-F96F4243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BC5-0BFA-4D8C-84D8-84B8CFD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5F9-6C85-40BE-AE71-ADEC1942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A125-D7AD-4007-AD22-F3094E77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CA7F-47AE-4179-8D28-6429CFB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168-2004-4AC6-87B0-63E5FC7A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59AC-9594-49A5-B180-5CD02380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878-78C5-466F-AC10-5E255663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5CD5-1432-4326-829F-3FF5632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363D-3977-4925-AA25-7BC7ED1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3A3D-62ED-437E-8706-51A71404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2B7D-9D58-43F3-AC6F-ED1BB62C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5AA0-9A87-400C-AA0F-F1B01CE2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D55-84D3-4705-B3D9-82D38B4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7B0-6E2D-47BD-8870-13589664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2BE-E0DC-481D-A834-C920C1A9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B7B-D7BE-47FE-918D-E01AC343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31A-1230-4E05-87A7-1EF16CB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CEF-385B-4E0D-805B-21389ED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4BD-C484-4A6E-8177-873DF02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10B-DA69-4142-BA5C-0BB5D1EE2D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034-8225-41C7-B8CF-0B7F417017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удо-птица – алый хв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етела в стаю звез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5622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«Роль глаголов в языке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егодня я узнал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Теперь я умею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Мне было трудно 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9T16:36:23Z</dcterms:created>
  <dc:creator>ЯЯЯЯЯЯЯЯЯЯЯЯЯЯЯЯЯЯЯ</dc:creator>
  <dc:description/>
  <dc:language>en-US</dc:language>
  <cp:lastModifiedBy>User</cp:lastModifiedBy>
  <dcterms:modified xsi:type="dcterms:W3CDTF">2017-03-19T16:44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