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DAC-4441-48A4-975C-99DA475C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9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997-9C98-43DC-A029-FA454013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110-C758-4CDB-B220-EBFA1B5D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094-2197-491C-98D0-140B6A1C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15E8-57EA-4393-B7D8-CD024034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88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6316-47AF-47CA-BD40-F0783695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88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4E9F-106D-444C-A46B-0DC647E0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CF0F-FAFA-41D3-A5F1-B902A861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CCE8-710E-4246-A13B-0974B99C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532F-81F6-4045-A974-0308E486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9829-4540-45C8-BC2C-6C0284EF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88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041-0EA2-437D-B6B2-4A6C1A96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97D4-56F7-4817-A6F9-C91E7933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EC14-17C6-4FA9-9438-4BC4717A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9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F6F1-A30A-4C73-A0DE-C93C92F8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5729-F187-4701-9544-94024A69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92CA-B08B-4496-BE45-4CA9F335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38AD-0514-4618-8564-C9D46F54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88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80A57-6854-47D6-B163-19899388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88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E6DE9-15E3-46FF-8021-F4F4A57C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7BF9-104D-4B93-AA18-2C34A424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1E964-D998-4776-80D1-4BDD588A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88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05B-32E7-44D6-B160-8CD4C25A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9D57-127B-4BE9-993F-5531ED10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91628-FFA4-4BB2-8BCB-CC8F59C2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7076-A4DF-4070-BBB0-70E56B62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C5E0E-4DBC-43DA-96B1-8619CBFD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0989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E42BD-0F22-49FE-AE12-6D46ECF8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3DF60-9F5A-4B17-9AA4-A641AE9F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5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098960"/>
            <a:ext cx="253944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15FE-568E-418C-92D8-322C09AB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8A5-2B10-432A-85AC-E901E3E2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9F0-3BAC-4B99-B75D-7DB20A29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69E-18E5-426A-896F-A82AD74A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C58-163F-427C-810C-BCD0B7E7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43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9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3405-7C16-4192-9F52-5C18F9C6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560"/>
            <a:ext cx="384876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960"/>
            <a:ext cx="7886880" cy="20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B93-53D2-4156-A87A-8B23FF03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7"/>
          <p:cNvSpPr/>
          <p:nvPr/>
        </p:nvSpPr>
        <p:spPr>
          <a:xfrm>
            <a:off x="503640" y="440640"/>
            <a:ext cx="8137080" cy="597672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513e1b"/>
              </a:solidFill>
              <a:latin typeface="맑은 고딕"/>
              <a:ea typeface="맑은 고딕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22840"/>
            <a:ext cx="7772760" cy="2387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7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628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7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4DE2161-0B2E-422D-9DEB-30B74D8A5E1C}" type="slidenum">
              <a: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±¼¸²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±¼¸²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±¼¸²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±¼¸²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±¼¸²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±¼¸²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±¼¸²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직사각형 7"/>
          <p:cNvSpPr/>
          <p:nvPr/>
        </p:nvSpPr>
        <p:spPr>
          <a:xfrm>
            <a:off x="503640" y="440640"/>
            <a:ext cx="8137080" cy="597672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513e1b"/>
              </a:solidFill>
              <a:latin typeface="맑은 고딕"/>
              <a:ea typeface="맑은 고딕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7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628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7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CEB86E4-3B30-4F91-92E7-3FFC8D5910B7}" type="slidenum">
              <a: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±¼¸²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±¼¸²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±¼¸²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±¼¸²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±¼¸²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±¼¸²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±¼¸²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±¼¸²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직사각형 7"/>
          <p:cNvSpPr/>
          <p:nvPr/>
        </p:nvSpPr>
        <p:spPr>
          <a:xfrm>
            <a:off x="503640" y="440640"/>
            <a:ext cx="8137080" cy="597672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513e1b"/>
              </a:solidFill>
              <a:latin typeface="맑은 고딕"/>
              <a:ea typeface="맑은 고딕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6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880" cy="4352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dit Master text styles</a:t>
            </a:r>
            <a:endParaRPr b="0" lang="en-US" sz="2800" spc="-1" strike="noStrike">
              <a:solidFill>
                <a:srgbClr val="000000"/>
              </a:solidFill>
              <a:latin typeface="±¼¸²"/>
            </a:endParaRPr>
          </a:p>
          <a:p>
            <a:pPr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±¼¸²"/>
            </a:endParaRPr>
          </a:p>
          <a:p>
            <a:pPr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±¼¸²"/>
            </a:endParaRPr>
          </a:p>
          <a:p>
            <a:pPr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  <a:p>
            <a:pPr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7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628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7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59AE630-8003-44C8-9A7C-789BD42F41ED}" type="slidenum">
              <a:rPr b="0" lang="en-US" sz="1200" spc="-1" strike="noStrike">
                <a:solidFill>
                  <a:srgbClr val="8b8b8b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809640"/>
            <a:ext cx="7772760" cy="1492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  <a:ea typeface="Segoe UI"/>
              </a:rPr>
              <a:t>Пр</a:t>
            </a:r>
            <a:r>
              <a:rPr b="0" lang="ru-RU" sz="4400" spc="-1" strike="noStrike">
                <a:solidFill>
                  <a:srgbClr val="000000"/>
                </a:solidFill>
                <a:latin typeface="Segoe UI"/>
                <a:ea typeface="Segoe UI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Segoe UI"/>
                <a:ea typeface="Segoe UI"/>
              </a:rPr>
              <a:t>зентация на тему ,,Треугольник".</a:t>
            </a:r>
            <a:endParaRPr b="0" lang="en-US" sz="44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43000" y="2936880"/>
            <a:ext cx="6604200" cy="309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1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Презентацию выполняли ученицы 5Б класса Патрикова Дарья и Бухтеева  Александ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briola"/>
                <a:ea typeface="Gabriola"/>
              </a:rPr>
              <a:t>Учитель:  </a:t>
            </a:r>
            <a:r>
              <a:rPr b="0" lang="en-US" sz="2800" spc="-1" strike="noStrike">
                <a:solidFill>
                  <a:srgbClr val="000000"/>
                </a:solidFill>
                <a:latin typeface="Segoe Script"/>
                <a:ea typeface="Segoe Script"/>
              </a:rPr>
              <a:t>Аверкина Е. В.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  <a:ea typeface="Segoe Script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Segoe Script"/>
                <a:ea typeface="Segoe Script"/>
              </a:rPr>
              <a:t>2016-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C:/Users/111/AppData/Roaming/PolarisOffice/ETemp/9332_22716528/fImage10235418041.jpeg"/>
          <p:cNvPicPr/>
          <p:nvPr/>
        </p:nvPicPr>
        <p:blipFill>
          <a:blip r:embed="rId1"/>
          <a:stretch/>
        </p:blipFill>
        <p:spPr>
          <a:xfrm>
            <a:off x="-78840" y="-15840"/>
            <a:ext cx="9239040" cy="690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C:/Users/111/AppData/Roaming/PolarisOffice/ETemp/9332_22716528/fImage714961818467.jpeg"/>
          <p:cNvPicPr/>
          <p:nvPr/>
        </p:nvPicPr>
        <p:blipFill>
          <a:blip r:embed="rId1"/>
          <a:stretch/>
        </p:blipFill>
        <p:spPr>
          <a:xfrm>
            <a:off x="507960" y="380880"/>
            <a:ext cx="8128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C:/Users/111/AppData/Roaming/PolarisOffice/ETemp/9332_22716528/fImage653731846334.jpeg"/>
          <p:cNvPicPr/>
          <p:nvPr/>
        </p:nvPicPr>
        <p:blipFill>
          <a:blip r:embed="rId1"/>
          <a:stretch/>
        </p:blipFill>
        <p:spPr>
          <a:xfrm>
            <a:off x="365040" y="444600"/>
            <a:ext cx="8255160" cy="61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C:/Users/111/AppData/Roaming/PolarisOffice/ETemp/9332_22716528/fImage887571856500.jpeg"/>
          <p:cNvPicPr/>
          <p:nvPr/>
        </p:nvPicPr>
        <p:blipFill>
          <a:blip r:embed="rId1"/>
          <a:stretch/>
        </p:blipFill>
        <p:spPr>
          <a:xfrm>
            <a:off x="428760" y="349200"/>
            <a:ext cx="820764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C:/Users/111/AppData/Roaming/PolarisOffice/ETemp/9332_22716528/fImage1212411889169.jpeg"/>
          <p:cNvPicPr/>
          <p:nvPr/>
        </p:nvPicPr>
        <p:blipFill>
          <a:blip r:embed="rId1"/>
          <a:stretch/>
        </p:blipFill>
        <p:spPr>
          <a:xfrm>
            <a:off x="0" y="-95400"/>
            <a:ext cx="919188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747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Спасибо за просмотр!</a:t>
            </a:r>
            <a:endParaRPr b="0" lang="en-US" sz="4400" spc="-1" strike="noStrike">
              <a:solidFill>
                <a:srgbClr val="000000"/>
              </a:solidFill>
              <a:latin typeface="±¼¸²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39280" y="3429000"/>
            <a:ext cx="1419480" cy="3018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±¼¸²"/>
              <a:ea typeface="±¼¸²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theme wood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heme wood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heme wood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Pages>7</Pages>
  <Words>32</Words>
  <Characters>0</Characters>
  <CharactersWithSpaces>0</CharactersWithSpaces>
  <Paragraphs>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9-18T05:10:45Z</dcterms:modified>
  <cp:revision>4</cp:revision>
  <dc:subject/>
  <dc:title>Презентация на тему ,,Треугольник"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