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DC6-AB3D-48EF-B039-3805E3EF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9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D7A-F441-49BC-9B71-510A2D0E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AFE-B543-4CB3-92E7-855D6E6B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D11-3EEE-4ACE-A9C8-59F4861B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E505-F858-44B0-A26C-2F50317B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88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D6B3-842F-44E7-9DAD-532562CE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88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7F5E-47E1-4992-8914-8A762A92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A12F-6B71-4CFF-8CD8-72B31DD5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C8A9-61B5-4E03-B92F-DB6D484B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18F2-FFD3-4A1F-9227-E258F551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1FA8-DB36-4C08-A8BB-FF7BDA9E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88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172-3982-448D-ACDB-277CAA3D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0CA5-F467-4612-BBD0-1FBE3EE2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ABCC-48BB-4125-8707-33EE12F3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9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E519-0668-452B-BB36-254E9D59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A479-62D1-41DD-939E-CD74AB1D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78AE-DFB2-4712-99FB-7738CEA3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CF0AA-1A54-443C-85F0-812D2AEF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88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DD088-EF92-4170-9938-3DD6B428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88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2492C-7E51-40EC-906C-60FB7354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EEBB0-CE3E-4298-8AF0-0882BB49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60DF-1A15-4B12-930D-B28D0D5A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88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FD3-31A2-4A41-8F3A-53AAAC13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A8C5D-2F4E-4145-A057-02DC474E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9F96A-2FEC-4DC1-9020-4BC488E7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C6599-9154-44A8-ACDA-6CE0C1F7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80E9-9DE1-442D-B226-39364DB8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0989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D9E3-18DE-4157-8F15-2F6BF4CA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44F07-EADE-48ED-B6BA-F4919244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65F6C-8ACF-4D60-B27C-686A090E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BA0-C4A3-4527-B594-C7DBA876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2A24-B1BF-4DEC-8EAD-4F8A831F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FFE-6681-4BE8-8B1C-42107436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B59-FEA6-4CBB-80CD-68079BCA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C9F-EB17-4974-8E63-FBB65C79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95D7-5E54-4CC0-B680-6FA1F847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7"/>
          <p:cNvSpPr/>
          <p:nvPr/>
        </p:nvSpPr>
        <p:spPr>
          <a:xfrm>
            <a:off x="503640" y="440640"/>
            <a:ext cx="8137080" cy="597672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513e1b"/>
              </a:solidFill>
              <a:latin typeface="맑은 고딕"/>
              <a:ea typeface="맑은 고딕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22840"/>
            <a:ext cx="7772760" cy="2387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7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628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7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BEC88A7-B129-4CE2-85B0-5D475A901B84}" type="slidenum">
              <a: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±¼¸²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±¼¸²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±¼¸²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±¼¸²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±¼¸²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±¼¸²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±¼¸²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직사각형 7"/>
          <p:cNvSpPr/>
          <p:nvPr/>
        </p:nvSpPr>
        <p:spPr>
          <a:xfrm>
            <a:off x="503640" y="440640"/>
            <a:ext cx="8137080" cy="597672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513e1b"/>
              </a:solidFill>
              <a:latin typeface="맑은 고딕"/>
              <a:ea typeface="맑은 고딕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7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628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7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168F6D1-8421-4D62-8598-247E7CE16B63}" type="slidenum">
              <a: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±¼¸²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±¼¸²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±¼¸²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±¼¸²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±¼¸²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±¼¸²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±¼¸²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±¼¸²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직사각형 7"/>
          <p:cNvSpPr/>
          <p:nvPr/>
        </p:nvSpPr>
        <p:spPr>
          <a:xfrm>
            <a:off x="503640" y="440640"/>
            <a:ext cx="8137080" cy="597672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513e1b"/>
              </a:solidFill>
              <a:latin typeface="맑은 고딕"/>
              <a:ea typeface="맑은 고딕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880" cy="4352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dit Master text styles</a:t>
            </a: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  <a:p>
            <a:pPr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±¼¸²"/>
            </a:endParaRPr>
          </a:p>
          <a:p>
            <a:pPr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  <a:p>
            <a:pPr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  <a:p>
            <a:pPr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7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628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7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7144E85-BB41-47FA-8312-535E54DF822A}" type="slidenum">
              <a: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809640"/>
            <a:ext cx="7772760" cy="1492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  <a:ea typeface="Segoe UI"/>
              </a:rPr>
              <a:t>Пр</a:t>
            </a:r>
            <a:r>
              <a:rPr b="0" lang="ru-RU" sz="4400" spc="-1" strike="noStrike">
                <a:solidFill>
                  <a:srgbClr val="000000"/>
                </a:solidFill>
                <a:latin typeface="Segoe UI"/>
                <a:ea typeface="Segoe UI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Segoe UI"/>
                <a:ea typeface="Segoe UI"/>
              </a:rPr>
              <a:t>зентация на тему ,,Треугольник".</a:t>
            </a:r>
            <a:endParaRPr b="0" lang="en-US" sz="44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43000" y="2936880"/>
            <a:ext cx="6604200" cy="309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1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Презентацию выполняли ученицы 5Б класса Патрикова Дарья и Бухтеева  Александ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briola"/>
                <a:ea typeface="Gabriola"/>
              </a:rPr>
              <a:t>Учитель:  </a:t>
            </a:r>
            <a:r>
              <a:rPr b="0" lang="en-US" sz="2800" spc="-1" strike="noStrike">
                <a:solidFill>
                  <a:srgbClr val="000000"/>
                </a:solidFill>
                <a:latin typeface="Segoe Script"/>
                <a:ea typeface="Segoe Script"/>
              </a:rPr>
              <a:t>Аверкина Е. В.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  <a:ea typeface="Segoe Script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Segoe Script"/>
                <a:ea typeface="Segoe Script"/>
              </a:rPr>
              <a:t>2016-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C:/Users/111/AppData/Roaming/PolarisOffice/ETemp/9332_22716528/fImage10235418041.jpeg"/>
          <p:cNvPicPr/>
          <p:nvPr/>
        </p:nvPicPr>
        <p:blipFill>
          <a:blip r:embed="rId1"/>
          <a:stretch/>
        </p:blipFill>
        <p:spPr>
          <a:xfrm>
            <a:off x="-78840" y="-15840"/>
            <a:ext cx="9239040" cy="690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C:/Users/111/AppData/Roaming/PolarisOffice/ETemp/9332_22716528/fImage714961818467.jpeg"/>
          <p:cNvPicPr/>
          <p:nvPr/>
        </p:nvPicPr>
        <p:blipFill>
          <a:blip r:embed="rId1"/>
          <a:stretch/>
        </p:blipFill>
        <p:spPr>
          <a:xfrm>
            <a:off x="507960" y="380880"/>
            <a:ext cx="8128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C:/Users/111/AppData/Roaming/PolarisOffice/ETemp/9332_22716528/fImage653731846334.jpeg"/>
          <p:cNvPicPr/>
          <p:nvPr/>
        </p:nvPicPr>
        <p:blipFill>
          <a:blip r:embed="rId1"/>
          <a:stretch/>
        </p:blipFill>
        <p:spPr>
          <a:xfrm>
            <a:off x="365040" y="444600"/>
            <a:ext cx="8255160" cy="61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C:/Users/111/AppData/Roaming/PolarisOffice/ETemp/9332_22716528/fImage887571856500.jpeg"/>
          <p:cNvPicPr/>
          <p:nvPr/>
        </p:nvPicPr>
        <p:blipFill>
          <a:blip r:embed="rId1"/>
          <a:stretch/>
        </p:blipFill>
        <p:spPr>
          <a:xfrm>
            <a:off x="428760" y="349200"/>
            <a:ext cx="820764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C:/Users/111/AppData/Roaming/PolarisOffice/ETemp/9332_22716528/fImage1212411889169.jpeg"/>
          <p:cNvPicPr/>
          <p:nvPr/>
        </p:nvPicPr>
        <p:blipFill>
          <a:blip r:embed="rId1"/>
          <a:stretch/>
        </p:blipFill>
        <p:spPr>
          <a:xfrm>
            <a:off x="0" y="-95400"/>
            <a:ext cx="919188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747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Спасибо за просмотр!</a:t>
            </a:r>
            <a:endParaRPr b="0" lang="en-US" sz="44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39280" y="3429000"/>
            <a:ext cx="1419480" cy="3018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  <a:ea typeface="±¼¸²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theme wood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heme wood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heme wood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Pages>7</Pages>
  <Words>32</Words>
  <Characters>0</Characters>
  <CharactersWithSpaces>0</CharactersWithSpaces>
  <Paragraphs>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9-18T05:10:45Z</dcterms:modified>
  <cp:revision>4</cp:revision>
  <dc:subject/>
  <dc:title>Презентация на тему ,,Треугольник"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