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AEB41-9844-420C-8153-5F9457AC0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B6EF8-ECD3-4660-8315-654A4D7FF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50EE9-E62D-4887-BC77-7070B148A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65C5D-4A88-4A50-A9CF-E36998135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C6580-8F22-4C46-8459-CE0DEEDFB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3D8AE-C9A4-407C-B2E8-520B29E9C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301E2-469D-4E9B-B3C6-D7D8C8952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E83E9-C071-436C-9D63-CAC9DD292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D7591-59FE-41AF-BD27-35DF901A6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1398D-EB0A-4823-98B4-9B022060F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767A0-7E69-40F5-B5AB-5EC956A44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B9EBC-D2C2-4DB4-B97F-666DCA30C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0D069-6D11-416A-ADFE-6FBE17200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27A26-3167-494B-8A1A-52A957777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29E11-0E69-43EF-8F93-D25622C31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34933-265F-4936-9272-17C13C6CD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D056D-7B6B-4174-857A-206C6C29B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1C271-A218-436A-9607-58FBB3070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DB7A2-A5FB-4642-B1A7-6A8CEB2F7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0599B-9A24-44BF-922C-0986ACA31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A43DC-C859-411D-AD41-CAAC0BE40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A8149-AC78-4D27-A90D-4847DF464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FE45D-4498-4B57-86C1-A92B3EF0E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2B6DE-A887-4BFA-B709-B66956101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27E75-6332-42C8-AA43-41CE6831C5A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>
                    <a:gd name="textAreaLeft" fmla="*/ 0 w 243000"/>
                    <a:gd name="textAreaRight" fmla="*/ 243360 w 24300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>
                    <a:gd name="textAreaLeft" fmla="*/ 0 w 427320"/>
                    <a:gd name="textAreaRight" fmla="*/ 427680 w 427320"/>
                    <a:gd name="textAreaTop" fmla="*/ 0 h 695160"/>
                    <a:gd name="textAreaBottom" fmla="*/ 695520 h 69516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>
                    <a:gd name="textAreaLeft" fmla="*/ 0 w 801720"/>
                    <a:gd name="textAreaRight" fmla="*/ 802080 w 80172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>
                    <a:gd name="textAreaLeft" fmla="*/ 0 w 1203480"/>
                    <a:gd name="textAreaRight" fmla="*/ 1203840 w 120348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>
                    <a:gd name="textAreaLeft" fmla="*/ 0 w 268200"/>
                    <a:gd name="textAreaRight" fmla="*/ 268560 w 26820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>
                    <a:gd name="textAreaLeft" fmla="*/ 0 w 287640"/>
                    <a:gd name="textAreaRight" fmla="*/ 288000 w 28764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>
                    <a:gd name="textAreaLeft" fmla="*/ 0 w 287280"/>
                    <a:gd name="textAreaRight" fmla="*/ 287640 w 28728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>
                    <a:gd name="textAreaLeft" fmla="*/ 0 w 284040"/>
                    <a:gd name="textAreaRight" fmla="*/ 284400 w 284040"/>
                    <a:gd name="textAreaTop" fmla="*/ 0 h 218880"/>
                    <a:gd name="textAreaBottom" fmla="*/ 219240 h 21888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5120"/>
                <a:gd name="textAreaBottom" fmla="*/ 465480 h 46512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60440"/>
                <a:gd name="textAreaBottom" fmla="*/ 460800 h 46044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>
                <a:gd name="textAreaLeft" fmla="*/ 0 w 660600"/>
                <a:gd name="textAreaRight" fmla="*/ 660960 w 660600"/>
                <a:gd name="textAreaTop" fmla="*/ 0 h 420840"/>
                <a:gd name="textAreaBottom" fmla="*/ 421200 h 4208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840"/>
                  <a:gd name="textAreaBottom" fmla="*/ 97200 h 9684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3920"/>
                  <a:gd name="textAreaBottom" fmla="*/ 494280 h 4939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9360"/>
                  <a:gd name="textAreaBottom" fmla="*/ 279720 h 27936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87560"/>
                  <a:gd name="textAreaBottom" fmla="*/ 187920 h 18756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E8950-4CFF-4FF1-A03B-D65680C0432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В царстве грибов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Подберезовик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496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Стоит мальчонка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Замаслена шапчонк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9" name="Picture 7" descr="0023-061-Podberezovik"/>
          <p:cNvPicPr/>
          <p:nvPr/>
        </p:nvPicPr>
        <p:blipFill>
          <a:blip r:embed="rId1"/>
          <a:stretch/>
        </p:blipFill>
        <p:spPr>
          <a:xfrm>
            <a:off x="4606920" y="2200320"/>
            <a:ext cx="3774960" cy="25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473960" cy="777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Маслёнок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1" name="Picture 7" descr="0c1db4e40aef62c2461b27de07861c2f"/>
          <p:cNvPicPr/>
          <p:nvPr/>
        </p:nvPicPr>
        <p:blipFill>
          <a:blip r:embed="rId1"/>
          <a:stretch/>
        </p:blipFill>
        <p:spPr>
          <a:xfrm>
            <a:off x="1434960" y="1058760"/>
            <a:ext cx="5861160" cy="407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496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В красной шляпке с белой ножкой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Этот  гриб растет в кусточке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Только ты его не рви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Для лося прибереги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4" name="Picture 7" descr="x_32aa5b48"/>
          <p:cNvPicPr/>
          <p:nvPr/>
        </p:nvPicPr>
        <p:blipFill>
          <a:blip r:embed="rId1"/>
          <a:stretch/>
        </p:blipFill>
        <p:spPr>
          <a:xfrm>
            <a:off x="4606920" y="2143080"/>
            <a:ext cx="377496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4648320" y="765000"/>
            <a:ext cx="403848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Есть старуха вредная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На ней шляпа бледная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И нога в ботинке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На чулке пестринки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Кто к ней прикоснётся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Тот не проснётся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6" name="Picture 7" descr="0020-036-Mukhomor"/>
          <p:cNvPicPr/>
          <p:nvPr/>
        </p:nvPicPr>
        <p:blipFill>
          <a:blip r:embed="rId1"/>
          <a:stretch/>
        </p:blipFill>
        <p:spPr>
          <a:xfrm>
            <a:off x="755640" y="1413000"/>
            <a:ext cx="310500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Бледная поганк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8" name="Picture 7" descr="kaminski_amanita_virosa_02"/>
          <p:cNvPicPr/>
          <p:nvPr/>
        </p:nvPicPr>
        <p:blipFill>
          <a:blip r:embed="rId1"/>
          <a:stretch/>
        </p:blipFill>
        <p:spPr>
          <a:xfrm>
            <a:off x="395280" y="2349360"/>
            <a:ext cx="3745080" cy="292104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8" descr="6afb1b5a4621b487ada6eabbb2cb28a5"/>
          <p:cNvPicPr/>
          <p:nvPr/>
        </p:nvPicPr>
        <p:blipFill>
          <a:blip r:embed="rId2"/>
          <a:stretch/>
        </p:blipFill>
        <p:spPr>
          <a:xfrm>
            <a:off x="4606920" y="2023920"/>
            <a:ext cx="3774960" cy="32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Ложные опят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1" name="Picture 6" descr="Hypholoma_fasciculare(fs-04)"/>
          <p:cNvPicPr/>
          <p:nvPr/>
        </p:nvPicPr>
        <p:blipFill>
          <a:blip r:embed="rId1"/>
          <a:stretch/>
        </p:blipFill>
        <p:spPr>
          <a:xfrm>
            <a:off x="698400" y="2143080"/>
            <a:ext cx="3495600" cy="217008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7" descr="0_6486_31869894_XL"/>
          <p:cNvPicPr/>
          <p:nvPr/>
        </p:nvPicPr>
        <p:blipFill>
          <a:blip r:embed="rId2"/>
          <a:stretch/>
        </p:blipFill>
        <p:spPr>
          <a:xfrm>
            <a:off x="4606920" y="2155680"/>
            <a:ext cx="3774960" cy="30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WordArt 4"/>
          <p:cNvSpPr txBox="1"/>
          <p:nvPr/>
        </p:nvSpPr>
        <p:spPr>
          <a:xfrm>
            <a:off x="1258920" y="1557360"/>
            <a:ext cx="6769080" cy="26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пасибо за урок!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468360" y="333360"/>
            <a:ext cx="8229600" cy="25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mic Sans MS"/>
              </a:rPr>
              <a:t>Грибы — сытный, питательный продукт. Сушеные белые грибы, соленые грузди и рыжики, сушеные черные грибы (подберезовики) по энергетической питательности равноценны хлебу и уступают только картофелю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3" name="Picture 7" descr="7bBCEfXvvCw"/>
          <p:cNvPicPr/>
          <p:nvPr/>
        </p:nvPicPr>
        <p:blipFill>
          <a:blip r:embed="rId1"/>
          <a:stretch/>
        </p:blipFill>
        <p:spPr>
          <a:xfrm>
            <a:off x="2244600" y="3014640"/>
            <a:ext cx="4646880" cy="24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403848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mic Sans MS"/>
              </a:rPr>
              <a:t>Грибы содержат ценные минеральные вещества, витамины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mic Sans MS"/>
              </a:rPr>
              <a:t>На территории России насчитывается свыше 100 видов съедобных грибов, однако в пищу употребляют чуть более 30 видов грибов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5" name="Picture 8" descr="24214828"/>
          <p:cNvPicPr/>
          <p:nvPr/>
        </p:nvPicPr>
        <p:blipFill>
          <a:blip r:embed="rId1"/>
          <a:stretch/>
        </p:blipFill>
        <p:spPr>
          <a:xfrm>
            <a:off x="5003640" y="1484280"/>
            <a:ext cx="370368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Строение гриба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496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Землю пробуравил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Корешок оставил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Сам на свет явился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Шапочкой прикрылся.  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8" name="Picture 11" descr="4"/>
          <p:cNvPicPr/>
          <p:nvPr/>
        </p:nvPicPr>
        <p:blipFill>
          <a:blip r:embed="rId1"/>
          <a:stretch/>
        </p:blipFill>
        <p:spPr>
          <a:xfrm>
            <a:off x="4667400" y="2025720"/>
            <a:ext cx="3701880" cy="279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Скороговорки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496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1 группа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: У сосенки – сосёнки росли ложные опёнки.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2 группа: 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Две старушки на опушке рвали грузди и волнушки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1055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2" name="Picture 15" descr="Lozhnyie-gribyi6"/>
          <p:cNvPicPr/>
          <p:nvPr/>
        </p:nvPicPr>
        <p:blipFill>
          <a:blip r:embed="rId1"/>
          <a:stretch/>
        </p:blipFill>
        <p:spPr>
          <a:xfrm>
            <a:off x="5005440" y="1828800"/>
            <a:ext cx="2895480" cy="176688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6" descr="0b25ab5ed39e43ceeafd131207a3ca45"/>
          <p:cNvPicPr/>
          <p:nvPr/>
        </p:nvPicPr>
        <p:blipFill>
          <a:blip r:embed="rId2"/>
          <a:stretch/>
        </p:blipFill>
        <p:spPr>
          <a:xfrm>
            <a:off x="5073480" y="3718080"/>
            <a:ext cx="2827440" cy="176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Съедобные и несъедобные грибы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5" name="Picture 7" descr="000000"/>
          <p:cNvPicPr/>
          <p:nvPr/>
        </p:nvPicPr>
        <p:blipFill>
          <a:blip r:embed="rId1"/>
          <a:stretch/>
        </p:blipFill>
        <p:spPr>
          <a:xfrm>
            <a:off x="1353960" y="1828800"/>
            <a:ext cx="2440080" cy="36576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8" descr="0020-036-Mukhomor"/>
          <p:cNvPicPr/>
          <p:nvPr/>
        </p:nvPicPr>
        <p:blipFill>
          <a:blip r:embed="rId2"/>
          <a:stretch/>
        </p:blipFill>
        <p:spPr>
          <a:xfrm>
            <a:off x="5041800" y="2109960"/>
            <a:ext cx="2901960" cy="30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10920" y="-3877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Съедобные грибы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8" name="Picture 9" descr="0_87df1_1a67f868_XL"/>
          <p:cNvPicPr/>
          <p:nvPr/>
        </p:nvPicPr>
        <p:blipFill>
          <a:blip r:embed="rId1"/>
          <a:stretch/>
        </p:blipFill>
        <p:spPr>
          <a:xfrm>
            <a:off x="1187280" y="1341360"/>
            <a:ext cx="2922840" cy="17668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0" descr="img_7901251"/>
          <p:cNvPicPr/>
          <p:nvPr/>
        </p:nvPicPr>
        <p:blipFill>
          <a:blip r:embed="rId2"/>
          <a:stretch/>
        </p:blipFill>
        <p:spPr>
          <a:xfrm>
            <a:off x="5003640" y="1341360"/>
            <a:ext cx="2829240" cy="17668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1" descr="grib3"/>
          <p:cNvPicPr/>
          <p:nvPr/>
        </p:nvPicPr>
        <p:blipFill>
          <a:blip r:embed="rId3"/>
          <a:stretch/>
        </p:blipFill>
        <p:spPr>
          <a:xfrm>
            <a:off x="1187280" y="3357720"/>
            <a:ext cx="2965680" cy="194292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12" descr="syroegka-sedobnaya1"/>
          <p:cNvPicPr/>
          <p:nvPr/>
        </p:nvPicPr>
        <p:blipFill>
          <a:blip r:embed="rId4"/>
          <a:stretch/>
        </p:blipFill>
        <p:spPr>
          <a:xfrm>
            <a:off x="5003640" y="3500280"/>
            <a:ext cx="296388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377496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В прятки девочки играли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Притаились три сестрички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Светло-желтые ..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3" name="Picture 8" descr="7142_1295885336"/>
          <p:cNvPicPr/>
          <p:nvPr/>
        </p:nvPicPr>
        <p:blipFill>
          <a:blip r:embed="rId1"/>
          <a:stretch/>
        </p:blipFill>
        <p:spPr>
          <a:xfrm>
            <a:off x="4400640" y="2143080"/>
            <a:ext cx="3838320" cy="30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Подосиновик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496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Под берёзой старичок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На нём бурый колпачок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И пиджак с пестринкой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А сапожки с глинкой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6" name="Picture 7" descr="24214828"/>
          <p:cNvPicPr/>
          <p:nvPr/>
        </p:nvPicPr>
        <p:blipFill>
          <a:blip r:embed="rId1"/>
          <a:stretch/>
        </p:blipFill>
        <p:spPr>
          <a:xfrm>
            <a:off x="5035680" y="1828800"/>
            <a:ext cx="291924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8T15:57:04Z</dcterms:created>
  <dc:creator>Admin</dc:creator>
  <dc:description/>
  <dc:language>en-US</dc:language>
  <cp:lastModifiedBy>User</cp:lastModifiedBy>
  <dcterms:modified xsi:type="dcterms:W3CDTF">2017-09-18T17:51:51Z</dcterms:modified>
  <cp:revision>4</cp:revision>
  <dc:subject/>
  <dc:title>Многообразие грибов</dc:title>
</cp:coreProperties>
</file>