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7D2-D12A-4C89-BA7C-9AF8830D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1E0-0AC3-4DFC-B67E-D71639C0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D9F-7C00-46FA-A2B5-30E5A74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993-C2FB-4FC6-A08A-24B26DCE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8783-7153-4C38-82EE-342351CA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C55-D034-4EA4-B3B1-A0F7E17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09AE-3AE2-41A5-9AA1-C75533A4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724C-BC50-4457-A100-52C0951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46DA-07D5-49CB-8AB5-8D24223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938B-2A75-40C5-8120-4324CDB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5544-195C-4530-9555-60BA5B6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8F7-C7BC-4107-8006-6F2EE0C4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1F7-F8A6-4EC6-8659-180B9CA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EE2B-4D8C-4353-9320-172F5DF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62D0-A090-456F-9163-F6E4D525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B92A-7803-44A6-B07F-661A7B48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D53-8A82-467F-B1FA-9990EB32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0C0-C7E1-42C7-845F-DB6FED2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D3-AD6A-4DD6-A997-5596069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43A-9010-4F8C-A7D1-A08D8D5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3FD-CB9C-4DD9-9BD8-40A2644E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0CD-441C-40A2-B1A2-61625DE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6A6-445F-4714-9203-1724B78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361-655D-4100-BDC8-4B0AB03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7F94-CE07-4B60-AFBD-C631CD394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8E5C-8239-425D-8937-A1B4FFF99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 царстве гриб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березов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оит мальчон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маслена шапчо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0023-061-Podberezovik"/>
          <p:cNvPicPr/>
          <p:nvPr/>
        </p:nvPicPr>
        <p:blipFill>
          <a:blip r:embed="rId1"/>
          <a:stretch/>
        </p:blipFill>
        <p:spPr>
          <a:xfrm>
            <a:off x="4606920" y="2200320"/>
            <a:ext cx="3774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слё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0c1db4e40aef62c2461b27de07861c2f"/>
          <p:cNvPicPr/>
          <p:nvPr/>
        </p:nvPicPr>
        <p:blipFill>
          <a:blip r:embed="rId1"/>
          <a:stretch/>
        </p:blipFill>
        <p:spPr>
          <a:xfrm>
            <a:off x="1434960" y="1058760"/>
            <a:ext cx="58611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расной шляпке с белой ножк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т  гриб растет в кусточ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лько ты его не рв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лося приберег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x_32aa5b48"/>
          <p:cNvPicPr/>
          <p:nvPr/>
        </p:nvPicPr>
        <p:blipFill>
          <a:blip r:embed="rId1"/>
          <a:stretch/>
        </p:blipFill>
        <p:spPr>
          <a:xfrm>
            <a:off x="4606920" y="2143080"/>
            <a:ext cx="3774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ть старуха вредна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ей шляпа бледна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ога в ботинк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чулке пестр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то к ней прикоснёт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 не проснё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0020-036-Mukhomor"/>
          <p:cNvPicPr/>
          <p:nvPr/>
        </p:nvPicPr>
        <p:blipFill>
          <a:blip r:embed="rId1"/>
          <a:stretch/>
        </p:blipFill>
        <p:spPr>
          <a:xfrm>
            <a:off x="755640" y="1413000"/>
            <a:ext cx="3105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kaminski_amanita_virosa_02"/>
          <p:cNvPicPr/>
          <p:nvPr/>
        </p:nvPicPr>
        <p:blipFill>
          <a:blip r:embed="rId1"/>
          <a:stretch/>
        </p:blipFill>
        <p:spPr>
          <a:xfrm>
            <a:off x="395280" y="2349360"/>
            <a:ext cx="3745080" cy="292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6afb1b5a4621b487ada6eabbb2cb28a5"/>
          <p:cNvPicPr/>
          <p:nvPr/>
        </p:nvPicPr>
        <p:blipFill>
          <a:blip r:embed="rId2"/>
          <a:stretch/>
        </p:blipFill>
        <p:spPr>
          <a:xfrm>
            <a:off x="4606920" y="2023920"/>
            <a:ext cx="37749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ожные опя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Hypholoma_fasciculare(fs-04)"/>
          <p:cNvPicPr/>
          <p:nvPr/>
        </p:nvPicPr>
        <p:blipFill>
          <a:blip r:embed="rId1"/>
          <a:stretch/>
        </p:blipFill>
        <p:spPr>
          <a:xfrm>
            <a:off x="698400" y="2143080"/>
            <a:ext cx="3495600" cy="217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0_6486_31869894_XL"/>
          <p:cNvPicPr/>
          <p:nvPr/>
        </p:nvPicPr>
        <p:blipFill>
          <a:blip r:embed="rId2"/>
          <a:stretch/>
        </p:blipFill>
        <p:spPr>
          <a:xfrm>
            <a:off x="4606920" y="2155680"/>
            <a:ext cx="37749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258920" y="1557360"/>
            <a:ext cx="67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Грибы — сытный, питательный продукт. Сушеные белые грибы, соленые грузди и рыжики, сушеные черные грибы (подберезовики) по энергетической питательности равноценны хлебу и уступают только картофел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7" descr="7bBCEfXvvCw"/>
          <p:cNvPicPr/>
          <p:nvPr/>
        </p:nvPicPr>
        <p:blipFill>
          <a:blip r:embed="rId1"/>
          <a:stretch/>
        </p:blipFill>
        <p:spPr>
          <a:xfrm>
            <a:off x="2244600" y="3014640"/>
            <a:ext cx="464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ибы содержат ценные минеральные вещества, витами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территории России насчитывается свыше 100 видов съедобных грибов, однако в пищу употребляют чуть более 30 видов гри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24214828"/>
          <p:cNvPicPr/>
          <p:nvPr/>
        </p:nvPicPr>
        <p:blipFill>
          <a:blip r:embed="rId1"/>
          <a:stretch/>
        </p:blipFill>
        <p:spPr>
          <a:xfrm>
            <a:off x="5003640" y="1484280"/>
            <a:ext cx="37036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троение гриб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емлю пробурави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решок остави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 на свет явил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апочкой прикрылся. 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1" descr="4"/>
          <p:cNvPicPr/>
          <p:nvPr/>
        </p:nvPicPr>
        <p:blipFill>
          <a:blip r:embed="rId1"/>
          <a:stretch/>
        </p:blipFill>
        <p:spPr>
          <a:xfrm>
            <a:off x="4667400" y="2025720"/>
            <a:ext cx="37018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ороговор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групп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 У сосенки – сосёнки росли ложные опён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группа: 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е старушки на опушке рвали грузди и волнуш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5" descr="Lozhnyie-gribyi6"/>
          <p:cNvPicPr/>
          <p:nvPr/>
        </p:nvPicPr>
        <p:blipFill>
          <a:blip r:embed="rId1"/>
          <a:stretch/>
        </p:blipFill>
        <p:spPr>
          <a:xfrm>
            <a:off x="5005440" y="1828800"/>
            <a:ext cx="2895480" cy="1766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0b25ab5ed39e43ceeafd131207a3ca45"/>
          <p:cNvPicPr/>
          <p:nvPr/>
        </p:nvPicPr>
        <p:blipFill>
          <a:blip r:embed="rId2"/>
          <a:stretch/>
        </p:blipFill>
        <p:spPr>
          <a:xfrm>
            <a:off x="5073480" y="3718080"/>
            <a:ext cx="28274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ъедобные и несъедобные гри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000000"/>
          <p:cNvPicPr/>
          <p:nvPr/>
        </p:nvPicPr>
        <p:blipFill>
          <a:blip r:embed="rId1"/>
          <a:stretch/>
        </p:blipFill>
        <p:spPr>
          <a:xfrm>
            <a:off x="1353960" y="1828800"/>
            <a:ext cx="244008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0020-036-Mukhomor"/>
          <p:cNvPicPr/>
          <p:nvPr/>
        </p:nvPicPr>
        <p:blipFill>
          <a:blip r:embed="rId2"/>
          <a:stretch/>
        </p:blipFill>
        <p:spPr>
          <a:xfrm>
            <a:off x="5041800" y="2109960"/>
            <a:ext cx="29019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9" descr="0_87df1_1a67f868_XL"/>
          <p:cNvPicPr/>
          <p:nvPr/>
        </p:nvPicPr>
        <p:blipFill>
          <a:blip r:embed="rId1"/>
          <a:stretch/>
        </p:blipFill>
        <p:spPr>
          <a:xfrm>
            <a:off x="1187280" y="1341360"/>
            <a:ext cx="2922840" cy="1766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img_7901251"/>
          <p:cNvPicPr/>
          <p:nvPr/>
        </p:nvPicPr>
        <p:blipFill>
          <a:blip r:embed="rId2"/>
          <a:stretch/>
        </p:blipFill>
        <p:spPr>
          <a:xfrm>
            <a:off x="5003640" y="1341360"/>
            <a:ext cx="2829240" cy="176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grib3"/>
          <p:cNvPicPr/>
          <p:nvPr/>
        </p:nvPicPr>
        <p:blipFill>
          <a:blip r:embed="rId3"/>
          <a:stretch/>
        </p:blipFill>
        <p:spPr>
          <a:xfrm>
            <a:off x="1187280" y="3357720"/>
            <a:ext cx="29656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syroegka-sedobnaya1"/>
          <p:cNvPicPr/>
          <p:nvPr/>
        </p:nvPicPr>
        <p:blipFill>
          <a:blip r:embed="rId4"/>
          <a:stretch/>
        </p:blipFill>
        <p:spPr>
          <a:xfrm>
            <a:off x="5003640" y="3500280"/>
            <a:ext cx="2963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прятки девочки игр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таились три сестрич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етло-желтые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7142_1295885336"/>
          <p:cNvPicPr/>
          <p:nvPr/>
        </p:nvPicPr>
        <p:blipFill>
          <a:blip r:embed="rId1"/>
          <a:stretch/>
        </p:blipFill>
        <p:spPr>
          <a:xfrm>
            <a:off x="4400640" y="2143080"/>
            <a:ext cx="38383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осиновик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 берёзой старичок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ём бурый колпачок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пиджак с пестринк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сапожки с глинк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24214828"/>
          <p:cNvPicPr/>
          <p:nvPr/>
        </p:nvPicPr>
        <p:blipFill>
          <a:blip r:embed="rId1"/>
          <a:stretch/>
        </p:blipFill>
        <p:spPr>
          <a:xfrm>
            <a:off x="5035680" y="1828800"/>
            <a:ext cx="291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5:57:04Z</dcterms:created>
  <dc:creator>Admin</dc:creator>
  <dc:description/>
  <dc:language>en-US</dc:language>
  <cp:lastModifiedBy>User</cp:lastModifiedBy>
  <dcterms:modified xsi:type="dcterms:W3CDTF">2017-09-18T17:51:51Z</dcterms:modified>
  <cp:revision>4</cp:revision>
  <dc:subject/>
  <dc:title>Многообразие грибов</dc:title>
</cp:coreProperties>
</file>