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F2-650A-45FD-9BA7-90D96D42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BBF-B86F-4680-AF80-B5BC89F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826-9BF7-4E60-9240-6ACCFF6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A68-2587-4C31-A034-D82A2712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A2F0-E53D-4A58-B154-61676ABD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194-A8E6-4483-BFA9-7AFA748D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ECDC-F52B-43EB-AB1C-FA97799D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B37-AAC6-4025-A337-2F4C6385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7D0-0EDA-4AA7-BCCD-1AFA5D8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620C-6E65-4BC0-9091-B7D15908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159-5DA6-445E-9FA1-45DA195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D6-C4FB-422F-AADB-C5515D1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C13-7E33-45F4-A59F-EC0D730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BAF2-28F7-40C2-97D8-2AE9C61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D81-3FE4-4944-A4D4-BE33E4C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0966-0139-4F9A-9D31-DB4BA695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20D-1D44-45C8-B4E1-5CA3CC32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563-F58E-46FD-8FF3-85F2BFDF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70A-B929-4847-BC0D-DC12EF6C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B8C-FBC2-4979-AAB1-4D62D5E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3BB-19C4-4DAC-A5FD-498D79AF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992-7D01-4D89-91F8-7BBD7D4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D4C-AD77-4315-B90F-EE47455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FD-EBBF-4794-AC82-AD59EA9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A5E-7504-419A-BDF4-EB5F9BDC47B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9F9E-A19B-4470-A11A-816B0D5F367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вивающие функции детского художественного тру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Салфеточная фантазия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а: воспитатель Любичева Е.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хника выполнения зави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9" descr="IMG_3603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IMG_3604"/>
          <p:cNvPicPr/>
          <p:nvPr/>
        </p:nvPicPr>
        <p:blipFill>
          <a:blip r:embed="rId2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енняя бере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6" descr="IMG_3556"/>
          <p:cNvPicPr/>
          <p:nvPr/>
        </p:nvPicPr>
        <p:blipFill>
          <a:blip r:embed="rId1"/>
          <a:stretch/>
        </p:blipFill>
        <p:spPr>
          <a:xfrm>
            <a:off x="3303720" y="2362320"/>
            <a:ext cx="31399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енняя бере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чнем со ствола березы. Делаем завиток из белой бумаги, снимаем с карандаш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ижнюю часть завитка расширим, а верхнюю слегка сожмем или скатаем, делая похожим на ствол березы, приклеива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ля веток можно скатать тонкие жгутики из белой бумаги, изгибаем и приклеива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перь приступаем к изготовлению желтых завитков. Делаем их и приклеиваем на нашу картинк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6" descr="IMG_3605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6" descr="IMG_3606"/>
          <p:cNvPicPr/>
          <p:nvPr/>
        </p:nvPicPr>
        <p:blipFill>
          <a:blip r:embed="rId1"/>
          <a:stretch/>
        </p:blipFill>
        <p:spPr>
          <a:xfrm>
            <a:off x="2201760" y="2362320"/>
            <a:ext cx="4965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Желаю вам успеха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удожественный  труд развивает у детей способность к волевым усилиям, которые направлены на достижение цели, развивает моторику рук и пальцев, активизирует планирующую функцию речи, обогащает словарный запас. Способствует развитию воображения, образного мышления, развивает творческие способности, формирует эстетический вку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рашивание салфетк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вый вариант – предложить детям раскраски и «закрасить» их с помощью салфет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7" descr="IMG_3591"/>
          <p:cNvPicPr/>
          <p:nvPr/>
        </p:nvPicPr>
        <p:blipFill>
          <a:blip r:embed="rId1"/>
          <a:stretch/>
        </p:blipFill>
        <p:spPr>
          <a:xfrm>
            <a:off x="4356000" y="2781360"/>
            <a:ext cx="442296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гу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лфетки разрезать на маленькие квадратики. Взять один квадратик за уголок большим и указательным пальцами и скручивать салфетку в тонкий жгут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IMG_3547"/>
          <p:cNvPicPr/>
          <p:nvPr/>
        </p:nvPicPr>
        <p:blipFill>
          <a:blip r:embed="rId1"/>
          <a:stretch/>
        </p:blipFill>
        <p:spPr>
          <a:xfrm>
            <a:off x="4572000" y="2492280"/>
            <a:ext cx="43876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гу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10" descr="IMG_3569"/>
          <p:cNvPicPr/>
          <p:nvPr/>
        </p:nvPicPr>
        <p:blipFill>
          <a:blip r:embed="rId1"/>
          <a:stretch/>
        </p:blipFill>
        <p:spPr>
          <a:xfrm>
            <a:off x="5292720" y="2362320"/>
            <a:ext cx="2440080" cy="37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IMG_3566"/>
          <p:cNvPicPr/>
          <p:nvPr/>
        </p:nvPicPr>
        <p:blipFill>
          <a:blip r:embed="rId2"/>
          <a:srcRect l="11908" t="9264" r="11739" b="6696"/>
          <a:stretch/>
        </p:blipFill>
        <p:spPr>
          <a:xfrm>
            <a:off x="1403280" y="2349360"/>
            <a:ext cx="2600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вит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виток можно делать до конца, до середины салфетки по диагонали, с одной стороны, с двух, трех и четырех стор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 завитков можно сделать пейзаж любого времени года, барашка, букет цветов, портрет, парик для игры, дере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оме плоскостных фигур можно сделать и объем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шебный завит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IMG_3571"/>
          <p:cNvPicPr/>
          <p:nvPr/>
        </p:nvPicPr>
        <p:blipFill>
          <a:blip r:embed="rId1"/>
          <a:stretch/>
        </p:blipFill>
        <p:spPr>
          <a:xfrm>
            <a:off x="2117880" y="2362320"/>
            <a:ext cx="151740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G_3575"/>
          <p:cNvPicPr/>
          <p:nvPr/>
        </p:nvPicPr>
        <p:blipFill>
          <a:blip r:embed="rId2"/>
          <a:stretch/>
        </p:blipFill>
        <p:spPr>
          <a:xfrm>
            <a:off x="5651640" y="2349360"/>
            <a:ext cx="158436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MG_3590"/>
          <p:cNvPicPr/>
          <p:nvPr/>
        </p:nvPicPr>
        <p:blipFill>
          <a:blip r:embed="rId3"/>
          <a:stretch/>
        </p:blipFill>
        <p:spPr>
          <a:xfrm>
            <a:off x="1531800" y="430056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IMG_3586"/>
          <p:cNvPicPr/>
          <p:nvPr/>
        </p:nvPicPr>
        <p:blipFill>
          <a:blip r:embed="rId4"/>
          <a:stretch/>
        </p:blipFill>
        <p:spPr>
          <a:xfrm>
            <a:off x="5454720" y="430056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шебный завит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териа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краски, нарезанные салфетки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7" descr="IMG_3552"/>
          <p:cNvPicPr/>
          <p:nvPr/>
        </p:nvPicPr>
        <p:blipFill>
          <a:blip r:embed="rId1"/>
          <a:stretch/>
        </p:blipFill>
        <p:spPr>
          <a:xfrm>
            <a:off x="4761000" y="2565360"/>
            <a:ext cx="3770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хника выполнения зави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ое упражнение, которое нужно усвоить это накручивание угла салфетки по диагонали туго, не ослабляя «ход» салфетк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тем нужно сжать накрученную салфетку с двух сторо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лученный завиток снять, придерживая с карандаш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9" descr="IMG_3602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7:46:08Z</dcterms:created>
  <dc:creator>User</dc:creator>
  <dc:description/>
  <dc:language>en-US</dc:language>
  <cp:lastModifiedBy>User</cp:lastModifiedBy>
  <dcterms:modified xsi:type="dcterms:W3CDTF">2017-09-18T08:12:32Z</dcterms:modified>
  <cp:revision>7</cp:revision>
  <dc:subject/>
  <dc:title>Развитие речи детей в процессе организации детского художественного труда</dc:title>
</cp:coreProperties>
</file>