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2EC-707C-4AC7-83FF-F21FC5E4C5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835-20E8-4498-8F10-63DDDE223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7C8-7514-4640-B2E4-D19301913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508-9BE7-45C7-AF0D-A3F8EEFA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FCE-36A7-4C80-B198-CFEA990E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91D63-4954-4AA0-BB75-C82AE44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E4D46-19AD-4AFB-AAFE-E9A6CD6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9E914-2392-497B-9547-94D091D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A8CB-75CD-415B-AB1A-96809A5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77152-71CC-461E-9920-41E2ABA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15806-0452-46EF-923E-B76EF84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EF33-E31A-4ED6-A928-87F390A3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19D4-A218-41C3-A113-4EFB8C8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0FE03-C175-4C53-926B-00AEF669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C7F-FED8-428E-A578-8F2A7329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2CF-C282-4B2B-81A5-F5579C43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1734-F722-4732-9F87-1C1C4A00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8E0-9091-42E5-8163-331194F1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394-DC37-4259-8E8D-14DB4DE5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91B-6F17-44B2-8048-ABF6E11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E89F-976F-424A-B8AC-48414DC3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4FDB-1E89-41BE-8465-D5AF2E04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36AC-3B09-4CCA-A40D-5D296AE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5DE-906C-4C3E-8A70-FB0B567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4E8-FAD5-4D0F-84C0-6628F4BB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6D9-36C0-420D-9969-DB89002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75C-8D7D-4A26-A043-4053ABC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CDB-21DB-4EF4-9988-3EB529BF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B3FD-C150-4C6D-8AC3-348E706C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A322-E0B4-4F3B-A1E8-66F0FD91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9D1C-B94A-4826-8A27-5CCC89C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EAA9-C00C-4185-A22E-66E8E413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B00B-E288-4E83-9161-7A44A2B4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CAA2-BA95-49ED-861B-E1087BE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49D-015A-44E6-94F7-4DFC01AD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CF9E-41CA-45B0-88D2-06330733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556F-6680-4D70-AD0B-30A3C2A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3239-5F47-498E-9032-AEDF1F33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FB4E-85EC-4F83-AD99-BF6F6E6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448B-9353-4F8E-B658-EB3C9B1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3EA1-CB03-499F-B4BA-B67E900C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BBC5-2FE4-4904-A770-53A3042D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86DB-9F62-4206-982B-8433B689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4C93-D7E6-4AA4-BB7D-DB8AFC94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9D94-7F05-44CB-A2C5-21E089E5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E17-0273-4081-B53D-7C2EA71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DA06-2F82-40FC-B67D-2448870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5FC6-2660-4B3A-BFF8-9DB362E8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97F6-9CF7-4344-9BB5-9089BBE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E432-DF53-47F4-AFF0-94F4970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FD6C-00A1-4F1D-9AE0-3B928FB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1B4D-DA3A-4CD8-A19F-5CF1815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2633-BFD3-4717-B7D5-0FA1BA8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F67C-AF11-49BC-85D3-69F037A8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4664-1827-46C9-B801-55A8246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244A-660B-4609-9D55-877161C8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E42-E52E-407F-B7D7-B9517DB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4145-8535-420A-A921-6E65DC7F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1A0F-4B45-4EBA-B4B4-27C3C1F1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B5A8-09D7-441D-97D1-D2BAEFF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EB1B-8029-4C66-975F-A2D6CF83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A63C-1C80-43DD-918F-9A84165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8E47-E170-42CA-9216-83E7A86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B669-703D-4E86-BB68-0CFB16B1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5459-C0BC-431A-8E25-68EB5DB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C2400-07CA-4FA6-A7D7-3C394FC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A869-3DC0-4416-891C-A8B0D99D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5C9-C052-4A28-A2D6-C001628E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218F-6408-435E-9918-A464259C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96F0-7DA3-4136-A991-61B11D81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6F99-B3B0-4510-8865-75826FE9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4A5C-7F87-4ED1-B5C4-ADFE2FE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6A99A-6C83-4909-BA27-B669139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67F2-8AFE-4068-BC4C-DC86787B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EB43-2F68-4A68-8E38-B901DD4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65E4-5AAC-4140-8558-0C54AFC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06E1-006B-4C6D-BC3A-8F38C60E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8E75-3BA1-47E4-A274-7579485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29C-4D9E-405B-8432-FCC88B06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ED178-5083-4393-9418-D31BFAC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4E25-C373-4233-BC0D-D8811A32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42B9-FF81-439B-B2B1-E8AF0A2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4FEC-A230-4BF1-875C-EC47F03B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D3F7-D4A0-418C-A1AD-BF05EC8F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4BBE-6651-4559-81A2-A1B3108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52C0-15E9-422F-B010-11DA567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D484-1652-40AA-9BFD-11B80F91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F65EC-938F-46D3-ACC2-BADE6C8A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4210-122C-4717-8D85-6342A2D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CFF-1A99-4B3F-8B22-E483C74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06A8-95EA-48FB-AD7E-1469AB4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5459-C353-4082-B64F-9C8E86A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C341-8145-4BDD-93B9-472A1C8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9BF8-3911-4DED-BCF1-02B869D7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00D9-47B9-4064-9DAE-1E5228C7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0936-CAE2-4993-BB8F-69D460FB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B2D0-E9FB-47B5-8A08-5A95FFC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1A25-E42B-44B7-A956-6746C862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04BC-6D60-4AB3-9A7A-A9A64FD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1AF4B-88CB-42DF-AD45-19CEE50D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04F-1D6C-4734-9A93-A0E0637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AED7-749C-4784-99C0-3F5674C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8843-EDC0-48C6-8C0E-EDCF64D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CAE8-19C5-4062-80E5-CB30567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D963-42CA-40B3-9F98-85627D3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0FD9-E60F-4966-B81D-1FCF0EC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B6C9D-6057-4585-AB1D-6B255480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F2C3A-8873-4B1D-9884-7D91215C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B1575-CB73-4363-A1F9-1EC3AAB6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80E4A-1CAF-4C9C-92EB-C5C4853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7095-711E-465B-884E-9B944E8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4DC8-042B-48C7-AA77-0B1F0F1FC98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198-BDE2-41B7-8004-FB32B11F2E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DCA-2959-42BB-9D4A-E421E7A0208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8E38-06EF-425B-929D-FA4DE79F53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F61-221E-4279-A1FB-F9FA7AB7290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BA4-7FC0-4BBB-A91D-8741B135EA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D8B-AF6F-4AA6-8A1E-C19572C0B19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A3F-1272-4B99-9F8E-A0CDE10E68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4529-5EAC-484E-91B9-64F19050FCC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443D-74B6-43F8-9399-92983C4DC7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BE10-01BC-47A7-9450-36EC0C64E2A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163-D0D7-468B-8EDB-3A865C0C90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035-DF64-46F6-9532-A4AC63CC34F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F6E6-3DA0-4E1C-A062-7B327BD106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089-F346-4256-BBE2-FB653880667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7B2-DDB1-4A20-B9E2-6FA6276769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4DBF-A3C8-4DB7-B009-58996401988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4B17-16CA-40CE-8ADB-4226A3115F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743040" y="328680"/>
            <a:ext cx="7937280" cy="9507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Lucida Sans Unicode"/>
              </a:rPr>
              <a:t>«Здоровьесберегающие технологии в образовательном процесс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84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1430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1428840"/>
          <a:ext cx="7358400" cy="5229000"/>
        </p:xfrm>
        <a:graphic>
          <a:graphicData uri="http://schemas.openxmlformats.org/drawingml/2006/table">
            <a:tbl>
              <a:tblPr/>
              <a:tblGrid>
                <a:gridCol w="3322800"/>
                <a:gridCol w="40356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УЩЕСТВИТЕЛЬНОЕ 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ЛАГАТЕЛЬНОЕ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ЛАГОЛ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ув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ФРАЗА ИЗ 4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вторение су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СИНОНИМ) 1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6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4DF-533F-4BE5-AABD-9EF272DA25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ы песенку зап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селись на кач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на лошади скак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оболт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зубкам постучал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ы в «часики» игр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лакали словно к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пела нам гарм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делали «гриб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ротик на зам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0DD9-891D-461C-99EA-2F2B755076B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BB5-6BCC-437A-BD0A-A2EE22305D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юдайте режим дня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больше внимание на питани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вигайтесь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е в прохладной комнат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асите в себе гнев, дайте ему вырваться наруж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нимайтесь интеллектуальной деятельностью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е прочь уныние и хандр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реагируйте на всё проявления своего организм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лучать как можно больше положительных эмоций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йте себе и окружающим только добр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AAFF-8448-4FE4-9E08-69D4A119AC9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489-D579-4814-8739-AAE81608C5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кур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завтрак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 не спеш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ереед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лоупотребляю алкогол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плю не менее 8 часов в су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держиваю нормальную массу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 показатели своего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жедневно хожу пеш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раздражаюсь и не выхожу из себ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AD6-2C65-4799-88E5-23D8D3E184F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DAD-58DB-40A6-BA48-990D3C37A2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781200" y="146160"/>
            <a:ext cx="78562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785880" y="1112760"/>
          <a:ext cx="8107200" cy="4530960"/>
        </p:xfrm>
        <a:graphic>
          <a:graphicData uri="http://schemas.openxmlformats.org/drawingml/2006/table">
            <a:tbl>
              <a:tblPr/>
              <a:tblGrid>
                <a:gridCol w="1466640"/>
                <a:gridCol w="664056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Д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Р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BDB-36EE-432D-8FC2-2F9994DC47A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4377-51A3-4E50-B86A-60095FE4B2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5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9174240" cy="15541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Lucida Sans Unicode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овательный компоне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и, используя системно 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алеологические уро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лективные курсы здоровьесберегающего содержа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спитательный компонен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руж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екци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радиционные массовые мероприятия по пропаганде ЗОЖ и профилактике вредных привыче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Дата 2"/>
          <p:cNvSpPr/>
          <p:nvPr/>
        </p:nvSpPr>
        <p:spPr>
          <a:xfrm flipV="1" rot="10800000">
            <a:off x="7002360" y="6850080"/>
            <a:ext cx="1409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B5E6-D1F3-49F3-B64D-601C47EDF2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, навыки по здоровому образу жизни, научить использовать полученные знания в повседневной жиз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34C-568F-4CAB-B28D-8C057BFAB1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4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444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ка учебной нагрузк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е урока с учетом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 учащихс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гигиенических требований к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му кабинету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приятный эмоциональный настрой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физкультминуток и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х пауз на урока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AB53-36F4-40DA-A6E4-4B1879D8B5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1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личностно-ориент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 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ю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16C-8BB0-4E83-A697-D307CE2BAC5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084-4699-47A7-B35A-E11BD4DB54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 – дороже золота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тоб больными лежать, надо спорт уважа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 спортом дружить – сильным не 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ми быть – горе за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ота- залог здоровья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ье разум дари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то долго жуёт, тот без зубов живё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EC3A-73D4-47F2-A587-25CF2B3ADBD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BE91-1321-46C9-8D7D-F840D50114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Заголовок 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84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28440" y="1213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 это... (Опиши цвет, форму, размеры или другие характеристики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 это... (На что это похоже? Чем отличается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ссоциируй это... (Что это напоминает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 это... (Как это сделано? Из чего состоит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 это... (Что с этим можно делать? Как это применяется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еди "за" и "против" (Поддержи или опровергни это)</a:t>
            </a:r>
            <a:br>
              <a:rPr sz="2200"/>
            </a:b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C5F-2AE0-4D55-9027-CDD6F6D600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– (от греческого sophisma , «мастерство, умение, хитрая выдумка, уловка») - умозаключение или рассуждение, обосновывающее какую-нибудь заведомую нелепость, абсурд или парадоксальное утверждение, противоречащее общепринятым представлени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60C2-B0F6-4B67-BA03-68C50CC3ED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2771640" y="40053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F514-9C4B-4CA2-A7BE-79686A7013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555</cp:lastModifiedBy>
  <dcterms:modified xsi:type="dcterms:W3CDTF">2017-09-18T14:25:11Z</dcterms:modified>
  <cp:revision>46</cp:revision>
  <dc:subject/>
  <dc:title>МАСТЕР-КЛАСС</dc:title>
</cp:coreProperties>
</file>