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5.jpeg" ContentType="image/jpe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7E72F-B39C-4E8B-86A9-34F16309AB7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29960-2BDE-4550-9C07-ECE11C7AD35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МОТИВАЦИЯ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При помощи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воздушного шарика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,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который перекидывают друг другу выяснить, что является главным  в жизни каждого в данном классе. (Варианты ответов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-Без чего человек не может достичь вышеназванных ценностей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УДИТЬ ПРОБЛЕМУ. (Варианты ответов)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ЯТИЕ РЕШЕНИЯ.- Без здоровья очень трудно достичь чего-либо, поэтому оно является - одним из  главных жизненных ценностей челове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итель обращает внимание коллег на тему урока, записанную на доск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О чём сегодня пойдёт речь на уроке? (Варианты ответов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Сегодня мы выясним,  из чего же складывается здоровье люд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1D1FE-C365-4431-A522-1AEC5A7F9A1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-Попробуйте дать определение здоровью. (Варианты ответов)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6B7B1-ED4F-4B70-85E0-2B6EE594A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BDB84-ED95-43CB-B7CB-BAFBFFDC0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182FA9-7828-4C5C-BDD6-5B8C112CE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65386A-06C7-4C06-9CAE-F53A64E28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4C36E9-553D-424E-8619-78D0D9286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6D0512-92CD-4D67-A8DD-B2E1B358A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2665BA-2D29-4C69-8645-5F82AFF70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A51A17-8B64-49F4-AA7A-AE3865B92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90831C-288A-41A1-B520-B26ECE39F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CB6FE1-2BA4-4015-8DD6-617A363EA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5CD5EB-8B08-46C9-8714-1819212A7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9459C-D456-48FE-B179-AD4BCB512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30ED6-13FC-4786-BB91-5CB42ACD4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CF7AE-F7DF-4472-B600-299BA17E6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CDC39-1EFF-41E8-B2AD-3A5807CC3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C6E4E-8401-48FD-949C-4FFE75616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3AFA7-5A72-48E9-9A5E-8D5B78739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FB2E1-5B80-4F2F-B071-A086A45CF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681F9-DE3E-47F7-9D9A-4705C4F97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C89E0-2036-425B-A9E3-51A952689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F24B2-719E-48F1-BAEA-46659A0D0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CBCB6-9306-4364-B5B3-7D05937D7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E0FFA-AAD0-4991-905A-F22765963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33D94-606D-45E4-94D2-E296BC35F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0C8F7-3F4D-4447-9F89-354CE7189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8EC81-293F-497B-83B5-9CB194784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2D9787-82C0-4B13-B34C-FE2F62451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FC5F19-E41B-4CEA-8555-B6380A6B8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6D8746-808E-418F-8541-90AF8F302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E31A3D-5100-4841-9F61-A5FCDF23C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313AAC-5321-4327-AC37-67D97696C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1C9AB-D331-4352-B7F5-92659D91A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70397D-1C0D-4B02-882E-E097DD04A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5450E0-F714-4BBF-8BE3-CF116DC0C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DE89DE-B5D2-4662-8408-1A42BFE2B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CFA512-5171-48B0-B373-387DB925D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A4FF43-67AC-4F53-B37D-27624BAB4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9DD3E1-E92E-48D4-BD28-DEFA24E06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FF1F36-57C2-468C-98C0-140E341B8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B0DF10-510D-4950-9BAD-7AD57F680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F53584-0582-4870-B3EF-7BFF10F1B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2C8D7A-62D2-4939-B157-ABF561CFA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D867E-08F6-436D-8EB6-046AAA4A5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198F42-A1CD-4BBA-8A8E-A57A07AF9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46919A-4841-4FBD-AE7D-EE12AE981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88BDB4-AB01-4055-82BB-E105A0D62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C18F29-EAAA-49FA-A425-27D8B7F1F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C89E8B-EE1F-4B0B-986D-576A9A6D5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420CD2-FE91-44D5-9427-686B00C1D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C8E8AA-05EE-4907-AA1C-2DACDF54E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8F9674-0631-4802-9F58-1FCFE4B93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FBF938-76F7-458D-B3F5-01187E3BC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37CD24-5599-4CC1-A755-40DD33808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00953-509D-460E-96F3-371672B0F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9C8079-F826-4A11-A3EC-3D012D532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0DE590-605D-4A23-85A2-44AD4F0F5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0104EE-7A17-48D5-9F31-ADE459A80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9B0653-13B4-475B-9876-A160003E4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54D714-DFD5-446D-8642-03DE9188A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BDA41C-0732-440A-BACD-FF49F7F87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89D546-C0CF-4282-B8B2-613BFFDB1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CF0062-D836-4F10-A52E-987EA4B6C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A20CC0-5F80-4F0F-84A5-B9C3CDF1B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67141B-CE7A-4C8D-BBC4-FE4ACDA22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35890-F313-4722-867D-524DA6EB9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70B4C5-6B4A-472E-9A53-945282BB6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831220-5DBC-4AE2-816A-63C620E3D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BD0B52-DA6B-49B0-A6CC-8CC9CF7B8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7A79DA-D961-45B1-BEFB-AF8FEDF8F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07B61F-D37B-4775-951C-0ABAC6171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4ACBB9-6F38-4B5F-8F73-F9516FB4D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9CCB4D-C259-4A32-B513-91D2C0D26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6AF24B-CA60-46D8-BB81-6A9DABA39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22FD24-30F4-4E1C-BC2F-CFD580A88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D6398C-61F1-4ACD-BB1F-923C4E596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DD928-CE87-4A67-BB32-0CCA0BE6E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CF1654-9AB5-4D71-8425-F36FD58BF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FFF057-F863-4D3A-BF33-E7FDC4664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84E701-04CA-4D27-9D82-C1C31CD8D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26BA5E-97A1-42CD-B25B-E56C32E99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D175E9-853B-4D51-B2F2-B1F1731A0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2F2F28-7DF0-4300-A306-34C4078BA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774CF6-0D9F-439C-A98D-FB62BA771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EE964A-7D43-431C-858C-F1D96DD16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AFD6CF-349C-4C92-B577-5F68EB7B0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E07A44-183E-418D-99EC-64AC9E66F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8325E-8EE4-4C26-AE16-3B3FCC409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6A39E5-48F2-4EB4-AD23-1270931C9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EEE5DF-7FE1-45A2-9B49-EA3A566EE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62A8D2-5202-4483-ABEE-0E5363CFA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C8FC98-5C2C-439A-B089-CBDD45A64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3CE6F3-C055-41C8-8E98-DC4435503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DF6DC2-80D8-4171-94AA-006BE0733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DF5716-1627-4CD8-8970-2C40D587A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A40145-7E17-4119-BAF2-222CD8F4F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8C2247-6151-4E12-B4BB-3850B2CAD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5633F4-B087-4EE7-B42D-6BB066ABD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49174-5660-413B-A964-D25F57085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D5852A-0E41-4527-BBCA-CF1085CAB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97EDF4-B8A3-4A69-9B85-545176A78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4476A9-5C55-434E-A7CB-8A052B3CE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EA9022-7E71-4624-B6E9-B827978AE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37B502-D2C5-440C-92EF-351D868E0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B64A44-27BE-4BFF-9DD9-21E7B08C7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FFB54C-B5B1-4B2A-90DB-21937180F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439CDD-AAF8-447B-9BF2-18CAE1210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9B42E9-299B-4C52-9F63-EE10B8EF7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D81181-2F57-4ECC-AB1A-0C9A1D6B1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68616-3896-4286-A7DD-5B7B3E5DD2B7}" type="datetime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03B49-F4A7-4730-8986-6A764997F2B0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Полилиния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Полилиния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Прямая соединительная линия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BB567-1443-481C-9594-08F688CDC2A4}" type="datetime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FCF09-4B95-499A-8384-8F15C5FAB77C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Нашивка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0D8EE-C268-4F0B-9DD7-34085C1132B6}" type="datetime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789E6-EA6B-4847-A641-EEEE9D7AB3D6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994F5-559C-4EDC-B836-44705154BD87}" type="datetime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4E506-BA66-4C1D-927C-D46032223325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8B14C-5D5B-4CDC-B030-9D0017A664D1}" type="datetime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864FE-0E17-4846-BE71-DD17540FA5CD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FAED0-8880-462F-87C6-4A11A4F3F723}" type="datetime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EB09B-2685-476E-9924-E9F6BEBA8ECB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EF849-07B9-45FB-8D91-F557547D7B76}" type="datetime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8A6F2-B2CE-4DFA-B65E-2F255D08F59C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олилиния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Полилиния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Прямоугольный треугольник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Прямоугольный треугольник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Прямая соединительная линия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Нашивка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Нашивка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A1DD7-3E61-4FB6-BE92-9725543700E7}" type="datetime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C415C-AC5B-4093-B048-81004E680FD9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2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7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7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 type="dt" idx="25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5777D-6696-40EF-B087-F2FDED09D9E1}" type="datetime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 type="ftr" idx="26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 type="sldNum" idx="27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40A93-7066-48FF-AA1A-F5A3D85E5A34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Rectangle 2" descr=""/>
          <p:cNvPicPr/>
          <p:nvPr/>
        </p:nvPicPr>
        <p:blipFill>
          <a:blip r:embed="rId1"/>
          <a:stretch/>
        </p:blipFill>
        <p:spPr>
          <a:xfrm>
            <a:off x="743040" y="328680"/>
            <a:ext cx="7937280" cy="950760"/>
          </a:xfrm>
          <a:prstGeom prst="rect">
            <a:avLst/>
          </a:prstGeom>
          <a:ln w="0">
            <a:noFill/>
          </a:ln>
        </p:spPr>
      </p:pic>
      <p:sp>
        <p:nvSpPr>
          <p:cNvPr id="425" name="PlaceHolder 1"/>
          <p:cNvSpPr>
            <a:spLocks noGrp="1"/>
          </p:cNvSpPr>
          <p:nvPr>
            <p:ph type="subTitle"/>
          </p:nvPr>
        </p:nvSpPr>
        <p:spPr>
          <a:xfrm>
            <a:off x="1258920" y="1699920"/>
            <a:ext cx="6400800" cy="46083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66ff"/>
                </a:solidFill>
                <a:latin typeface="Lucida Sans Unicode"/>
              </a:rPr>
              <a:t>«Здоровьесберегающие технологии в образовательном процессе»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7" name="Rectangle 2" descr=""/>
          <p:cNvPicPr/>
          <p:nvPr/>
        </p:nvPicPr>
        <p:blipFill>
          <a:blip r:embed="rId1"/>
          <a:stretch/>
        </p:blipFill>
        <p:spPr>
          <a:xfrm>
            <a:off x="450720" y="128520"/>
            <a:ext cx="8699760" cy="841320"/>
          </a:xfrm>
          <a:prstGeom prst="rect">
            <a:avLst/>
          </a:prstGeom>
          <a:ln w="0">
            <a:noFill/>
          </a:ln>
        </p:spPr>
      </p:pic>
      <p:sp>
        <p:nvSpPr>
          <p:cNvPr id="458" name=""/>
          <p:cNvSpPr txBox="1"/>
          <p:nvPr/>
        </p:nvSpPr>
        <p:spPr>
          <a:xfrm>
            <a:off x="457200" y="1143000"/>
            <a:ext cx="868680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graphicFrame>
        <p:nvGraphicFramePr>
          <p:cNvPr id="459" name=""/>
          <p:cNvGraphicFramePr/>
          <p:nvPr/>
        </p:nvGraphicFramePr>
        <p:xfrm>
          <a:off x="1214280" y="1428840"/>
          <a:ext cx="7358400" cy="5229000"/>
        </p:xfrm>
        <a:graphic>
          <a:graphicData uri="http://schemas.openxmlformats.org/drawingml/2006/table">
            <a:tbl>
              <a:tblPr/>
              <a:tblGrid>
                <a:gridCol w="3322800"/>
                <a:gridCol w="4035600"/>
              </a:tblGrid>
              <a:tr h="1010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Название </a:t>
                      </a:r>
                      <a:r>
                        <a:rPr b="1" lang="ru-RU" sz="2800" spc="-1" strike="noStrike">
                          <a:solidFill>
                            <a:srgbClr val="00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3ee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33cc"/>
                          </a:solidFill>
                          <a:latin typeface="Times New Roman"/>
                          <a:ea typeface="Times New Roman"/>
                        </a:rPr>
                        <a:t>СУЩЕСТВИТЕЛЬНОЕ  -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3eef5"/>
                    </a:solidFill>
                  </a:tcPr>
                </a:tc>
              </a:tr>
              <a:tr h="948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Описание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33cc"/>
                          </a:solidFill>
                          <a:latin typeface="Times New Roman"/>
                          <a:ea typeface="Times New Roman"/>
                        </a:rPr>
                        <a:t>ПРИЛАГАТЕЛЬНОЕ - 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Действ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33cc"/>
                          </a:solidFill>
                          <a:latin typeface="Times New Roman"/>
                          <a:ea typeface="Times New Roman"/>
                        </a:rPr>
                        <a:t>ГЛАГОЛ - 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0f4"/>
                    </a:solidFill>
                  </a:tcPr>
                </a:tc>
              </a:tr>
              <a:tr h="948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Чувство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33cc"/>
                          </a:solidFill>
                          <a:latin typeface="Times New Roman"/>
                          <a:ea typeface="Times New Roman"/>
                        </a:rPr>
                        <a:t>ФРАЗА ИЗ 4 СЛО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Повторение сут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33cc"/>
                          </a:solidFill>
                          <a:latin typeface="Times New Roman"/>
                          <a:ea typeface="Times New Roman"/>
                        </a:rPr>
                        <a:t>(СИНОНИМ) 1 СЛОВ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0f4"/>
                    </a:solidFill>
                  </a:tcPr>
                </a:tc>
              </a:tr>
            </a:tbl>
          </a:graphicData>
        </a:graphic>
      </p:graphicFrame>
      <p:sp>
        <p:nvSpPr>
          <p:cNvPr id="460" name="Номер слайда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FF31F-63F8-4C0A-93AA-832D369388AC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- мы песенку запели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а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– уселись на качели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и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– на лошади скакали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четыре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– поболтали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ять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- по зубкам постучали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есть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– мы в «часики» играли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мь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– лакали словно кошка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емь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– спела нам гармошка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вять 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сделали «грибок»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сять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– ротик на замок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2" name="Дата 2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3DC66-BC40-4C54-B684-9EFFE307E974}" type="datetime">
              <a:rPr b="0" lang="ru-RU" sz="10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Номер слайда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DC569-1204-4F6F-A244-B8D02F7BCBCE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4" name="Заголовок 4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людайте режим дня!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щайте больше внимание на питание!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ьше двигайтесь!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ите в прохладной комнате!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гасите в себе гнев, дайте ему вырваться наружу!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оянно занимайтесь интеллектуальной деятельностью!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ните прочь уныние и хандру!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декватно реагируйте на всё проявления своего организма!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райтесь получать как можно больше положительных эмоций!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елайте себе и окружающим только добра!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6" name="Дата 2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413C8-35D0-419A-BD50-5DA93E25D054}" type="datetime">
              <a:rPr b="0" lang="ru-RU" sz="10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Номер слайда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9B3B0-AE81-482D-9307-61117E7CC89D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8" name="Заголовок 4" descr=""/>
          <p:cNvPicPr/>
          <p:nvPr/>
        </p:nvPicPr>
        <p:blipFill>
          <a:blip r:embed="rId1"/>
          <a:stretch/>
        </p:blipFill>
        <p:spPr>
          <a:xfrm>
            <a:off x="450720" y="158760"/>
            <a:ext cx="8242560" cy="8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никогда не курю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всегда завтракаю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ем не спеша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не переедаю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никогда не злоупотребляю алкоголем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сплю не менее 8 часов в сутки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поддерживаю нормальную массу тела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знаю показатели своего здоровья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ежедневно хожу пешком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никогда не раздражаюсь и не выхожу из себя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0" name="Дата 2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93D3D-3A89-4B0C-9F72-6EB7823D5566}" type="datetime">
              <a:rPr b="0" lang="ru-RU" sz="10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Номер слайда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B0AAD-38F4-4C4B-9DC9-0F9004DD3773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2" name="Заголовок 4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3" name="Rectangle 2" descr=""/>
          <p:cNvPicPr/>
          <p:nvPr/>
        </p:nvPicPr>
        <p:blipFill>
          <a:blip r:embed="rId1"/>
          <a:stretch/>
        </p:blipFill>
        <p:spPr>
          <a:xfrm>
            <a:off x="781200" y="146160"/>
            <a:ext cx="7856280" cy="1218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74" name=""/>
          <p:cNvGraphicFramePr/>
          <p:nvPr/>
        </p:nvGraphicFramePr>
        <p:xfrm>
          <a:off x="785880" y="1112760"/>
          <a:ext cx="8107200" cy="4530960"/>
        </p:xfrm>
        <a:graphic>
          <a:graphicData uri="http://schemas.openxmlformats.org/drawingml/2006/table">
            <a:tbl>
              <a:tblPr/>
              <a:tblGrid>
                <a:gridCol w="1466640"/>
                <a:gridCol w="6640560"/>
              </a:tblGrid>
              <a:tr h="453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66ff"/>
                          </a:solidFill>
                          <a:latin typeface="Times New Roman"/>
                          <a:ea typeface="Times New Roman"/>
                        </a:rPr>
                        <a:t>З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66ff"/>
                          </a:solidFill>
                          <a:latin typeface="Times New Roman"/>
                          <a:ea typeface="Times New Roman"/>
                        </a:rPr>
                        <a:t>Д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66ff"/>
                          </a:solidFill>
                          <a:latin typeface="Times New Roman"/>
                          <a:ea typeface="Times New Roman"/>
                        </a:rPr>
                        <a:t>О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66ff"/>
                          </a:solidFill>
                          <a:latin typeface="Times New Roman"/>
                          <a:ea typeface="Times New Roman"/>
                        </a:rPr>
                        <a:t>Р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66ff"/>
                          </a:solidFill>
                          <a:latin typeface="Times New Roman"/>
                          <a:ea typeface="Times New Roman"/>
                        </a:rPr>
                        <a:t>О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66ff"/>
                          </a:solidFill>
                          <a:latin typeface="Times New Roman"/>
                          <a:ea typeface="Times New Roman"/>
                        </a:rPr>
                        <a:t>В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66ff"/>
                          </a:solidFill>
                          <a:latin typeface="Times New Roman"/>
                          <a:ea typeface="Times New Roman"/>
                        </a:rPr>
                        <a:t>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66ff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r>
                        <a:rPr b="0" lang="ru-RU" sz="2800" spc="-1" strike="noStrike">
                          <a:solidFill>
                            <a:srgbClr val="0066ff"/>
                          </a:solidFill>
                          <a:latin typeface="Times New Roman"/>
                          <a:ea typeface="Times New Roman"/>
                        </a:rPr>
                        <a:t>-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5" name="Дата 3"/>
          <p:cNvSpPr/>
          <p:nvPr/>
        </p:nvSpPr>
        <p:spPr>
          <a:xfrm>
            <a:off x="83808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6374F-FE4F-4F64-AEFC-F4EEC403201D}" type="datetime">
              <a:rPr b="0" lang="ru-RU" sz="10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Номер слайда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6458B-1174-4377-B9A5-D7A3B50BF317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7" name="Rectangle 5" descr=""/>
          <p:cNvPicPr/>
          <p:nvPr/>
        </p:nvPicPr>
        <p:blipFill>
          <a:blip r:embed="rId1"/>
          <a:stretch/>
        </p:blipFill>
        <p:spPr>
          <a:xfrm>
            <a:off x="244440" y="189000"/>
            <a:ext cx="9174240" cy="155412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990720" y="5661000"/>
            <a:ext cx="6781680" cy="9367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464646"/>
                </a:solidFill>
                <a:latin typeface="Lucida Sans Unicode"/>
              </a:rPr>
              <a:t>Спасибо за работу!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Образовательный компонет: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уроки, используя системно деятельностный подход;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валеологические уроки;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элективные курсы здоровьесберегающего содержания.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Воспитательный компонент: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кружки;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секции;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традиционные массовые мероприятия по пропаганде ЗОЖ и профилактике вредных привычек. 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7" name="Дата 2"/>
          <p:cNvSpPr/>
          <p:nvPr/>
        </p:nvSpPr>
        <p:spPr>
          <a:xfrm flipV="1" rot="10800000">
            <a:off x="7002360" y="6850080"/>
            <a:ext cx="140976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Номер слайда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CB376-70B9-4B84-9630-C34F09C49102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Заголовок 4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еспечить школьнику возможность сохранения здоровья за период обучения в школе, сформировать у него необходимые знания, умения, навыки по здоровому образу жизни, научить использовать полученные знания в повседневной жизни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1" name="Дата 2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Номер слайда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8F4A0-CE93-4ECB-971C-AAC558C916FA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Заголовок 4" descr=""/>
          <p:cNvPicPr/>
          <p:nvPr/>
        </p:nvPicPr>
        <p:blipFill>
          <a:blip r:embed="rId1"/>
          <a:stretch/>
        </p:blipFill>
        <p:spPr>
          <a:xfrm>
            <a:off x="249120" y="133200"/>
            <a:ext cx="8444160" cy="131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-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зировка учебной нагрузки;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остроение урока с учетом 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оспособности учащихся;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облюдение гигиенических требований к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бному кабинету;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благоприятный эмоциональный настрой;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оведение физкультминуток и 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намических пауз на уроках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5" name="Дата 2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Номер слайда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97CC5-EB43-4CE9-A882-F53B6610F719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7" name="Заголовок 4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6313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технология личностно-ориентированного обучения;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технология проектной деятельности;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технология дифференцированного обучения;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технологию критического мышления;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игровые технологии;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технология проблемного обучения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9" name="Дата 2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4EBAB-6C3A-4359-ADEC-5736F8476F21}" type="datetime">
              <a:rPr b="0" lang="ru-RU" sz="10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Номер слайда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EDBE3-3654-41BC-9F4F-D84CB7FACBE0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1" name="Заголовок 4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Здоровье – дороже золота»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 Чтоб больными лежать, надо спорт уважать»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Со спортом дружить – сильным не быть»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Здоровыми быть – горе забыть»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Чистота- залог здоровья»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 Здоровье разум дарит»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 Кто долго жуёт, тот без зубов живёт»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3" name="Дата 2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029EC-F124-4418-8A9A-AA1F259F70F6}" type="datetime">
              <a:rPr b="0" lang="ru-RU" sz="10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Номер слайда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1964E-051C-4217-9C5B-3426877A825A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5" name="Заголовок 4" descr=""/>
          <p:cNvPicPr/>
          <p:nvPr/>
        </p:nvPicPr>
        <p:blipFill>
          <a:blip r:embed="rId1"/>
          <a:stretch/>
        </p:blipFill>
        <p:spPr>
          <a:xfrm>
            <a:off x="450720" y="60480"/>
            <a:ext cx="8242560" cy="145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6" name="Rectangle 2" descr=""/>
          <p:cNvPicPr/>
          <p:nvPr/>
        </p:nvPicPr>
        <p:blipFill>
          <a:blip r:embed="rId1"/>
          <a:stretch/>
        </p:blipFill>
        <p:spPr>
          <a:xfrm>
            <a:off x="298440" y="195120"/>
            <a:ext cx="8699400" cy="884520"/>
          </a:xfrm>
          <a:prstGeom prst="rect">
            <a:avLst/>
          </a:prstGeom>
          <a:ln w="0">
            <a:noFill/>
          </a:ln>
        </p:spPr>
      </p:pic>
      <p:sp>
        <p:nvSpPr>
          <p:cNvPr id="447" name=""/>
          <p:cNvSpPr txBox="1"/>
          <p:nvPr/>
        </p:nvSpPr>
        <p:spPr>
          <a:xfrm>
            <a:off x="928440" y="1213920"/>
            <a:ext cx="800100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пиши это... (Опиши цвет, форму, размеры или другие характеристики)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равни это... (На что это похоже? Чем отличается?)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оассоциируй это... (Что это напоминает?)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6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анализируй это... (Как это сделано? Из чего состоит?)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6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ни это... (Что с этим можно делать? Как это применяется?)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иведи "за" и "против" (Поддержи или опровергни это)</a:t>
            </a:r>
            <a:br>
              <a:rPr sz="2200"/>
            </a:br>
            <a:br>
              <a:rPr sz="1600"/>
            </a:b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8" name="Номер слайда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97E23-BFE0-44CB-AAE3-7A4196AF639A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физм – (от греческого sophisma , «мастерство, умение, хитрая выдумка, уловка») - умозаключение или рассуждение, обосновывающее какую-нибудь заведомую нелепость, абсурд или парадоксальное утверждение, противоречащее общепринятым представлениям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0" name="Дата 2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Номер слайда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F1D1A-66C8-449F-95DF-EFB57288EAC3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2" name="Заголовок 4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3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45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Что ты не терял, то имеешь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га ты не терял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чит, у тебя рога»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55" name="Picture 2" descr=""/>
          <p:cNvPicPr/>
          <p:nvPr/>
        </p:nvPicPr>
        <p:blipFill>
          <a:blip r:embed="rId2"/>
          <a:stretch/>
        </p:blipFill>
        <p:spPr>
          <a:xfrm>
            <a:off x="2771640" y="4005360"/>
            <a:ext cx="2438640" cy="2438280"/>
          </a:xfrm>
          <a:prstGeom prst="rect">
            <a:avLst/>
          </a:prstGeom>
          <a:ln w="0">
            <a:noFill/>
          </a:ln>
        </p:spPr>
      </p:pic>
      <p:sp>
        <p:nvSpPr>
          <p:cNvPr id="456" name="Номер слайда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7B700-89E2-4ACB-B9CF-38F00567CC69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3T12:04:27Z</dcterms:created>
  <dc:creator>Сергей</dc:creator>
  <dc:description/>
  <dc:language>en-US</dc:language>
  <cp:lastModifiedBy>555</cp:lastModifiedBy>
  <dcterms:modified xsi:type="dcterms:W3CDTF">2017-09-18T14:25:11Z</dcterms:modified>
  <cp:revision>46</cp:revision>
  <dc:subject/>
  <dc:title>МАСТЕР-КЛАСС</dc:title>
</cp:coreProperties>
</file>