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66C-6847-4444-B467-AF402DB0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31F-A641-46BF-8B1F-B4799AE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831-713B-4D9A-893B-299F3DE2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6CE-D530-4589-9FDF-0F0E9968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B32-2B6E-469E-BDD8-39E7A1AB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0107-CBC3-4487-9EAE-B8771DF9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0B0C-B258-4FFC-AE2B-3BC7875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CFF9-D49C-4BFA-B798-A6B51AC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F348-7568-425B-85C9-C111A44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91E4-7948-4F80-A8A3-43EFD74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7E6B-5A3F-45FE-82D9-31FD079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372-7802-4D22-9827-348E234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1BAF-65B5-4BF1-BA66-253EBA3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DA90-D21E-49AF-AF4E-26A222C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207-39D8-4C24-8D09-0F3DEED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A475-68D2-4871-8BF3-A6E2195B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115D-BF06-46AD-BD82-1A493BD0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EC38-E909-41BF-A1E4-5EA81A76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1BFA-EA01-45D8-8447-D4B2A238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BCC5-6F1D-4736-881C-86D0C3F6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F73D-D2BD-44C7-B8D3-5CAC186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9C18-3D4E-4520-8A99-E4DCDB4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A7A-38D5-4AB3-AA37-D516C156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BD9E-EC5A-45E6-9C0B-4D31B972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41A1-1410-4268-A461-9547849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3D6F-374F-42B6-A0C7-4680BD7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BE15-98B4-42E8-B69B-0D8DB43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9EEE-038E-4B89-A523-F1FD411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F0B5-5679-4F5D-82B3-27CE5FEF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4440-2DD0-4933-9F52-6D4328EC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0933-01E6-4692-BF0A-BF369C1B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E328-6413-45A9-9DBC-E2769AA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0EB7-4299-4D1A-A68C-BCEABE4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5B6-568A-41D4-845F-A2B84C0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8B57-02DA-4605-8428-D8DF737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BAEB-6B6C-42AB-9134-79DB33E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0174-C311-4E90-A904-681768D5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D0A4-D0E0-4A07-B606-1044D5A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C336-2E6D-4497-BB66-38BC6D8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CCC4-589D-408E-9129-CD17AB7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AC8D-7AE2-4F14-B9AA-DFD40E7F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3E29-B6D3-4857-8A3C-7FF6702B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D404-85C2-4E76-925A-161D2414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19D-298B-4EAF-9C54-E5C8A3E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8AB-368D-4934-A3C2-CD72B87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C39-9F34-4403-81C0-105C11F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4BD-8837-46C6-9937-D5ACC51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63F-272E-4750-96E8-0698393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CD3B-A21E-4C29-B7E5-02B691042C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B5F-99D3-44B9-98C4-776242D8B40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6A6-E652-44D2-B785-936DC4E810D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436C-C8B2-4251-A0FE-E51F6980A4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3203640" y="234936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4" descr="C:\Users\Саня\Desktop\obigrivach1.jpg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8"/>
          <p:cNvSpPr/>
          <p:nvPr/>
        </p:nvSpPr>
        <p:spPr>
          <a:xfrm>
            <a:off x="2691000" y="32446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Прямоугольник 9"/>
          <p:cNvSpPr/>
          <p:nvPr/>
        </p:nvSpPr>
        <p:spPr>
          <a:xfrm>
            <a:off x="250920" y="620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до того перевешивает все остальные блага жизни, что поистине здоровый нищий счастливее больного корол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6836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имо прочего существуют - «школьные» факторы, негативно воздействующие на здоровье учащихся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грузка учебных программ, интенсификация учебного процесс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вершенство учебных про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ритарный стиль преподавания и т.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сутствие индивидуального подхода к учащимс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33336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так же,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гогические факторы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овая тактика авторитарной педагогики; интенсификация учебного процесса, т.е. увеличение темпа и объема учебной нагрузки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технологий обучения возрастным особенностям учащихся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лементарных физико-гигиенических требований к организации учебного процесса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работы учителей, в частности учителя физической культуры – обеспечить школьнику возможность сохранения здоровья за период обучения в школе. Для этого необходим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обучающихся необходимые знания, умения и навыки по здоровому образу жиз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школьников использовать  полученные знания в повседневной жиз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ить школьников приемам мобилизации и релаксации и духовного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задачи решаются через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тодики проведения уро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ую работу со слабоуспевающими и физически развитыми обучающими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ю знаний школьников на основе диагностики развития способностей и природных задат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ю  школьников к учен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907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у в ГБОУ СОШ №3 По результатам показателей ОФП с 2012 года по конец  учебного года 2015 года наблюдается качественные улучшения физической подготовленности учащихс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2708280"/>
          <a:ext cx="8209080" cy="3024360"/>
        </p:xfrm>
        <a:graphic>
          <a:graphicData uri="http://schemas.openxmlformats.org/drawingml/2006/table">
            <a:tbl>
              <a:tblPr/>
              <a:tblGrid>
                <a:gridCol w="1220760"/>
                <a:gridCol w="824040"/>
                <a:gridCol w="823680"/>
                <a:gridCol w="785880"/>
                <a:gridCol w="824040"/>
                <a:gridCol w="825480"/>
                <a:gridCol w="784080"/>
                <a:gridCol w="733680"/>
                <a:gridCol w="733320"/>
                <a:gridCol w="654120"/>
              </a:tblGrid>
              <a:tr h="604800"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0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ФП были приняты в соответствии с нормами  ГТО по  распоряжение правительства РФ от 30.06.2014 N 1165-р {Об утверждении плана мероприятий по поэтапному внедрению Всероссийского физкультурно-спортивного комплекса "Готов к труду и обороне" (ГТО)}, Издаётся указ Президента РФ от 1 июня 2012 г. N 76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C:\Users\Саня\Desktop\gto-002.jpg"/>
          <p:cNvPicPr/>
          <p:nvPr/>
        </p:nvPicPr>
        <p:blipFill>
          <a:blip r:embed="rId1"/>
          <a:stretch/>
        </p:blipFill>
        <p:spPr>
          <a:xfrm>
            <a:off x="6012000" y="3716280"/>
            <a:ext cx="3132000" cy="31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7928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эффективной реализации здоровьесберегающих технологий в ГБОУ СОШ №3 решены следующие задач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Users\Саня\Desktop\s1s.jpg"/>
          <p:cNvPicPr/>
          <p:nvPr/>
        </p:nvPicPr>
        <p:blipFill>
          <a:blip r:embed="rId1"/>
          <a:stretch/>
        </p:blipFill>
        <p:spPr>
          <a:xfrm>
            <a:off x="2797200" y="3284640"/>
            <a:ext cx="6346800" cy="34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349360"/>
            <a:ext cx="4259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5151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9874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 -  принят на работу квалифицированный     учитель   физической культуры начальных классов. Приглашены тренера –преподаватели по игровы видам спорта (баскетбол, волейбо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8" descr="C:\Users\Саня\Desktop\c114e3a5103238f5c2327fc5a2306659.jpeg"/>
          <p:cNvPicPr/>
          <p:nvPr/>
        </p:nvPicPr>
        <p:blipFill>
          <a:blip r:embed="rId1"/>
          <a:stretch/>
        </p:blipFill>
        <p:spPr>
          <a:xfrm>
            <a:off x="4356000" y="2133720"/>
            <a:ext cx="4788000" cy="361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:\Users\Саня\Desktop\img.jpg"/>
          <p:cNvPicPr/>
          <p:nvPr/>
        </p:nvPicPr>
        <p:blipFill>
          <a:blip r:embed="rId2"/>
          <a:stretch/>
        </p:blipFill>
        <p:spPr>
          <a:xfrm>
            <a:off x="0" y="3716280"/>
            <a:ext cx="4492800" cy="31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54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- введена физкультминутка на уроках, по мимо занятия по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887480" y="100008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6" descr="C:\Users\Саня\Desktop\fizkult.jpg"/>
          <p:cNvPicPr/>
          <p:nvPr/>
        </p:nvPicPr>
        <p:blipFill>
          <a:blip r:embed="rId1"/>
          <a:stretch/>
        </p:blipFill>
        <p:spPr>
          <a:xfrm>
            <a:off x="1476360" y="1916280"/>
            <a:ext cx="6335640" cy="474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68360" y="76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ключение в процесс занятий элементов активного отдыха где могут быть использованы элементы физической культуры помимо самого урока физкультуры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C:\Users\Саня\Desktop\520650394.jpg"/>
          <p:cNvPicPr/>
          <p:nvPr/>
        </p:nvPicPr>
        <p:blipFill>
          <a:blip r:embed="rId1"/>
          <a:stretch/>
        </p:blipFill>
        <p:spPr>
          <a:xfrm>
            <a:off x="1979640" y="2565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539640" y="692280"/>
            <a:ext cx="8136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 предопределена тем, что здоровье человека – основная ценность, именно в школьном возрасте закладываются основы здоровьесберегающего мышления и поведения лич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7" descr="C:\Users\Саня\Desktop\main_big.jpg"/>
          <p:cNvPicPr/>
          <p:nvPr/>
        </p:nvPicPr>
        <p:blipFill>
          <a:blip r:embed="rId1"/>
          <a:stretch/>
        </p:blipFill>
        <p:spPr>
          <a:xfrm>
            <a:off x="1187280" y="2754360"/>
            <a:ext cx="6258240" cy="41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8360" y="25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тивные – проводится пропаганда здорового образа жизни. В школе размещены мотивирующие к спорту фотоработы, периодически, активной группой, размещаются стенгазета с освещением спортивной жизни шко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4" descr="C:\Users\Саня\Desktop\article895.jpg"/>
          <p:cNvPicPr/>
          <p:nvPr/>
        </p:nvPicPr>
        <p:blipFill>
          <a:blip r:embed="rId1"/>
          <a:stretch/>
        </p:blipFill>
        <p:spPr>
          <a:xfrm>
            <a:off x="900000" y="2708280"/>
            <a:ext cx="672156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360" y="475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3" descr="C:\Users\Саня\Desktop\i-6409.jpg"/>
          <p:cNvPicPr/>
          <p:nvPr/>
        </p:nvPicPr>
        <p:blipFill>
          <a:blip r:embed="rId1"/>
          <a:stretch/>
        </p:blipFill>
        <p:spPr>
          <a:xfrm>
            <a:off x="1763640" y="1413000"/>
            <a:ext cx="5445360" cy="544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54900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здоровья детей России вызывает обоснованную тревогу. По данным специалистов, около 90% детей имеют отклонение в физическом и психическом здоровье; 30-35% детей, поступающих  в школу, уже имеют хронические заболевания; за годы обучения в пять раз возросло  число нарушений зрения и осанки, в четыре раза увеличивается количество нарушений психического здоровья, в три раза увеличивается число детей с заболеванием  органов пищеварения: до 80% юношей призывного возраста по медицинским критериям не готовы к службе в Вооруженных  силах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здоровый образ жизни не занимает пока первое место в иерархии потребностей и ценностей человека в нашем обществе.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5" descr="C:\Users\Саня\Desktop\6-20.png"/>
          <p:cNvPicPr/>
          <p:nvPr/>
        </p:nvPicPr>
        <p:blipFill>
          <a:blip r:embed="rId1"/>
          <a:stretch/>
        </p:blipFill>
        <p:spPr>
          <a:xfrm>
            <a:off x="1258920" y="2182680"/>
            <a:ext cx="6149880" cy="467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е состояние здоровья -  результат длительного неблагоприятного воздействия  не только социально-экономических, экологических, но и ряда педагогических факторов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C:\Users\Саня\Downloads\99396ea60d95a6d280c9fdc1f4f9f50a_640_480_c.jpg"/>
          <p:cNvPicPr/>
          <p:nvPr/>
        </p:nvPicPr>
        <p:blipFill>
          <a:blip r:embed="rId1"/>
          <a:stretch/>
        </p:blipFill>
        <p:spPr>
          <a:xfrm>
            <a:off x="11160" y="2852640"/>
            <a:ext cx="4763880" cy="368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Саня\Desktop\4521-uchitelnitsa-s-linejkoj.jpg"/>
          <p:cNvPicPr/>
          <p:nvPr/>
        </p:nvPicPr>
        <p:blipFill>
          <a:blip r:embed="rId2"/>
          <a:stretch/>
        </p:blipFill>
        <p:spPr>
          <a:xfrm>
            <a:off x="4716360" y="2854440"/>
            <a:ext cx="435636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ороны ряд негативных факторов оказывают негативное влияние на социальный заказ государства, понижая уровень здоровья граждан;  с другой проводится работа по оздоровлению общества. В том числе в шко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Саня\Desktop\3101.png"/>
          <p:cNvPicPr/>
          <p:nvPr/>
        </p:nvPicPr>
        <p:blipFill>
          <a:blip r:embed="rId1"/>
          <a:stretch/>
        </p:blipFill>
        <p:spPr>
          <a:xfrm>
            <a:off x="395280" y="2303640"/>
            <a:ext cx="4464000" cy="455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324000" y="692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едагогической (образовательной) технологии - достижение заданного образовательного результата в обучении, воспитании, развитии. При этом важно сохранить и укрепить здоровье уче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6" descr="C:\Users\Саня\Desktop\10235.jpg"/>
          <p:cNvPicPr/>
          <p:nvPr/>
        </p:nvPicPr>
        <p:blipFill>
          <a:blip r:embed="rId1"/>
          <a:stretch/>
        </p:blipFill>
        <p:spPr>
          <a:xfrm>
            <a:off x="0" y="2276640"/>
            <a:ext cx="337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:\Users\Саня\Desktop\17.jpg"/>
          <p:cNvPicPr/>
          <p:nvPr/>
        </p:nvPicPr>
        <p:blipFill>
          <a:blip r:embed="rId2"/>
          <a:stretch/>
        </p:blipFill>
        <p:spPr>
          <a:xfrm>
            <a:off x="3492360" y="3284640"/>
            <a:ext cx="2303640" cy="3198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Саня\Desktop\4-1 (1).jpg"/>
          <p:cNvPicPr/>
          <p:nvPr/>
        </p:nvPicPr>
        <p:blipFill>
          <a:blip r:embed="rId3"/>
          <a:stretch/>
        </p:blipFill>
        <p:spPr>
          <a:xfrm>
            <a:off x="5727600" y="2349360"/>
            <a:ext cx="34164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:\Users\Саня\Desktop\f16875 (1).jpg"/>
          <p:cNvPicPr/>
          <p:nvPr/>
        </p:nvPicPr>
        <p:blipFill>
          <a:blip r:embed="rId4"/>
          <a:stretch/>
        </p:blipFill>
        <p:spPr>
          <a:xfrm>
            <a:off x="0" y="4635360"/>
            <a:ext cx="3419640" cy="2222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:\Users\Саня\Desktop\chuong_trinh_anh_ngu_thieu_nhi_hi_perfect_2013101683110320.jpg"/>
          <p:cNvPicPr/>
          <p:nvPr/>
        </p:nvPicPr>
        <p:blipFill>
          <a:blip r:embed="rId5"/>
          <a:stretch/>
        </p:blipFill>
        <p:spPr>
          <a:xfrm>
            <a:off x="5796000" y="4632480"/>
            <a:ext cx="3348000" cy="222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система физического воспитания, ориентированная на рекомендуемую. Министерством образования РФ программу, рассчитана на определенное обеспечение помещениями, специализированными оборудованием и инвентарем. При отсутствии же подобных условий программа становится в полной мере невыполни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C:\Users\Саня\Desktop\45530.jpg"/>
          <p:cNvPicPr/>
          <p:nvPr/>
        </p:nvPicPr>
        <p:blipFill>
          <a:blip r:embed="rId1"/>
          <a:stretch/>
        </p:blipFill>
        <p:spPr>
          <a:xfrm rot="20914200">
            <a:off x="209160" y="3660480"/>
            <a:ext cx="4057560" cy="2530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Users\Саня\Desktop\i.jpg"/>
          <p:cNvPicPr/>
          <p:nvPr/>
        </p:nvPicPr>
        <p:blipFill>
          <a:blip r:embed="rId2"/>
          <a:stretch/>
        </p:blipFill>
        <p:spPr>
          <a:xfrm rot="960000">
            <a:off x="4917600" y="3613320"/>
            <a:ext cx="3784680" cy="252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400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жившейся ситуации выделяется ряд проблем, одной из которых является - не готовность работников образования к реализации здоровьесберегающих технологий, в условиях нов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стандар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Users\Саня\Desktop\icemoney.jpg"/>
          <p:cNvPicPr/>
          <p:nvPr/>
        </p:nvPicPr>
        <p:blipFill>
          <a:blip r:embed="rId1"/>
          <a:stretch/>
        </p:blipFill>
        <p:spPr>
          <a:xfrm>
            <a:off x="4716360" y="1916280"/>
            <a:ext cx="4427640" cy="405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Саня\Desktop\job_applications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2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7:58:37Z</dcterms:created>
  <dc:creator>Admin</dc:creator>
  <dc:description/>
  <dc:language>en-US</dc:language>
  <cp:lastModifiedBy>Саня</cp:lastModifiedBy>
  <dcterms:modified xsi:type="dcterms:W3CDTF">2015-04-23T07:13:34Z</dcterms:modified>
  <cp:revision>46</cp:revision>
  <dc:subject/>
  <dc:title>Слайд 1</dc:title>
</cp:coreProperties>
</file>