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849-791D-492C-9695-5062C43E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E7C-388D-4FAB-93C9-112B416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17E-3123-439B-86B3-8B0239DE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531-31AA-441D-98A3-E5DDE25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DE4-7440-41F1-AC1B-F768CA9E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A4C-707E-4DC1-A778-081CDA6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DBC-78BC-450B-ACF3-665ACF39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C93-B099-40C0-B3B7-03C7211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2B1-A9FB-46AC-A357-3CC08780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274-F15D-4DA7-BBD0-7FA3E17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7FC-4AF6-4941-9DD2-5D0AB38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631-1FB7-4DE1-B69F-A60C240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4AE-D1A7-4266-8CD4-FC8490A5CF5B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на тему:</a:t>
            </a:r>
            <a:br>
              <a:rPr sz="29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то такое доброт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читель ИЗ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БОУ «СОШ №1 имени Ю.К.Намитокова» а</a:t>
            </a: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Понежу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Наниз Саиды Пшимафовны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том, он умер, и видит весы: слева - его зло лежит и тянет вниз, а справа - ничего нет, пусто! И зло перетягивает. «Эх, - говорит себе человек, - и здесь не повезло!». Смотрит, Ангелы пуговицу кладут. И чаша с добрыми делами перевесила. «Неужели одна эта пуговица все мои злые дела перетянула? - удивился человек. Сколько добрых дел я сделал, а их и не видно!» </a:t>
            </a:r>
            <a:br>
              <a:rPr sz="1900"/>
            </a:br>
            <a:r>
              <a:rPr b="1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услышал, как Ангел говорит ему: «Из-за того, что ты гордился своими добрыми делами, они и пропали! А вот именно этой пуговицы, о которой ты забыл, хватило, чтобы ты от гибели спасся!»  Добрые дела не в добрых делах живут, а в добром сердце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68944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и о добр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571760"/>
            <a:ext cx="8642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                                                                                                                                                  - Учись доброму - плохое на ум не пойдё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 доброе дело говори сме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изнь дана на добрые дел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удо жить без ласкового сло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ое слово лечит, а злое калеч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одежда красит человека, а его добрые дел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лой плачет от зависти, а добрый - от радос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ые слова дороже богат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ом добра нет, в том и правды ма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ищи красоты, ищи доброты.                                                                                                   - Кто любит добрые дела, тому и жизнь ми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6156360" y="1571760"/>
            <a:ext cx="27255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 и поговорки:</a:t>
            </a:r>
            <a:br>
              <a:rPr sz="44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- Спеши делать добро.</a:t>
            </a:r>
            <a:br>
              <a:rPr sz="2900"/>
            </a:b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- Добрые дела красят человека.</a:t>
            </a:r>
            <a:br>
              <a:rPr sz="2900"/>
            </a:b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- Без добрых дел  нет доброго имени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- Жизнь дана на добрые дела.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- Добро век не забудется.</a:t>
            </a:r>
            <a:br>
              <a:rPr sz="2900"/>
            </a:b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- Доброе слово дом построит, злое дом разрушит.</a:t>
            </a:r>
            <a:br>
              <a:rPr sz="2900"/>
            </a:b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- От добра добра не ищут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оброе сердце лучше богатства.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- При солнышке тепло, при матушке добро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- Доброе слово и кошке приятно.</a:t>
            </a:r>
            <a:br>
              <a:rPr sz="2900"/>
            </a:b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- Доброе дело дороже богатства.</a:t>
            </a:r>
            <a:br>
              <a:rPr sz="2900"/>
            </a:b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- Хуже тому, кто добра не делает никому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как много добрых слов образованно от этого слова – добр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доске у нас цветок добр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4"/>
          <p:cNvSpPr/>
          <p:nvPr/>
        </p:nvSpPr>
        <p:spPr>
          <a:xfrm>
            <a:off x="3708360" y="0"/>
            <a:ext cx="1150920" cy="2781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оброжелательный</a:t>
            </a:r>
            <a:endParaRPr b="1" i="1" lang="en-US" sz="1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5" name="Oval 5"/>
          <p:cNvSpPr/>
          <p:nvPr/>
        </p:nvSpPr>
        <p:spPr>
          <a:xfrm>
            <a:off x="3708360" y="4149720"/>
            <a:ext cx="1150920" cy="2708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сердеч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6" name="Oval 6"/>
          <p:cNvSpPr/>
          <p:nvPr/>
        </p:nvSpPr>
        <p:spPr>
          <a:xfrm rot="5221200">
            <a:off x="5830560" y="2014200"/>
            <a:ext cx="1150920" cy="280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душ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7" name="Oval 7"/>
          <p:cNvSpPr/>
          <p:nvPr/>
        </p:nvSpPr>
        <p:spPr>
          <a:xfrm rot="5221200">
            <a:off x="1655280" y="2103120"/>
            <a:ext cx="1150920" cy="280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нрав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8" name="Oval 8"/>
          <p:cNvSpPr/>
          <p:nvPr/>
        </p:nvSpPr>
        <p:spPr>
          <a:xfrm rot="3336600">
            <a:off x="5225760" y="700200"/>
            <a:ext cx="1150920" cy="280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детель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9" name="Oval 10"/>
          <p:cNvSpPr/>
          <p:nvPr/>
        </p:nvSpPr>
        <p:spPr>
          <a:xfrm rot="3421800">
            <a:off x="2218320" y="3361320"/>
            <a:ext cx="1150920" cy="27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порядоч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0" name="Oval 11"/>
          <p:cNvSpPr/>
          <p:nvPr/>
        </p:nvSpPr>
        <p:spPr>
          <a:xfrm rot="7324200">
            <a:off x="5255640" y="3321000"/>
            <a:ext cx="1150920" cy="280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совестный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1" name="Oval 12"/>
          <p:cNvSpPr/>
          <p:nvPr/>
        </p:nvSpPr>
        <p:spPr>
          <a:xfrm rot="7413600">
            <a:off x="2147760" y="756720"/>
            <a:ext cx="1150920" cy="273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одетель</a:t>
            </a:r>
            <a:endParaRPr b="1" i="1" lang="en-US" sz="1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3564000" y="2492280"/>
            <a:ext cx="1584360" cy="180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ДОБРО</a:t>
            </a:r>
            <a:endParaRPr b="1" i="1" lang="en-US" sz="28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Цветок Доброты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196640"/>
            <a:ext cx="763272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оброт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это как сказочный цветок, который может расцвести в душе каждого из нас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оброт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солнечный свет, под которым распускается цветок добродетели. (А.Гр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шеб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Катаев «Цветик – семицвет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0" descr="фото 4"/>
          <p:cNvPicPr/>
          <p:nvPr/>
        </p:nvPicPr>
        <p:blipFill>
          <a:blip r:embed="rId1"/>
          <a:stretch/>
        </p:blipFill>
        <p:spPr>
          <a:xfrm>
            <a:off x="1258920" y="4653000"/>
            <a:ext cx="1281240" cy="170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971280" y="4149360"/>
            <a:ext cx="346212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.С. Пушкин «Сказка о рыбаке и рыбк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.Лагин «Старик – Хоттабыч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3" descr="iфото 3"/>
          <p:cNvPicPr/>
          <p:nvPr/>
        </p:nvPicPr>
        <p:blipFill>
          <a:blip r:embed="rId2"/>
          <a:stretch/>
        </p:blipFill>
        <p:spPr>
          <a:xfrm>
            <a:off x="1332000" y="26370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фото 2"/>
          <p:cNvPicPr/>
          <p:nvPr/>
        </p:nvPicPr>
        <p:blipFill>
          <a:blip r:embed="rId3"/>
          <a:stretch/>
        </p:blipFill>
        <p:spPr>
          <a:xfrm>
            <a:off x="5219640" y="2492280"/>
            <a:ext cx="244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на что бы вы потратили лепестки волшебного цвет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1915920"/>
            <a:ext cx="277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280" y="1981080"/>
            <a:ext cx="6985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, как вы думаете, легко ли быть по-настоящему добр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. Действительно быть добрым трудно. Путь к доброте долгий, нелегкий. На нем человека ожидают взлеты и падения, спуски и подъемы, чередования зла и добра. У каждого человека,  большого и маленького, свой путь к добр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ня добр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фото 8"/>
          <p:cNvPicPr/>
          <p:nvPr/>
        </p:nvPicPr>
        <p:blipFill>
          <a:blip r:embed="rId1"/>
          <a:stretch/>
        </p:blipFill>
        <p:spPr>
          <a:xfrm>
            <a:off x="250920" y="1773360"/>
            <a:ext cx="1657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хотворение М.Садовс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1267920"/>
            <a:ext cx="403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как-то в дом принёс ще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домного бродягу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б подкормить его слегк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лодного бедняг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у, что ж - сказала мама,- 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поживёт немнож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глазах его такая грусть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дётся супа лож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во дворе нашёл по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ёнка чуть жив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го принёс я тоже в д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зала мама снова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 поживёт немножк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глазах его такая грусть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дётся каши лож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жды я нашёл еж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жа и черепаху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заяц в нашу дверь вбежа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верное, со страх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зала мама: «Пусть живу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вартире так чудесн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если потесниться 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нам найдется мест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фото 8"/>
          <p:cNvPicPr/>
          <p:nvPr/>
        </p:nvPicPr>
        <p:blipFill>
          <a:blip r:embed="rId1"/>
          <a:stretch/>
        </p:blipFill>
        <p:spPr>
          <a:xfrm>
            <a:off x="4859280" y="1484280"/>
            <a:ext cx="1371600" cy="103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фото 10"/>
          <p:cNvPicPr/>
          <p:nvPr/>
        </p:nvPicPr>
        <p:blipFill>
          <a:blip r:embed="rId2"/>
          <a:stretch/>
        </p:blipFill>
        <p:spPr>
          <a:xfrm>
            <a:off x="5148360" y="278136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фото 11"/>
          <p:cNvPicPr/>
          <p:nvPr/>
        </p:nvPicPr>
        <p:blipFill>
          <a:blip r:embed="rId3"/>
          <a:stretch/>
        </p:blipFill>
        <p:spPr>
          <a:xfrm>
            <a:off x="6804000" y="270828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фото 13"/>
          <p:cNvPicPr/>
          <p:nvPr/>
        </p:nvPicPr>
        <p:blipFill>
          <a:blip r:embed="rId4"/>
          <a:stretch/>
        </p:blipFill>
        <p:spPr>
          <a:xfrm>
            <a:off x="7020000" y="486900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фото 12"/>
          <p:cNvPicPr/>
          <p:nvPr/>
        </p:nvPicPr>
        <p:blipFill>
          <a:blip r:embed="rId5"/>
          <a:stretch/>
        </p:blipFill>
        <p:spPr>
          <a:xfrm>
            <a:off x="5219640" y="4005360"/>
            <a:ext cx="158436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фото 14"/>
          <p:cNvPicPr/>
          <p:nvPr/>
        </p:nvPicPr>
        <p:blipFill>
          <a:blip r:embed="rId6"/>
          <a:stretch/>
        </p:blipFill>
        <p:spPr>
          <a:xfrm>
            <a:off x="6877080" y="1341360"/>
            <a:ext cx="1371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дует нам в лицо, закачалось деревц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тише, тише, тише.  Деревцо все выше, выш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вместно с детьми имитировать дуновение ветра, качая туловище и помогая руками. На словах «тише, тише» - присесть. На словах «выше, выше» - встать и вытянуть руки ввер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720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ебята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егодня мы с вами поговорим о важном, нужном качестве, без которого человек не может называться человеком. Послушайте эти сти­хотворения  и скажите, о чем будет  наш разговор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915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как нам добрые слова нужны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з мы в этом убедились сам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может не слова — дела важны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 — делами, а слова — словам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живут у каждого из нас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дне души до времени храним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 их произнести в тот самый час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они другим необходи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844880" y="2492280"/>
            <a:ext cx="3810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как бы поступил 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№1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, возвращаясь из школы, увидел, как старушка, поставив на скамейку тяже­лый пакет, не могла отдышаться. Он подошел к ней и предложил свои услуги. Мальчик помог                                               донести груз, хотя ему было не по пу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ий раз, торопясь в школу, он увидел                                                          на перекрестке старика, который никак не                                                                  решался перейти улицу. Мальчик подошел к нему,                                                              взял за руку и перевел на другую сторону улицы.                                                  Только старик собрался поблагодарить,  его,                                                                           как мальчика возле него не оказа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522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как бы поступил 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2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тарушка-соседка попро­сила мальчика отнести и сдать в магазин бутыл­ки из-под кефира, он согласился, но сказал, что за это она должна чем-то отблагодарить ег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- </a:t>
            </a:r>
            <a:r>
              <a:rPr b="1" lang="ru-RU" sz="2000" spc="-1" strike="noStrike">
                <a:solidFill>
                  <a:srgbClr val="474773"/>
                </a:solidFill>
                <a:latin typeface="Times New Roman"/>
                <a:ea typeface="Times New Roman"/>
              </a:rPr>
              <a:t>Ребята, проанализируйте эти ситуации и скажите: по каким мотивам совершилось доброе дело? </a:t>
            </a:r>
            <a:r>
              <a:rPr b="1" lang="ru-RU" sz="2000" spc="-1" strike="noStrike">
                <a:solidFill>
                  <a:srgbClr val="474773"/>
                </a:solidFill>
                <a:latin typeface="Calibri"/>
                <a:ea typeface="Times New Roman"/>
              </a:rPr>
              <a:t>                                                                                                   - </a:t>
            </a:r>
            <a:r>
              <a:rPr b="1" lang="ru-RU" sz="2000" spc="-1" strike="noStrike">
                <a:solidFill>
                  <a:srgbClr val="474773"/>
                </a:solidFill>
                <a:latin typeface="Times New Roman"/>
                <a:ea typeface="Times New Roman"/>
              </a:rPr>
              <a:t>Как вы полагаете, сможет ли                                                                                        второй мальчик бескорыстно                                                                                                   делать добро людям?  (Н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4773"/>
                </a:solidFill>
                <a:latin typeface="Times New Roman"/>
                <a:ea typeface="Times New Roman"/>
              </a:rPr>
              <a:t>Как бы вы поступили на месте мальчик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4773"/>
                </a:solidFill>
                <a:latin typeface="Times New Roman"/>
                <a:ea typeface="Times New Roman"/>
              </a:rPr>
              <a:t>Какие пословицы вы отнесете к этим ситуация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4773"/>
                </a:solidFill>
                <a:latin typeface="Times New Roman"/>
                <a:ea typeface="Times New Roman"/>
              </a:rPr>
              <a:t>Где и как проявляете доброту? Творите добро ради самого добра, будьте в этом бескорыстны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 вернемся к нашему цветку Добр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ми  качествами, по вашему мнению, должен обладать человек, про которого можно сказать, что он добр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Звучит «Вальс цветов» П.И.Чайковского. Дети прикрепляют свои цветки рядом с цветком Доброты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чудесная получилась цветочная поляна! На ней расцвели необходимые качеств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42560" y="259920"/>
            <a:ext cx="8101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брые сердца – это сад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брые слова – это корн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брые мысли – цвет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брые дела – плод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ботьтесь о своём саде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е позволяйте ему зарастать сорняками, наполняйте его солнечным светом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брыми словами, делами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пешите делать добро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орога добра» 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л. Ю. Энтина, муз. М. Минкова)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24000" y="1268280"/>
            <a:ext cx="576072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роси у жизни строгой: Какой идти дорогой,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уда по свету белому отправиться с утра?                                                                                        Иди за солнцем следом, хоть этот путь неведом,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ди, мой друг, всегда иди дорогою добра!                                                                                        Забудь свои заботы,  падения и взлеты,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 хнычь, когда судьба ведет себя не как сестра.                                                                                      Но если с другом худо, не уповай на чудо –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еши к  нему, всегда иди, дорогою добра!                                                                                     Ах, сколько будет разных сомнений и соблазнов!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 забывай, что эта жизнь недетская игра.                                                                                 Ты прочь гони соблазны, усвой закон негласный: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ди, мой друг, всегда иди дорогою добра!</a:t>
            </a:r>
            <a:endParaRPr b="1" i="1" lang="en-US" sz="20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овите признаки доброты.                                                                                                                      - Где и как надо проявлять доброту?                                                                                                            - Делали ли Вы добро люд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63597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****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ота нужна всем людям, пусть побольше добрых буде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ят не зря при встрече: «Добрый день» и «Добрый вечер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е зря ведь есть у нас пожелание «В добрый час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ота — она от века украшенье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****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той в стороне равнодушно, когда, у кого то бед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вануться на выручку нужно в  любую минуту, всегд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если кому — то, кому — то поможет твоя доброта, улыбка тво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счастлив, что день не напрасно был прожит, что годы живешь ты не з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922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Как праздник, как счастье, как чуд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Идет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Доброта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о Земле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И я про нее не забуду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Хотя забываю о Зл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ята! Будьте добры с теми, кто вас окруж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лайте людям добро и будьте уверены, они отблагодарят вас тем ж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мните, что без добрых дел нет доброго име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стесняйтесь своей доброты и поделись ею со всем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отворение Л.Никола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3640" y="1052640"/>
            <a:ext cx="360972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ово это серьезное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лавное, важное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о, что значит оно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чень нужно для каждого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нем забота и ласка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пло и любов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нем стремлень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 помощь прийти вновь и внов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о каче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сердце  у многих живе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 о боли други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забыть не да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 оно поважн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Чем лица красо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огадались, что это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ердец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j0288858"/>
          <p:cNvPicPr/>
          <p:nvPr/>
        </p:nvPicPr>
        <p:blipFill>
          <a:blip r:embed="rId1"/>
          <a:stretch/>
        </p:blipFill>
        <p:spPr>
          <a:xfrm>
            <a:off x="3995640" y="1268280"/>
            <a:ext cx="4824360" cy="496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мните слова Б.Окуджав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 же, друзья, друг другом восхища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окопарных слов не надо опас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 говорить друг другу комплимен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дь это всё любви счастливые мом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 понимать  друг друга с полу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б, ошибившись раз, не ошибаться сн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рога доб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фото 0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бята, Вы догадались, о  каком качестве пойдет реч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а, сегодня мы будем говорить о доброте.  В наши  дни доброта утратила свою нравственную силу, наблюдается дефицит ми­лосердия.  Или, возможно, современному человеку не нужно сочувствие, сопереживание, внимание, доброжелатель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04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добро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5"/>
          <p:cNvPicPr/>
          <p:nvPr/>
        </p:nvPicPr>
        <p:blipFill>
          <a:blip r:embed="rId1"/>
          <a:stretch/>
        </p:blipFill>
        <p:spPr>
          <a:xfrm>
            <a:off x="431640" y="1512720"/>
            <a:ext cx="8533080" cy="5345280"/>
          </a:xfrm>
          <a:prstGeom prst="rect">
            <a:avLst/>
          </a:prstGeom>
          <a:ln w="0">
            <a:noFill/>
          </a:ln>
        </p:spPr>
      </p:pic>
      <p:pic>
        <p:nvPicPr>
          <p:cNvPr id="55" name="Track02.wav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7028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добро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акого человека мы можем назвать добры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гко или трудно быть добры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539640" y="1413000"/>
            <a:ext cx="439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ота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4" descr="1209583660serdce"/>
          <p:cNvPicPr/>
          <p:nvPr/>
        </p:nvPicPr>
        <p:blipFill>
          <a:blip r:embed="rId1"/>
          <a:stretch/>
        </p:blipFill>
        <p:spPr>
          <a:xfrm>
            <a:off x="5364000" y="836640"/>
            <a:ext cx="348300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250920" y="371628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ahoma"/>
              </a:rPr>
              <a:t>Доброта – это отзывчивость, душевное расположение к людям, стремление делать добро другим. </a:t>
            </a:r>
            <a:endParaRPr b="1" i="1" lang="en-US" sz="40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Доброта…Добро… Что это такое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о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отзывчивость, сочувствие, дружеское расположение к людям; всё положительное, хорошее, полезное. (Л.Толст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о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вещь удивительная. Она сближает, как ничто другое. Доброта избавляет нас от одиночества, душевных ран и непрошенных обид. (В.Роз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о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как сказочный цветок, который может расцвести в душе каждого из на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о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это стремление человека дать полное счастье всем людям, всему человечест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тив всего можно устоять, но не против добр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Ж.Ж. Русс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азка «Пугови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один человек, и жил он не очень хорошо, путано. Решил взяться за ум, делать добрые дела, спасать душу. Делал их, делал, а особенного изменения в себе к лучшему не замечал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он шел по улице, видит - у одной старушки пуговица от пальто оборвалась и упала на землю. Увидел, и думает: «Да чего там! Пуговиц у нее еще хватит. Не поднимать же! Ерунда какая!» Но все-таки,  поднял пуговицу, догнал старушку, отдал ей пуговицу и забыл об эт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27417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7:41:55Z</dcterms:created>
  <dc:creator>User</dc:creator>
  <dc:description/>
  <dc:language>en-US</dc:language>
  <cp:lastModifiedBy>Саида</cp:lastModifiedBy>
  <dcterms:modified xsi:type="dcterms:W3CDTF">2017-02-18T09:11:04Z</dcterms:modified>
  <cp:revision>48</cp:revision>
  <dc:subject/>
  <dc:title>Слайд 1</dc:title>
</cp:coreProperties>
</file>