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8DCE-D09F-4BA7-B67D-EB848A945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1903-6B31-496A-86B5-96C403BD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24A4-BE44-476B-8D34-1231B68EC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1F57-FB3D-4247-BCC1-0B43148D0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280A-789F-422E-919E-E1995558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888A-599C-4025-823B-F82D8EB7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FC10-EB28-499D-B226-B68EB3B2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7B30-E6E4-4A71-89C3-31B1585B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151D-DCDA-414E-BBE2-69270CAA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9904-466B-433A-B8E7-7AA73D08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5A8F-487A-43F2-A597-19D2CA49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9E30-67D6-41EB-B911-75E051E2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988E-6C22-430A-820E-A66A0F06A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28267" b="2975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755640" y="1989000"/>
            <a:ext cx="7561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квамир нашего города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0" t="0" r="28267" b="2975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24000" y="908280"/>
            <a:ext cx="84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Этот символ города появился в Свердловске в 60-х годах. Фонтан зеленого цвета (под малахит) спроектирован по мотивам сказов Бажова. Бассейн фонтана – круглый и оформлен высококачественным розовым мрамором. В городе Каменске-Уральском был отлит из чугуна цветок. Сам цветок выкрашен в зеленый цвет и имеет восемь больших лепестков. Выше цветка находятся пшеничные колосья. Сердцевина цветка является вершиной фонтана, из которой струится вода. На каждом большом лепестке отображены серп и молот, чередующиеся с пятиугольной звездой. В 70-х годах в бассейне были установлены разноцветные фонар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79640" y="33264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Фонтан «Каменный цвето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9640" y="3500280"/>
            <a:ext cx="3667320" cy="2743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500720" y="3500280"/>
            <a:ext cx="410364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0" t="0" r="28267" b="2975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24000" y="909720"/>
            <a:ext cx="842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Фонтан расположен рядом с Театра Драмы. Фонтан был построен в конце 80-х годов. По замыслу архитектора Виталия Лоскутова, он символизирует чистую планету, омываемую струями прозрачной воды. На 40-тонном шаре должны были быть выгравированы материки, но нужных специалистов в городе не нашлось, и шар оставили «голым». Интересна форма фонтана – большая круглая чаша находится ниже уровня поверхности земли. К шару ведут широкие ступени, по которым можно свободно гулять, если не боишься намокну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63640" y="332640"/>
            <a:ext cx="54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Фонтан «Шар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rcRect l="0" t="0" r="0" b="5356"/>
          <a:stretch/>
        </p:blipFill>
        <p:spPr>
          <a:xfrm>
            <a:off x="900000" y="2924280"/>
            <a:ext cx="4969080" cy="3527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rcRect l="35409" t="0" r="39068" b="0"/>
          <a:stretch/>
        </p:blipFill>
        <p:spPr>
          <a:xfrm>
            <a:off x="6227640" y="2924280"/>
            <a:ext cx="13860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rcRect l="0" t="0" r="28267" b="2975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4000" y="1052640"/>
            <a:ext cx="84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Фонтан находится в Историческом сквере. Всё техническое оборудование светомузыкального фонтана, включающее в себя порядка 200 светильников, смонтировано на специальном понтоне шириной 11,5 м., который погружен в водное пространство реки Исеть. Автоматическое управление светомузыкальным фонтаном осуществляется из специального технического помещ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47556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Фонтан «Светомузыкальн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0" t="0" r="21265" b="10319"/>
          <a:stretch/>
        </p:blipFill>
        <p:spPr>
          <a:xfrm>
            <a:off x="250920" y="2708280"/>
            <a:ext cx="4248000" cy="3227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680000" y="2708280"/>
            <a:ext cx="428472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rcRect l="0" t="0" r="28267" b="2975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00000" y="1844640"/>
            <a:ext cx="73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Обязательно посетите все эти красивые объекты, и берегите их для будущего поко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28267" b="2975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4000" y="2430720"/>
            <a:ext cx="8353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Давайте рассмотрим наиболее значимые и крупные объекты водного мира Екатеринбург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Городская плотина - «Плотин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Верх-Исетский пр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Озеро Шарта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Фонтаны го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157212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Для того, чтобы рассказать обо всех водных объектах, потребуется очень много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79640" y="333000"/>
            <a:ext cx="54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Аквамир города Екатеринбурга очень разнообразен и бог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28267" b="2975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4000" y="1051200"/>
            <a:ext cx="8424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Немногие современные города могут похвастать тем, что имеют в своем списке достопримечательностей место, с которого собственно и началось существование и развитие мегаполиса. В Екатеринбурге такое место есть, и расположено оно не где-нибудь, а в сердце города, в самом его центре. Это знаменитая плотина городского пруда на реке Исеть, в народе именуемая просто «Плотинка». Все праздники и фестивали проводятся именно зде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92360" y="47556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Городская плотина - «Плотин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6560" y="3357720"/>
            <a:ext cx="4321440" cy="2868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88000" y="3357720"/>
            <a:ext cx="381636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28267" b="2975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9280" y="1051200"/>
            <a:ext cx="4969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Сверху на «Плотинку» смотрят с высоты постамента основатели города Татищев и де Геннин, именно под их руководством в 1723 году была построена плотина на реке Исеть, которая положила начало строительства Екатеринбурга. Плотина является старейшим сооружением подобного рода в России, построена она из редкой уральской лиственницы, которая каменеет в воде и становится крепч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92360" y="47556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Городская плотина - «Плотин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64000" y="1197000"/>
            <a:ext cx="3422880" cy="4564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0920" y="4288320"/>
            <a:ext cx="4897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В современный вид плотина была приведена после реконструкции в 1962 году, а территория, примыкающая к плотине, была названа Историческим скве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28267" b="2975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9280" y="1276200"/>
            <a:ext cx="4753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Верх-Исетский пруд представляет собой искусственное водохранилище, которое в 1725-1726 годах, было образованно на реке Исеть. Он находится в водоохраной зоне Екатеринбурга и является одним из главных источников водоснабжения для города. Водоём протянулся вдоль Исети примерно на 10 километров. Средняя глубина около 2,5 метров, наибольшая же колеблется от 8 до 10 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79640" y="54684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Верх-Исетский п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rcRect l="0" t="0" r="22678" b="0"/>
          <a:stretch/>
        </p:blipFill>
        <p:spPr>
          <a:xfrm>
            <a:off x="5076720" y="1197000"/>
            <a:ext cx="3816360" cy="3271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498204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Верх-Исетский пруд пополняет свои запасы воды за счет Исети и за счет каналов  Волчихинского и Нязепетровского водохранилищ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28267" b="2975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24000" y="1195920"/>
            <a:ext cx="835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Пруд является излюбленным местом для рыбалки и отдыха, но вода в нём признана непригодной для купания. На водной станции есть прокат лодок, яхт-клуб, здесь проводятся соревнования по водным видам спо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79640" y="54684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Верх-Исетский п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24000" y="2349360"/>
            <a:ext cx="3528720" cy="2360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995640" y="2349360"/>
            <a:ext cx="47530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28267" b="2975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4000" y="906840"/>
            <a:ext cx="84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Шарташ – озеро на северо-восточной окраине города Екатеринбурга. Название водоема происходит от двух слов тюркского происхождения: «сары» - «желтый», «таш» - «камень» – и связано с оттенком прибрежных ск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9640" y="33264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Озеро Шарта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332000" y="2349360"/>
            <a:ext cx="648000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0" r="28267" b="2975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24000" y="1011240"/>
            <a:ext cx="8424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Озеро Шарташ – одно из немногих в мире в своем роде. Оно образовалось, по обоснованному мнению ученых, около 1 миллиона лет назад. И, что интересно, форма озера, напоминающая фасолевую бобину (выпуклой стороной – на восток), практически не менялась с тех далеких эпох. Лишь на берегах его менялась флора и фауна, гигантские папоротники сменялись хвойными и цветковыми растениями, а ящеры разных видов уступили место на лесистых берегах озера медведям, лосям, волк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79640" y="33264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Озеро Шарта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3356640"/>
            <a:ext cx="84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Есть мнение, что менялась не только растительность и животный мир. Менялись культуры людских племен, заселявших берега в разные исторические эпохи, и, возможно, некогда здесь находился центр некоей древней цивилизации, следы которой можно обнаружить и сейч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4651920"/>
            <a:ext cx="84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До XX века озеро было проточным и имело сток в реку Исеть. Шарташский сток находился западнее современного поселка Пески. В настоящее время бессточное, и уровень озера поддерживается за счет родников (ключе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0" r="28267" b="2975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95280" y="908280"/>
            <a:ext cx="84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Цветомузыкальный фонтан «Созвездие» расположен на главной площади в Центральном парке им. Маяковского. Он был построен в 2006 году. В Уральском регионе нет аналогов фонтану. Отличительной особенностью фонтана является использование пяти разных цветов вместо трех. Также с помощью подсветки достигается эффект 9 оттенков. Струи фонтана бьют в такт музыке. Водная картина образовывается наклонными и вертикальными струями, высота которых достигает от 1 до 8 м. В движение они дают 13 картинок, которые меняются в зависимости от темпа музыки. Помимо Цветомузыкального фонтана «Созвездие» в парке находятся ещё 3 маленьких фонт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79640" y="33264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Фонтан «Созвезд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17400" y="3645000"/>
            <a:ext cx="3810240" cy="2539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148360" y="3645000"/>
            <a:ext cx="338436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0T18:33:20Z</dcterms:created>
  <dc:creator>ШЕВА 7</dc:creator>
  <dc:description/>
  <dc:language>en-US</dc:language>
  <cp:lastModifiedBy>ШЕВА 7</cp:lastModifiedBy>
  <dcterms:modified xsi:type="dcterms:W3CDTF">2014-11-10T19:49:36Z</dcterms:modified>
  <cp:revision>21</cp:revision>
  <dc:subject/>
  <dc:title>Слайд 1</dc:title>
</cp:coreProperties>
</file>