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A02F-30A8-4E6A-B4E2-37C08B91C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D63E-FA7A-4B9B-9E3A-F66F7D867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669-C8C8-4E71-A9EB-C51FD9E8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FC3-741D-484F-A84C-88656C90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790-570F-41AB-B44D-8B5FE785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81E-A294-448D-896F-4FAC6846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2F0-E7FC-4638-BF61-2C9E19F5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8DB-D9E9-4645-B7EC-983BC46D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436-B552-4CF4-8457-87EBEBB9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EE3-D073-478D-89A9-3396C58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787-9264-4170-A9C7-240CAAB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A70-F956-41DD-A9C4-793707EC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FE1-A77A-404D-BD83-58237BFB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A80-79A0-4B11-92ED-EB589973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3C42-9713-419D-A788-6D20523A64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725400" y="725400"/>
            <a:ext cx="8339400" cy="29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http://img.relax.ru/90172/9503632574778556_3a77b49c.jpg"/>
          <p:cNvPicPr/>
          <p:nvPr/>
        </p:nvPicPr>
        <p:blipFill>
          <a:blip r:embed="rId3"/>
          <a:stretch/>
        </p:blipFill>
        <p:spPr>
          <a:xfrm>
            <a:off x="0" y="3336840"/>
            <a:ext cx="3780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идеоурок «Роль языка в жизни общества».mp4" descr="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15640" y="692280"/>
            <a:ext cx="79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Book Antiqua"/>
              </a:rPr>
              <a:t>Язык живет вместе с жизнью  нар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 Antiqua"/>
              </a:rPr>
              <a:t>В.Г.Белинского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mkrf.ru/upload/iblock/3f1/3f130eab86761cfd2966701591a57a9e.jpg"/>
          <p:cNvPicPr/>
          <p:nvPr/>
        </p:nvPicPr>
        <p:blipFill>
          <a:blip r:embed="rId1"/>
          <a:stretch/>
        </p:blipFill>
        <p:spPr>
          <a:xfrm>
            <a:off x="250920" y="2637000"/>
            <a:ext cx="5041800" cy="28479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539640" y="54849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окажите справедливость высказывания о языке, подкрепляя свое рассуждение прим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Найдите примеры речевой избыточности. Устно исправьте синтаксические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Это был первый дебют начинающего 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 песку ступали ступни ее н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амятный сувен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ша деятельность направлена на развитие общения и коммун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езаконное растаскивание иму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Избиратели избрали достойн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н был патриотом свое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олгие и продолжительные аплодисме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..стальгия, а(п/пп)лодисменты, об…яние, возл..гаемый, дир…жировать, сув…нир, персп…ктива, арти(л/лл)ерия, декламац..я, диаг..наль, вин…грет, алг..ритм, беч..вка, зап..р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24000" y="4365720"/>
            <a:ext cx="8496000" cy="2226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стальгия, аплодисменты, обаяние, возлагаемый, дирижировать, сувенир, перспектива, артиллерия, декламация, диагональ, винегрет, алгоритм, бечёвка, запере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мма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560" y="134136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Спокойное величие гор. Вокруг множество цветов: иван-чай, густо росший на насыпи, тысячелистник, ромашка, сочевичник уже со стручками, иван-да-марья. Над головой испуганным котенком пронзительно кричит коршун, кружась и высматривая добычу. И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seemnemaailm.ee/jpg/Lathyrus%20vernus2.jpg"/>
          <p:cNvPicPr/>
          <p:nvPr/>
        </p:nvPicPr>
        <p:blipFill>
          <a:blip r:embed="rId1"/>
          <a:stretch/>
        </p:blipFill>
        <p:spPr>
          <a:xfrm>
            <a:off x="5594400" y="4194000"/>
            <a:ext cx="3548160" cy="2664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263520" y="4076640"/>
            <a:ext cx="5256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трещины камня выглядывает ящерица. На камне мох, на нем еще белая брусн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мма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дчеркните грамматические основы, отметьте неполные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Найдите предложение, осложненное однородными обособленными обстоятельствами. Чем они вы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Выпишите имена существительные, образованные способом сложение ос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ушкин мечтавший о тех временах «когда народы распри позабыв в великую семью соединятся с поистине братской дружбой относился ко всем народам России интересовался их историей культурой жизнью бытом отображая запечатлевая затем все увиденное и истинно народное в своих лучших произвед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Расставьте знак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мма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ЕВГЕША</cp:lastModifiedBy>
  <dcterms:modified xsi:type="dcterms:W3CDTF">2016-09-01T15:06:32Z</dcterms:modified>
  <cp:revision>703</cp:revision>
  <dc:subject/>
  <dc:title>Diapositiva 1</dc:title>
</cp:coreProperties>
</file>