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F7C3-8C82-4C07-8FF7-3DCCF87F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A4B-3B71-4358-A291-4940ABC2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AA6B-6C40-4AE1-A23C-9716544E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CCC-8C27-4B11-9C24-2A688DEC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6585-8AF1-4D0F-82A6-385C60F4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F2D8-C2FA-46F5-9087-C067E1C1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8C81-DC1F-4FB1-A06C-B5990E49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973F-AF87-4B97-8EA5-E034C498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F848-3C2D-4534-A48B-A8E8A959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EBDD-892D-43CD-9EC3-2CB8D251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185B-690F-4676-9AA8-FD7710B7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193-7016-4FF4-89E2-604E1DCC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4297-8465-43A3-A6F0-E2D0B104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9062-03E5-463B-8BA0-D4AFBF4E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890A-0540-4231-8A6C-196E08E3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6100-CE56-4137-8645-7E57B866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C21C-086D-459C-B411-F63DC490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467-D1A1-4F76-8F19-F52C4334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7F57-456A-41E3-9BEC-94A7059F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0027-3BA8-4B89-9186-DC9A0E1B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9CDA-AAFC-4C24-A6A9-53AC3D88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4F7-E6CA-47AD-ABBB-B523E92F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61F-9963-4773-B326-2870B610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F24F-13F3-43EF-B01A-FE766248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7D7A-3E68-4A55-BF79-7FFFC7C5E881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85E0-E84F-4ACC-B345-D6A7A322D0B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8f8f8"/>
                </a:solidFill>
                <a:latin typeface="Monotype Corsiva"/>
              </a:rPr>
              <a:t>Муниципальное бюджетное общеобразовательное учреждение </a:t>
            </a:r>
            <a:br>
              <a:rPr sz="2400"/>
            </a:br>
            <a:r>
              <a:rPr b="1" lang="en-US" sz="2400" spc="-1" strike="noStrike">
                <a:solidFill>
                  <a:srgbClr val="f8f8f8"/>
                </a:solidFill>
                <a:latin typeface="Monotype Corsiva"/>
              </a:rPr>
              <a:t>«Усолинская основная общеобразовательная школа»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1400" spc="-1" strike="noStrike">
                <a:solidFill>
                  <a:srgbClr val="ffcc00"/>
                </a:solidFill>
                <a:latin typeface="Times New Roman"/>
              </a:rPr>
              <a:t>Районный конкурс краеведческих исследовательских работ обучающихся - участников туристско-краеведческого движения обучающихся Республики Марий Эл  «Край родной марийский»по направлению «Летопись родных мест»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8f8f8"/>
                </a:solidFill>
                <a:latin typeface="Bookman Old Style"/>
              </a:rPr>
              <a:t>Номинация</a:t>
            </a:r>
            <a:br>
              <a:rPr sz="1400"/>
            </a:br>
            <a:r>
              <a:rPr b="1" lang="en-US" sz="1400" spc="-1" strike="noStrike">
                <a:solidFill>
                  <a:srgbClr val="f8f8f8"/>
                </a:solidFill>
                <a:latin typeface="Bookman Old Style"/>
              </a:rPr>
              <a:t>«Наши земляки: пути и судьбы»</a:t>
            </a:r>
            <a:br>
              <a:rPr sz="1600"/>
            </a:br>
            <a:br>
              <a:rPr sz="1600"/>
            </a:br>
            <a:r>
              <a:rPr b="1" lang="en-US" sz="2000" spc="-1" strike="noStrike">
                <a:solidFill>
                  <a:srgbClr val="ff0066"/>
                </a:solidFill>
                <a:latin typeface="Monotype Corsiva"/>
              </a:rPr>
              <a:t>Тема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Monotype Corsiva"/>
              </a:rPr>
              <a:t>«Мелодия акварели Нины  Никитиной»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00ff"/>
                </a:solidFill>
                <a:latin typeface="Monotype Corsiva"/>
              </a:rPr>
              <a:t>	</a:t>
            </a:r>
            <a:r>
              <a:rPr b="1" lang="en-US" sz="4000" spc="-1" strike="noStrike">
                <a:solidFill>
                  <a:srgbClr val="ff00ff"/>
                </a:solidFill>
                <a:latin typeface="Monotype Corsiva"/>
              </a:rPr>
              <a:t>	</a:t>
            </a:r>
            <a:r>
              <a:rPr b="1" lang="en-US" sz="4000" spc="-1" strike="noStrike">
                <a:solidFill>
                  <a:srgbClr val="ff00ff"/>
                </a:solidFill>
                <a:latin typeface="Monotype Corsiva"/>
              </a:rPr>
              <a:t>	</a:t>
            </a:r>
            <a:r>
              <a:rPr b="1" lang="en-US" sz="4000" spc="-1" strike="noStrike">
                <a:solidFill>
                  <a:srgbClr val="ff00ff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66ffff"/>
                </a:solidFill>
                <a:latin typeface="Monotype Corsiva"/>
              </a:rPr>
              <a:t>Подготовила: учащаяся 8 класса Чиркова Наталья</a:t>
            </a:r>
            <a:r>
              <a:rPr b="1" lang="en-US" sz="2800" spc="-1" strike="noStrike">
                <a:solidFill>
                  <a:srgbClr val="66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63640" y="228600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20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0000" y="2286000"/>
            <a:ext cx="302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156000" y="2286000"/>
            <a:ext cx="29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0T08:43:09Z</dcterms:created>
  <dc:creator>ЧЕРНОВ АЛЕКСЕЙ</dc:creator>
  <dc:description/>
  <dc:language>en-US</dc:language>
  <cp:lastModifiedBy>usola</cp:lastModifiedBy>
  <dcterms:modified xsi:type="dcterms:W3CDTF">2016-03-12T11:14:09Z</dcterms:modified>
  <cp:revision>24</cp:revision>
  <dc:subject/>
  <dc:title>ГРЕКИ И КРИТЯНЕ</dc:title>
</cp:coreProperties>
</file>