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C06-E893-41E7-8BDC-0FE970B2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021-319B-4FBA-9D9C-708226FF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9AD-6122-43FA-B735-5B9DB715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871-C362-41B5-81DF-001CEA46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8AC5-7D2A-4C23-8E4C-7FA42363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7403-1A7C-4E9F-85B7-03E254C3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1AA3-A167-44BF-8235-77855D75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6DC5-5510-47C6-A345-B9932C78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3580-397B-467A-9BF8-E270E24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A801-F0A2-4D51-9D85-009E9B77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6473-FA35-4D69-AEF1-711E6B3B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60E-8BBC-4F90-9D9A-541B3C9A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4AF1-85BF-43FC-99D2-25F9430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A2DB-367F-4CF6-A152-5DB16CE1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15A1-A41B-47CB-B44A-96F543C3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5077-DE54-4E3B-A8F4-9B6A41B2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103E-32CB-45D3-9E68-3AD82445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BA9-F838-45D4-B660-8ECABEA6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C33-D73C-42CB-A50C-FCC90835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280-C680-4825-B22F-920A8866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051-BA90-4C7A-96CF-469C3CF5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BBD-C0A4-4BA5-8C42-046F2BB8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598-9ACD-40D7-ABCC-A58F15ED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A5E-740A-44CA-8427-E2ED308F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4C7F-6AC8-485D-BA75-C74B3D7AC2C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0233-96C7-42B2-AA35-8BDCF483500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8f8f8"/>
                </a:solidFill>
                <a:latin typeface="Monotype Corsiva"/>
              </a:rPr>
              <a:t>Муниципальное бюджетное общеобразовательное учреждение </a:t>
            </a:r>
            <a:br>
              <a:rPr sz="2400"/>
            </a:br>
            <a:r>
              <a:rPr b="1" lang="en-US" sz="2400" spc="-1" strike="noStrike">
                <a:solidFill>
                  <a:srgbClr val="f8f8f8"/>
                </a:solidFill>
                <a:latin typeface="Monotype Corsiva"/>
              </a:rPr>
              <a:t>«Усолинская основная общеобразовательная школа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1400" spc="-1" strike="noStrike">
                <a:solidFill>
                  <a:srgbClr val="ffcc00"/>
                </a:solidFill>
                <a:latin typeface="Times New Roman"/>
              </a:rPr>
              <a:t>Районный конкурс краеведческих исследовательских работ обучающихся - участников туристско-краеведческого движения обучающихся Республики Марий Эл  «Край родной марийский»по направлению «Летопись родных мест»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8f8f8"/>
                </a:solidFill>
                <a:latin typeface="Bookman Old Style"/>
              </a:rPr>
              <a:t>Номинация</a:t>
            </a:r>
            <a:br>
              <a:rPr sz="1400"/>
            </a:br>
            <a:r>
              <a:rPr b="1" lang="en-US" sz="1400" spc="-1" strike="noStrike">
                <a:solidFill>
                  <a:srgbClr val="f8f8f8"/>
                </a:solidFill>
                <a:latin typeface="Bookman Old Style"/>
              </a:rPr>
              <a:t>«Наши земляки: пути и судьбы»</a:t>
            </a: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ff0066"/>
                </a:solidFill>
                <a:latin typeface="Monotype Corsiva"/>
              </a:rPr>
              <a:t>Тема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Monotype Corsiva"/>
              </a:rPr>
              <a:t>«Мелодия акварели Нины  Никитиной»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ff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ff00ff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ff00ff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ff00ff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66ffff"/>
                </a:solidFill>
                <a:latin typeface="Monotype Corsiva"/>
              </a:rPr>
              <a:t>Подготовила: учащаяся 8 класса Чиркова Наталья</a:t>
            </a:r>
            <a:r>
              <a:rPr b="1" lang="en-US" sz="2800" spc="-1" strike="noStrike">
                <a:solidFill>
                  <a:srgbClr val="66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63640" y="228600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20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0000" y="2286000"/>
            <a:ext cx="30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156000" y="2286000"/>
            <a:ext cx="29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0T08:43:09Z</dcterms:created>
  <dc:creator>ЧЕРНОВ АЛЕКСЕЙ</dc:creator>
  <dc:description/>
  <dc:language>en-US</dc:language>
  <cp:lastModifiedBy>usola</cp:lastModifiedBy>
  <dcterms:modified xsi:type="dcterms:W3CDTF">2016-03-12T11:14:09Z</dcterms:modified>
  <cp:revision>24</cp:revision>
  <dc:subject/>
  <dc:title>ГРЕКИ И КРИТЯНЕ</dc:title>
</cp:coreProperties>
</file>