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4D3E-BDE6-460C-8317-E4F4D19C1C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80B1-C9EA-46EA-89AB-6F5781B2B3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D44-12EB-481A-B6C9-819B3342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BE0-4EB7-4E77-B6BA-F9C6AEAD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533-F687-4F8B-8BCB-2EE911AF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208F-BA4D-484F-BE40-83E50B5B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E38-0BD8-4876-A8AB-9327833C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3A6B-26E9-40B1-A195-6772A928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27A8-10DF-4660-945B-A9282357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6E36-3122-4AAE-BD29-8D52B3C2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739C-850D-4E73-86B9-F99A5BA0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C684-0FC8-4DF3-9ECC-5A849AC3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24D1-EBD7-4CE6-85E4-EF5F015E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E01-570E-4305-9E65-DB5FA3D2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1071-E1FE-4A68-84E9-43E9C3F8C8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"/>
          <p:cNvSpPr/>
          <p:nvPr/>
        </p:nvSpPr>
        <p:spPr>
          <a:xfrm>
            <a:off x="385884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7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dce6f2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http://img21.imageshack.us/img21/9408/056679950a5d9el.png"/>
          <p:cNvPicPr/>
          <p:nvPr/>
        </p:nvPicPr>
        <p:blipFill>
          <a:blip r:embed="rId2"/>
          <a:stretch/>
        </p:blipFill>
        <p:spPr>
          <a:xfrm>
            <a:off x="0" y="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8" descr="http://img21.imageshack.us/img21/9408/056679950a5d9el.png"/>
          <p:cNvPicPr/>
          <p:nvPr/>
        </p:nvPicPr>
        <p:blipFill>
          <a:blip r:embed="rId3"/>
          <a:stretch/>
        </p:blipFill>
        <p:spPr>
          <a:xfrm>
            <a:off x="5810400" y="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8" descr="http://img21.imageshack.us/img21/9408/056679950a5d9el.png"/>
          <p:cNvPicPr/>
          <p:nvPr/>
        </p:nvPicPr>
        <p:blipFill>
          <a:blip r:embed="rId4"/>
          <a:stretch/>
        </p:blipFill>
        <p:spPr>
          <a:xfrm>
            <a:off x="5810400" y="352440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8" descr="http://img21.imageshack.us/img21/9408/056679950a5d9el.png"/>
          <p:cNvPicPr/>
          <p:nvPr/>
        </p:nvPicPr>
        <p:blipFill>
          <a:blip r:embed="rId5"/>
          <a:stretch/>
        </p:blipFill>
        <p:spPr>
          <a:xfrm>
            <a:off x="0" y="352440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571680" y="1143000"/>
            <a:ext cx="8001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ниверсаллă тест комплексĕ (УТК) программăпа чăваш чĕлхипе литература урокĕсенче усă курасси»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2643120" y="4572000"/>
            <a:ext cx="55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ыркунова Татьяна Леонар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ăрмар районĕнчи Мăнçырмари пĕтĕмĕшле пĕлÿ паракан вăтам шкулта ĕçлекен аслă категориллĕ вĕрентек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s://i.mycdn.me/image?t=0&amp;bid=802843848483&amp;id=435327837475&amp;plc=WEB&amp;tkn=*KHONOggxbAjXOHIUBzBwzsdqByk"/>
          <p:cNvPicPr/>
          <p:nvPr/>
        </p:nvPicPr>
        <p:blipFill>
          <a:blip r:embed="rId1"/>
          <a:stretch/>
        </p:blipFill>
        <p:spPr>
          <a:xfrm>
            <a:off x="928800" y="4143240"/>
            <a:ext cx="1428480" cy="214956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4000680" y="61437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 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4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28760" y="1092240"/>
            <a:ext cx="8215200" cy="5337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285840" y="42876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 результачĕсе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грамма çине куçарма пул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428760" y="1127520"/>
            <a:ext cx="84294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ĕтĕмĕшле илсене ку программăпа шкулта пĕтĕм предметпах усă курма пулать. Теста чĕрĕк умĕн, чĕрĕк хыççăн, пĕр-пĕр темăна вĕренсе пĕтерсен ирттерме май пур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ТК программăра хатĕрленĕ тест материалĕсемпе усă курса ачасен урокра илнĕ пĕлĕвне тĕрĕслеме меллĕ. Кĕске вăхăтрах ачан пĕлĕвне тĕрĕслесе хак пама пулать, вĕрентекенĕн ĕçне çăмăллатать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ĕр-пĕр темăна вĕренсе пĕтерсен е хайлава вуласа тухнă хыççăн компьютерпа тест ирттерни ачасен пĕлĕвне тĕрĕслеме кăна мар, кĕске вăхăтрах ачасем мĕн ăнланса юлманнине палăртма, çитменлĕхсене вăхăтра пĕтерме пулăша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928960" y="357120"/>
            <a:ext cx="44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ĕтĕмлет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http://yugvp.ru/wp-content/uploads/2016/02/4-3-100x100.jpg"/>
          <p:cNvPicPr/>
          <p:nvPr/>
        </p:nvPicPr>
        <p:blipFill>
          <a:blip r:embed="rId1"/>
          <a:stretch/>
        </p:blipFill>
        <p:spPr>
          <a:xfrm>
            <a:off x="7215120" y="357120"/>
            <a:ext cx="1524240" cy="164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inphormatika.ru/img/im_125.png"/>
          <p:cNvPicPr/>
          <p:nvPr/>
        </p:nvPicPr>
        <p:blipFill>
          <a:blip r:embed="rId2"/>
          <a:stretch/>
        </p:blipFill>
        <p:spPr>
          <a:xfrm>
            <a:off x="357120" y="1785960"/>
            <a:ext cx="5416560" cy="421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4143240" y="1785960"/>
            <a:ext cx="4653000" cy="48322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285840" y="42876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авторĕ – Агранович Олег Сергееви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тĕрленĕ çулĕ – 20.10.200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35812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428760" y="428760"/>
            <a:ext cx="842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ТК программăн хăш версийĕпе усă курмал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граммăна компьютер çине мĕнле лартмал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еста мĕнле хатĕрлемелл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еста ирттерес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омпьютерсене тест серверĕ патне çыхăнтарас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ест результачĕсене пăхас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рограммăн лайăх енĕ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рограммăн япăх енĕ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ĕтĕмлетÿ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1214280" y="42876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К программăна лартмалли йĕр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714240" y="100008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пк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пировать на рабочий сто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 Открыть папк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tc16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льше… 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уск Генератор тестов 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рш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eyge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→ 1.6х → щелчёк 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g. Fail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T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utoge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chack_utc_1.60.patch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й компьютер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 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g. Fail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er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ь 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вить галочк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 backup copy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ch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6000840" y="4143240"/>
            <a:ext cx="642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149200" y="214200"/>
            <a:ext cx="53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а мĕнле хатĕрлемелл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428760" y="8571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ткры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357720" y="714240"/>
            <a:ext cx="514080" cy="59220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500040" y="121428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Для создания нового теста необходимо выбрать пункт «Файл»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овый» главного меню. После набора всех вопросов следует выбрать пункт «Правка» - «Настройки» и задать параметры теста: продолжительность всего теста и время на каждый вопро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ядок выполнения тес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работы с калькулятор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временно выходить с “Тестера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 желательно написать, оно будет показываться перед началом каждого сеанса тестирования. Далее желательно написать справочную информацию, она будет показываться в процессе сеанса тестирования, при нажатии пользователем клавиши F1 или выборе пункта «Помощь» - «Справочная информация» главного меню программы “Тестер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, когда тест готов, нужно его сохранить, для этого выбрать пункт «Файл» - «Сохранить» главного меню, появится окно сохранения теста, где вы можете задать имя, комментарий и пароль для защиты, теперь нажмите 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inphormatika.ru/img/im_125.png"/>
          <p:cNvPicPr/>
          <p:nvPr/>
        </p:nvPicPr>
        <p:blipFill>
          <a:blip r:embed="rId1"/>
          <a:stretch/>
        </p:blipFill>
        <p:spPr>
          <a:xfrm>
            <a:off x="428760" y="928800"/>
            <a:ext cx="5233680" cy="4071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642960" y="1928880"/>
            <a:ext cx="3286080" cy="314316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57120" y="50004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Генератор тест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Generato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уçатпăр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5286240" y="357120"/>
            <a:ext cx="642960" cy="74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4"/>
          <a:stretch/>
        </p:blipFill>
        <p:spPr>
          <a:xfrm>
            <a:off x="2214720" y="2071800"/>
            <a:ext cx="5668920" cy="4357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5"/>
          <a:stretch/>
        </p:blipFill>
        <p:spPr>
          <a:xfrm>
            <a:off x="5214960" y="1000080"/>
            <a:ext cx="3643200" cy="408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3500280" y="2357280"/>
            <a:ext cx="2071800" cy="2148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500040" y="74412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тĕр тестсе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ç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 папкăра выр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ç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ьютер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Локальный диск (С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File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3000240" y="21420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а ирттерес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3571920" y="1500120"/>
            <a:ext cx="1154160" cy="1071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642960" y="2057400"/>
            <a:ext cx="3643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окне уçатп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Локальное – суйлатп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еста суйлатп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ласс, хушамат çыратп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4714920" y="3571920"/>
            <a:ext cx="2400120" cy="2208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3786120" y="4572000"/>
            <a:ext cx="2476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500040" y="857160"/>
            <a:ext cx="55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Генератор тест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Generato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уçатпă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2428920" y="17892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ст результачĕсене пăхас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5643720" y="714240"/>
            <a:ext cx="642960" cy="74952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571680" y="142884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Утилиты – просмотр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357120" y="178596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1785960" y="3357720"/>
            <a:ext cx="4054320" cy="3284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4"/>
          <a:stretch/>
        </p:blipFill>
        <p:spPr>
          <a:xfrm>
            <a:off x="4572000" y="2071800"/>
            <a:ext cx="43610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0T06:51:26Z</dcterms:created>
  <dc:creator>Компас</dc:creator>
  <dc:description/>
  <dc:language>en-US</dc:language>
  <cp:lastModifiedBy>Таня</cp:lastModifiedBy>
  <dcterms:modified xsi:type="dcterms:W3CDTF">2017-09-19T03:27:25Z</dcterms:modified>
  <cp:revision>61</cp:revision>
  <dc:subject/>
  <dc:title>Слайд 1</dc:title>
</cp:coreProperties>
</file>