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1373-9DB2-48C2-907E-4DD9AE799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1EF1-5151-4EEA-8E79-D10DECC0F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D94-1991-4305-9374-E9CB3A12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C39-FA94-4DD1-A52E-D42316AC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BA8-2FD1-48C3-B094-50169DDC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44E-A33B-420B-89A8-EC4C2590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B43-2179-4D6F-A52F-15CEC7A5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A9F-6134-4112-8E08-A9705D37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056-1185-4761-9F87-A54E2D32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1A2-2B23-4B13-A1FA-9FBDA86A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690-8ED3-450A-82D0-DF7C877C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E85-3427-4783-BB7C-DC374D82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7C3-EC46-428B-A407-73EEEA65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73E-1D13-4C51-80D9-B7394D3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949C-D9E0-452A-9A1A-E49F16C69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385884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dce6f2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http://img21.imageshack.us/img21/9408/056679950a5d9el.png"/>
          <p:cNvPicPr/>
          <p:nvPr/>
        </p:nvPicPr>
        <p:blipFill>
          <a:blip r:embed="rId2"/>
          <a:stretch/>
        </p:blipFill>
        <p:spPr>
          <a:xfrm>
            <a:off x="0" y="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8" descr="http://img21.imageshack.us/img21/9408/056679950a5d9el.png"/>
          <p:cNvPicPr/>
          <p:nvPr/>
        </p:nvPicPr>
        <p:blipFill>
          <a:blip r:embed="rId3"/>
          <a:stretch/>
        </p:blipFill>
        <p:spPr>
          <a:xfrm>
            <a:off x="5810400" y="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8" descr="http://img21.imageshack.us/img21/9408/056679950a5d9el.png"/>
          <p:cNvPicPr/>
          <p:nvPr/>
        </p:nvPicPr>
        <p:blipFill>
          <a:blip r:embed="rId4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http://img21.imageshack.us/img21/9408/056679950a5d9el.png"/>
          <p:cNvPicPr/>
          <p:nvPr/>
        </p:nvPicPr>
        <p:blipFill>
          <a:blip r:embed="rId5"/>
          <a:stretch/>
        </p:blipFill>
        <p:spPr>
          <a:xfrm>
            <a:off x="0" y="35244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71680" y="11430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ниверсаллă тест комплексĕ (УТК) программăпа чăваш чĕлхипе литература урокĕсенче усă курасси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643120" y="457200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ркунова Татьяна Леонар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ăрмар районĕнчи Мăнçырмари пĕтĕмĕшле пĕлÿ паракан вăтам шкулта ĕçлекен аслă категориллĕ вĕрентек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i.mycdn.me/image?t=0&amp;bid=802843848483&amp;id=435327837475&amp;plc=WEB&amp;tkn=*KHONOggxbAjXOHIUBzBwzsdqByk"/>
          <p:cNvPicPr/>
          <p:nvPr/>
        </p:nvPicPr>
        <p:blipFill>
          <a:blip r:embed="rId1"/>
          <a:stretch/>
        </p:blipFill>
        <p:spPr>
          <a:xfrm>
            <a:off x="928800" y="4143240"/>
            <a:ext cx="1428480" cy="2149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4000680" y="6143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28760" y="1092240"/>
            <a:ext cx="8215200" cy="5337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285840" y="4287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результачĕсе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а çине куçарма пул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28760" y="1127520"/>
            <a:ext cx="84294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ĕтĕмĕшле илсене ку программăпа шкулта пĕтĕм предметпах усă курма пулать. Теста чĕрĕк умĕн, чĕрĕк хыççăн, пĕр-пĕр темăна вĕренсе пĕтерсен ирттерме май пур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ТК программăра хатĕрленĕ тест материалĕсемпе усă курса ачасен урокра илнĕ пĕлĕвне тĕрĕслеме меллĕ. Кĕске вăхăтрах ачан пĕлĕвне тĕрĕслесе хак пама пулать, вĕрентекенĕн ĕçне çăмăллатать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ĕр-пĕр темăна вĕренсе пĕтерсен е хайлава вуласа тухнă хыççăн компьютерпа тест ирттерни ачасен пĕлĕвне тĕрĕслеме кăна мар, кĕске вăхăтрах ачасем мĕн ăнланса юлманнине палăртма, çитменлĕхсене вăхăтра пĕтерме пулăш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928960" y="357120"/>
            <a:ext cx="44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ĕтĕмлет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://yugvp.ru/wp-content/uploads/2016/02/4-3-100x100.jpg"/>
          <p:cNvPicPr/>
          <p:nvPr/>
        </p:nvPicPr>
        <p:blipFill>
          <a:blip r:embed="rId1"/>
          <a:stretch/>
        </p:blipFill>
        <p:spPr>
          <a:xfrm>
            <a:off x="7215120" y="357120"/>
            <a:ext cx="152424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inphormatika.ru/img/im_125.png"/>
          <p:cNvPicPr/>
          <p:nvPr/>
        </p:nvPicPr>
        <p:blipFill>
          <a:blip r:embed="rId2"/>
          <a:stretch/>
        </p:blipFill>
        <p:spPr>
          <a:xfrm>
            <a:off x="357120" y="1785960"/>
            <a:ext cx="5416560" cy="421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4143240" y="1785960"/>
            <a:ext cx="4653000" cy="4832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85840" y="4287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авторĕ – Агранович Олег Сергееви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тĕрленĕ çулĕ – 20.10.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428760" y="428760"/>
            <a:ext cx="842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ТК программăн хăш версийĕпе усă курмал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граммăна компьютер çине мĕнле лартмал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еста мĕнле хатĕрлемелл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ста ирттерес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мпьютерсене тест серверĕ патне çыхăнтарас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ст результачĕсене пăхас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граммăн лайăх енĕ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ограммăн япăх енĕ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ĕтĕмлетÿ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1214280" y="42876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К программăна лартмалли йĕр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714240" y="100008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п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пировать на 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 Открыть пап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c16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ше…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уск Генератор тестов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р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yg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→ 1.6х → щелчёк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. Fail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ge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chack_utc_1.60.patch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компьютер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. Fail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ить галоч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 backup copy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ch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6000840" y="414324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149200" y="214200"/>
            <a:ext cx="53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а мĕнле хатĕрлемелл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28760" y="857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ткры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357720" y="714240"/>
            <a:ext cx="514080" cy="592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500040" y="12142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ля создания нового теста необходимо выбрать пункт «Файл»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овый» главного меню. После набора всех вопросов следует выбрать пункт «Правка» - «Настройки» и задать параметры теста: продолжительность всего теста и время на каждый вопро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ядок выполнения т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работы с калькулятор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временно выходить с “Тестер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желательно написать, оно будет показываться перед началом каждого сеанса тестирования. Далее желательно написать справочную информацию, она будет показываться в процессе сеанса тестирования, при нажатии пользователем клавиши F1 или выборе пункта «Помощь» - «Справочная информация» главного меню программы “Тестер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, когда тест готов, нужно его сохранить, для этого выбрать пункт «Файл» - «Сохранить» главного меню, появится окно сохранения теста, где вы можете задать имя, комментарий и пароль для защиты, теперь нажмите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inphormatika.ru/img/im_125.png"/>
          <p:cNvPicPr/>
          <p:nvPr/>
        </p:nvPicPr>
        <p:blipFill>
          <a:blip r:embed="rId1"/>
          <a:stretch/>
        </p:blipFill>
        <p:spPr>
          <a:xfrm>
            <a:off x="428760" y="928800"/>
            <a:ext cx="5233680" cy="4071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3286080" cy="3143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57120" y="50004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енератор тес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Generato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уçатпă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5286240" y="357120"/>
            <a:ext cx="642960" cy="74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214720" y="2071800"/>
            <a:ext cx="5668920" cy="4357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5"/>
          <a:stretch/>
        </p:blipFill>
        <p:spPr>
          <a:xfrm>
            <a:off x="5214960" y="1000080"/>
            <a:ext cx="3643200" cy="408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3500280" y="2357280"/>
            <a:ext cx="2071800" cy="2148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500040" y="74412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тĕр тестсе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 папкăра выр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окальный диск (С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Fil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000240" y="21420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а ирттерес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571920" y="1500120"/>
            <a:ext cx="1154160" cy="1071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642960" y="2057400"/>
            <a:ext cx="36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окне уçатп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кальное – суйлатп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ста суйлатп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ласс, хушамат çыратп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2400120" cy="2208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3786120" y="4572000"/>
            <a:ext cx="2476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00040" y="85716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енератор тес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Generato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уçатпă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428920" y="178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 результачĕсене пăхас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643720" y="714240"/>
            <a:ext cx="642960" cy="749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571680" y="14288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Утилиты – просмотр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785960" y="3357720"/>
            <a:ext cx="4054320" cy="328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4572000" y="2071800"/>
            <a:ext cx="43610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51:26Z</dcterms:created>
  <dc:creator>Компас</dc:creator>
  <dc:description/>
  <dc:language>en-US</dc:language>
  <cp:lastModifiedBy>Таня</cp:lastModifiedBy>
  <dcterms:modified xsi:type="dcterms:W3CDTF">2017-09-19T03:27:25Z</dcterms:modified>
  <cp:revision>61</cp:revision>
  <dc:subject/>
  <dc:title>Слайд 1</dc:title>
</cp:coreProperties>
</file>