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19.jpeg" ContentType="image/jpeg"/>
  <Override PartName="/ppt/media/image4.wmf" ContentType="image/x-wmf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1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D57C-B2F6-4FE1-98D5-6F696E6D2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0575-02BE-4510-B217-96765DC0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2B10-8987-4C31-B25F-08A771E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2C5A-A23E-40B0-9653-7EE882302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85A1C-89FD-421E-A379-D52E327E8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7A2F9-EA6A-40F4-B746-EC8A116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916E5-3DB5-4B80-8662-E8062C83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BAA27-F6B2-4599-B1E9-931701B5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07BC-190F-4446-B2A5-BAB8C679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5FC44-0163-44CE-BB98-78359323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E639C-06E5-42A7-B75F-984C253C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2C71-DC81-4F29-BBA7-1AA6969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D9140-F322-4DC9-91E5-07D3385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90167-EE1D-4782-BE99-BD609CBD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CDD29-D322-4A84-A637-7FBF1994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18ED-0B31-4F6D-8201-8E69384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26C39-2DEC-4275-85A6-C1EC3D5873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BC39-37BF-464C-9D00-6E88043F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F691-5773-4923-8093-A68C1D9C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2B85-978A-40B6-8030-E0067D58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C39F-5380-45D1-914F-6BDB23B8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0735-9693-4526-8F93-C163CAF6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F457-C70A-4EB0-A192-5AD4BEAF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B0EC-97F8-4652-AED8-81090A8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EACCCE-D45A-4818-9FAB-0FA89920A38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D49D65-F2D4-43EB-8CB6-1AB463ED0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863640" y="1584360"/>
            <a:ext cx="7128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224000" y="4248000"/>
            <a:ext cx="34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Автор проекта</a:t>
            </a:r>
            <a:r>
              <a:rPr b="0" i="1" lang="ru-RU" sz="1600" spc="-1" strike="noStrike">
                <a:solidFill>
                  <a:srgbClr val="660066"/>
                </a:solidFill>
                <a:latin typeface="Times New Roman"/>
              </a:rPr>
              <a:t>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Ефремова Светлана Геннад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392720" y="640872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26560" y="909720"/>
            <a:ext cx="57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МБОУ «Цнинская средняя общеобразовательная школа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Прямоугольник 1"/>
          <p:cNvGrpSpPr/>
          <p:nvPr/>
        </p:nvGrpSpPr>
        <p:grpSpPr>
          <a:xfrm>
            <a:off x="1979640" y="1773360"/>
            <a:ext cx="5562360" cy="2017080"/>
            <a:chOff x="1979640" y="1773360"/>
            <a:chExt cx="5562360" cy="2017080"/>
          </a:xfrm>
        </p:grpSpPr>
        <p:pic>
          <p:nvPicPr>
            <p:cNvPr id="87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979640" y="1773360"/>
              <a:ext cx="5562360" cy="20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2"/>
            <p:cNvSpPr/>
            <p:nvPr/>
          </p:nvSpPr>
          <p:spPr>
            <a:xfrm>
              <a:off x="2010960" y="1805760"/>
              <a:ext cx="5499720" cy="1947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95640" y="1844640"/>
            <a:ext cx="504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a1319c"/>
                </a:solidFill>
                <a:latin typeface="Times New Roman"/>
              </a:rPr>
              <a:t>«Методика работы с историческими  источник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a1319c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a1319c"/>
                </a:solidFill>
                <a:latin typeface="Times New Roman"/>
              </a:rPr>
              <a:t>(или : источниками социальной информаци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a1319c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a1319c"/>
                </a:solidFill>
                <a:latin typeface="Times New Roman"/>
              </a:rPr>
              <a:t>как средство формирования информацио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a1319c"/>
                </a:solidFill>
                <a:latin typeface="Times New Roman"/>
              </a:rPr>
              <a:t>и познавательной активности обучающихс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3"/>
          <p:cNvGrpSpPr/>
          <p:nvPr/>
        </p:nvGrpSpPr>
        <p:grpSpPr>
          <a:xfrm>
            <a:off x="865080" y="189000"/>
            <a:ext cx="6774120" cy="1182600"/>
            <a:chOff x="865080" y="189000"/>
            <a:chExt cx="6774120" cy="1182600"/>
          </a:xfrm>
        </p:grpSpPr>
        <p:pic>
          <p:nvPicPr>
            <p:cNvPr id="13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865080" y="189000"/>
              <a:ext cx="6774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954000" y="276120"/>
              <a:ext cx="660564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с историческими источниками (или: источниками социальной информации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Прямоугольник 4"/>
          <p:cNvGrpSpPr/>
          <p:nvPr/>
        </p:nvGrpSpPr>
        <p:grpSpPr>
          <a:xfrm>
            <a:off x="255600" y="5254560"/>
            <a:ext cx="5200560" cy="1341360"/>
            <a:chOff x="255600" y="5254560"/>
            <a:chExt cx="5200560" cy="1341360"/>
          </a:xfrm>
        </p:grpSpPr>
        <p:pic>
          <p:nvPicPr>
            <p:cNvPr id="14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5600" y="5254560"/>
              <a:ext cx="52005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85840" y="5286240"/>
              <a:ext cx="5143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ступень </a:t>
              </a:r>
              <a:r>
                <a:rPr b="1" lang="ru-RU" sz="2000" spc="-1" strike="noStrike">
                  <a:solidFill>
                    <a:srgbClr val="6b3305"/>
                  </a:solidFill>
                  <a:latin typeface="Times New Roman"/>
                </a:rPr>
                <a:t>– познавательная деятельность (получение «готовых» и самостоятельное приобретение знаний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Прямоугольник 5"/>
          <p:cNvGrpSpPr/>
          <p:nvPr/>
        </p:nvGrpSpPr>
        <p:grpSpPr>
          <a:xfrm>
            <a:off x="2328840" y="3328920"/>
            <a:ext cx="4979880" cy="1339920"/>
            <a:chOff x="2328840" y="3328920"/>
            <a:chExt cx="4979880" cy="1339920"/>
          </a:xfrm>
        </p:grpSpPr>
        <p:pic>
          <p:nvPicPr>
            <p:cNvPr id="14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328840" y="3328920"/>
              <a:ext cx="497988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357280" y="3357720"/>
              <a:ext cx="492948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ступень </a:t>
              </a:r>
              <a:r>
                <a:rPr b="1" lang="ru-RU" sz="2000" spc="-1" strike="noStrike">
                  <a:solidFill>
                    <a:srgbClr val="6b3305"/>
                  </a:solidFill>
                  <a:latin typeface="Times New Roman"/>
                  <a:ea typeface="Times New Roman"/>
                </a:rPr>
                <a:t>– исследовательская деятельность (углубленный исследовательский поиск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Прямоугольник 6"/>
          <p:cNvGrpSpPr/>
          <p:nvPr/>
        </p:nvGrpSpPr>
        <p:grpSpPr>
          <a:xfrm>
            <a:off x="3828960" y="1609560"/>
            <a:ext cx="4980240" cy="1346400"/>
            <a:chOff x="3828960" y="1609560"/>
            <a:chExt cx="4980240" cy="1346400"/>
          </a:xfrm>
        </p:grpSpPr>
        <p:pic>
          <p:nvPicPr>
            <p:cNvPr id="14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828960" y="1609560"/>
              <a:ext cx="4980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57760" y="1643040"/>
              <a:ext cx="4929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ступень </a:t>
              </a:r>
              <a:r>
                <a:rPr b="1" lang="ru-RU" sz="2000" spc="-1" strike="noStrike">
                  <a:solidFill>
                    <a:srgbClr val="6b3305"/>
                  </a:solidFill>
                  <a:latin typeface="Times New Roman"/>
                  <a:ea typeface="Times New Roman"/>
                </a:rPr>
                <a:t>– проектная деятельность (представление результатов своей работы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48" name="Прямая со стрелкой 8"/>
          <p:cNvCxnSpPr/>
          <p:nvPr/>
        </p:nvCxnSpPr>
        <p:spPr>
          <a:xfrm flipV="1">
            <a:off x="5435640" y="4652280"/>
            <a:ext cx="2160" cy="1429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Прямая со стрелкой 8"/>
          <p:cNvCxnSpPr/>
          <p:nvPr/>
        </p:nvCxnSpPr>
        <p:spPr>
          <a:xfrm flipV="1">
            <a:off x="7307640" y="2851920"/>
            <a:ext cx="2520" cy="1429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68360" y="1916280"/>
            <a:ext cx="770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повышение качества знаний, уровня подготовленности обучаю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привлечение широкого круга обучающихся к самостоятельному поиску необходимой информации через проектную деятель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увеличение числа участников различных конкур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интенсивное использование ИКТ в работах обучаю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положительная динамика использования исторических источников в учеб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положительная оценка опыта работы на муниципальном уров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04292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imes New Roman"/>
              </a:rPr>
              <a:t>Результаты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придумал_эврика"/>
          <p:cNvPicPr/>
          <p:nvPr/>
        </p:nvPicPr>
        <p:blipFill>
          <a:blip r:embed="rId1"/>
          <a:stretch/>
        </p:blipFill>
        <p:spPr>
          <a:xfrm>
            <a:off x="668160" y="0"/>
            <a:ext cx="11430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imes New Roman"/>
              </a:rPr>
              <a:t>Обобщение опыта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132000" y="5300640"/>
            <a:ext cx="2646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Школьн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атья и  методические разработки на сайте шко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Педагогический 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rot="10800000">
            <a:off x="1979280" y="4149720"/>
            <a:ext cx="5256360" cy="1295280"/>
          </a:xfrm>
          <a:prstGeom prst="pie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Муницип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Выступление за заседании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Открытый урок на семинар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 rot="10800000">
            <a:off x="1907640" y="1267560"/>
            <a:ext cx="5256360" cy="1514520"/>
          </a:xfrm>
          <a:prstGeom prst="pie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Федер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на всероссийских образовательных сайт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d0525"/>
                </a:solidFill>
                <a:uFillTx/>
                <a:latin typeface="Times New Roman"/>
              </a:rPr>
              <a:t>www.openclass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d0525"/>
                </a:solidFill>
                <a:latin typeface="Times New Roman"/>
              </a:rPr>
              <a:t>www.proshkolu.ru</a:t>
            </a:r>
            <a:r>
              <a:rPr b="0" lang="ru-RU" sz="2400" spc="-1" strike="noStrike">
                <a:solidFill>
                  <a:srgbClr val="2d052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 rot="10800000">
            <a:off x="2124000" y="2851920"/>
            <a:ext cx="5112000" cy="1295640"/>
          </a:xfrm>
          <a:prstGeom prst="pie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Регио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</a:rPr>
              <a:t>Тамбов-В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</a:rPr>
              <a:t>Участие в региональном конкурс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003"/>
          <p:cNvPicPr/>
          <p:nvPr/>
        </p:nvPicPr>
        <p:blipFill>
          <a:blip r:embed="rId1"/>
          <a:stretch/>
        </p:blipFill>
        <p:spPr>
          <a:xfrm>
            <a:off x="7308720" y="1197000"/>
            <a:ext cx="1506600" cy="266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04"/>
          <p:cNvPicPr/>
          <p:nvPr/>
        </p:nvPicPr>
        <p:blipFill>
          <a:blip r:embed="rId2"/>
          <a:stretch/>
        </p:blipFill>
        <p:spPr>
          <a:xfrm>
            <a:off x="0" y="3965400"/>
            <a:ext cx="173520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05"/>
          <p:cNvPicPr/>
          <p:nvPr/>
        </p:nvPicPr>
        <p:blipFill>
          <a:blip r:embed="rId3"/>
          <a:stretch/>
        </p:blipFill>
        <p:spPr>
          <a:xfrm>
            <a:off x="324000" y="907920"/>
            <a:ext cx="149832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проекту представляется мне  успешной, так как поставленная цель достигнута. 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</a:rPr>
              <a:t>Использование исторических источников способствует повышению мотивации и качества знаний в изучении истории.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</a:rPr>
              <a:t>Обучающиеся достигают более высоких результатов  в обучении, раскрываются их творческие  способности.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</a:rPr>
              <a:t>Формируются навыки самостоятельной и групповой форм работы.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</a:rPr>
              <a:t>У обучающихся возрастает интерес к использованию информационных технологий.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63" name="Скругленный прямоугольник 1" descr=""/>
          <p:cNvPicPr/>
          <p:nvPr/>
        </p:nvPicPr>
        <p:blipFill>
          <a:blip r:embed="rId1"/>
          <a:stretch/>
        </p:blipFill>
        <p:spPr>
          <a:xfrm rot="363600">
            <a:off x="2268360" y="5300280"/>
            <a:ext cx="43927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700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52f7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52f74"/>
                </a:solidFill>
                <a:latin typeface="Times New Roman"/>
              </a:rPr>
              <a:t>использование наработанных материалов не в отдельно взятом классе, а при организации образовательного процесса в предметной области «история» в целом;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52f7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52f74"/>
                </a:solidFill>
                <a:latin typeface="Times New Roman"/>
              </a:rPr>
              <a:t>трансляция имеющегося опыта по организации работы с историческими источниками педагогическому сообществу.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740d89"/>
                </a:solidFill>
                <a:latin typeface="Times New Roman"/>
              </a:rPr>
              <a:t>Отсюда  следует  необходимость  продолжения развития   проекта   в следующих    классах   школы, используя   новейшие   современные   технологии    в обучении    и     воспитании    учащихся;   продолжить отслеживать  результаты  деятельности  учащихся по данной теме.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Блок-схема: перфолента 2"/>
          <p:cNvSpPr/>
          <p:nvPr/>
        </p:nvSpPr>
        <p:spPr>
          <a:xfrm>
            <a:off x="1332000" y="333360"/>
            <a:ext cx="6162480" cy="1584360"/>
          </a:xfrm>
          <a:prstGeom prst="flowChartPunchedTap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78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Дальнейшее развитие про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imes New Roman"/>
              </a:rPr>
              <a:t>Информационные ресурсы</a:t>
            </a:r>
            <a:endParaRPr b="1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2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лик Н.Б. Педагогические возможности работы с документами в школьном курсе обществознания. Обществознание в школе 1999,№4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юков С.А. Работа с архивными документами на уроках истории. Методика 2002, №2, с.32-39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а П.В. Методические приемы и средства наглядного обучения истории в средней школе . Москва , 1974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лпатрик В.Х. Метод проектного обучения. Применение целевой установки в процессе изучения истории. Москв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a?2007/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откова М.В. Наглядность на уроках истории; Практическое пособие для учителей. Москва, 2000.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т Е.С. Новые педагогические информационные технологии в системе исторического образования. Москва. Российское педагогическое агенство.2004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карев Л.Н. Исторический источник: основные подходы к классификации. Москва. Современное историческое образование.2000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мянцев В.Я. Работы с историческими источниками. Преподавание истории в школе. 2003 № 3 с.38-41.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лова О.Ю. Учебник истории: старт в новый век: пособие для учителей. Москва. Просвещение. 2006 с.143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200" spc="-1" strike="noStrike">
                <a:solidFill>
                  <a:srgbClr val="740d89"/>
                </a:solidFill>
                <a:latin typeface="Times New Roman"/>
              </a:rPr>
              <a:t>Ресурсы интернета: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зета «Первое  сентября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tt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w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чительская газета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  www. u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ть творческих учителей/ сообщество учителей истор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-v ru /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i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y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учителей истории бесплатное поурочное планиров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mk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имся опытом! – Форум учителей истор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sov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6885000" y="4970520"/>
            <a:ext cx="2258640" cy="1887120"/>
            <a:chOff x="6885000" y="4970520"/>
            <a:chExt cx="2258640" cy="1887120"/>
          </a:xfrm>
        </p:grpSpPr>
        <p:sp>
          <p:nvSpPr>
            <p:cNvPr id="169" name="Freeform 5"/>
            <p:cNvSpPr/>
            <p:nvPr/>
          </p:nvSpPr>
          <p:spPr>
            <a:xfrm>
              <a:off x="6963480" y="5021640"/>
              <a:ext cx="2117880" cy="1816920"/>
            </a:xfrm>
            <a:prstGeom prst="pie">
              <a:avLst/>
            </a:pr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6978600" y="5047920"/>
              <a:ext cx="2102760" cy="1764360"/>
            </a:xfrm>
            <a:prstGeom prst="pie">
              <a:avLst/>
            </a:pr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6891840" y="4970520"/>
              <a:ext cx="1707120" cy="16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6892920" y="5651640"/>
              <a:ext cx="565920" cy="88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7057440" y="6067080"/>
              <a:ext cx="362880" cy="473760"/>
            </a:xfrm>
            <a:prstGeom prst="pie">
              <a:avLst/>
            </a:pr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6986520" y="5848560"/>
              <a:ext cx="127080" cy="308520"/>
            </a:xfrm>
            <a:prstGeom prst="pie">
              <a:avLst/>
            </a:pr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914880" y="5874840"/>
              <a:ext cx="158040" cy="288000"/>
            </a:xfrm>
            <a:prstGeom prst="pie">
              <a:avLst/>
            </a:pr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236000" y="5651640"/>
              <a:ext cx="193680" cy="498960"/>
            </a:xfrm>
            <a:prstGeom prst="pie">
              <a:avLst/>
            </a:pr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7229880" y="5805360"/>
              <a:ext cx="89640" cy="9072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7260120" y="5722560"/>
              <a:ext cx="51480" cy="81360"/>
            </a:xfrm>
            <a:prstGeom prst="pie">
              <a:avLst/>
            </a:pr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7093440" y="5853600"/>
              <a:ext cx="94680" cy="30060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7080480" y="5806080"/>
              <a:ext cx="73440" cy="10368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7236000" y="5651640"/>
              <a:ext cx="230040" cy="498960"/>
            </a:xfrm>
            <a:prstGeom prst="pie">
              <a:avLst/>
            </a:pr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7195680" y="5891040"/>
              <a:ext cx="89640" cy="259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6921000" y="5875560"/>
              <a:ext cx="141120" cy="287280"/>
            </a:xfrm>
            <a:prstGeom prst="pie">
              <a:avLst/>
            </a:pr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6948360" y="5756760"/>
              <a:ext cx="64440" cy="122040"/>
            </a:xfrm>
            <a:prstGeom prst="pie">
              <a:avLst/>
            </a:pr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7100640" y="6162120"/>
              <a:ext cx="271440" cy="344520"/>
            </a:xfrm>
            <a:prstGeom prst="pie">
              <a:avLst/>
            </a:pr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7498440" y="5014800"/>
              <a:ext cx="1010880" cy="99900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3"/>
            <p:cNvSpPr/>
            <p:nvPr/>
          </p:nvSpPr>
          <p:spPr>
            <a:xfrm>
              <a:off x="7621560" y="5153760"/>
              <a:ext cx="704160" cy="705600"/>
            </a:xfrm>
            <a:prstGeom prst="pie">
              <a:avLst/>
            </a:pr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7726320" y="6058440"/>
              <a:ext cx="622440" cy="1166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7675920" y="5266800"/>
              <a:ext cx="255240" cy="223560"/>
            </a:xfrm>
            <a:prstGeom prst="pie">
              <a:avLst/>
            </a:pr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8067240" y="5542920"/>
              <a:ext cx="160200" cy="210600"/>
            </a:xfrm>
            <a:prstGeom prst="pie">
              <a:avLst/>
            </a:pr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7"/>
            <p:cNvSpPr/>
            <p:nvPr/>
          </p:nvSpPr>
          <p:spPr>
            <a:xfrm>
              <a:off x="8658720" y="6396120"/>
              <a:ext cx="37908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8658720" y="6445440"/>
              <a:ext cx="387360" cy="2347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8665560" y="6552360"/>
              <a:ext cx="367200" cy="1278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0"/>
            <p:cNvSpPr/>
            <p:nvPr/>
          </p:nvSpPr>
          <p:spPr>
            <a:xfrm>
              <a:off x="8668800" y="6463440"/>
              <a:ext cx="9072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1"/>
            <p:cNvSpPr/>
            <p:nvPr/>
          </p:nvSpPr>
          <p:spPr>
            <a:xfrm>
              <a:off x="8949240" y="6497640"/>
              <a:ext cx="100800" cy="17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8644320" y="6393240"/>
              <a:ext cx="329760" cy="2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8873640" y="6525000"/>
              <a:ext cx="9360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8764560" y="6433200"/>
              <a:ext cx="14616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>
              <a:off x="8721000" y="6415200"/>
              <a:ext cx="9576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36"/>
            <p:cNvSpPr/>
            <p:nvPr/>
          </p:nvSpPr>
          <p:spPr>
            <a:xfrm>
              <a:off x="8572680" y="6569280"/>
              <a:ext cx="455040" cy="20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7"/>
            <p:cNvSpPr/>
            <p:nvPr/>
          </p:nvSpPr>
          <p:spPr>
            <a:xfrm>
              <a:off x="7232040" y="6317280"/>
              <a:ext cx="1364040" cy="2930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501320" y="6148080"/>
              <a:ext cx="1045080" cy="28620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9"/>
            <p:cNvSpPr/>
            <p:nvPr/>
          </p:nvSpPr>
          <p:spPr>
            <a:xfrm>
              <a:off x="7772760" y="6012720"/>
              <a:ext cx="568080" cy="1249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>
              <a:off x="8220600" y="5192280"/>
              <a:ext cx="265320" cy="8445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>
              <a:off x="7729560" y="5879880"/>
              <a:ext cx="505440" cy="835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42"/>
            <p:cNvSpPr/>
            <p:nvPr/>
          </p:nvSpPr>
          <p:spPr>
            <a:xfrm>
              <a:off x="7560720" y="5100120"/>
              <a:ext cx="783000" cy="7308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43"/>
            <p:cNvSpPr/>
            <p:nvPr/>
          </p:nvSpPr>
          <p:spPr>
            <a:xfrm>
              <a:off x="8166960" y="6195240"/>
              <a:ext cx="336960" cy="1220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>
              <a:off x="8296560" y="6252840"/>
              <a:ext cx="164520" cy="734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45"/>
            <p:cNvSpPr/>
            <p:nvPr/>
          </p:nvSpPr>
          <p:spPr>
            <a:xfrm>
              <a:off x="7218720" y="6527160"/>
              <a:ext cx="1360080" cy="864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46"/>
            <p:cNvSpPr/>
            <p:nvPr/>
          </p:nvSpPr>
          <p:spPr>
            <a:xfrm>
              <a:off x="7329600" y="6132960"/>
              <a:ext cx="7056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47"/>
            <p:cNvSpPr/>
            <p:nvPr/>
          </p:nvSpPr>
          <p:spPr>
            <a:xfrm>
              <a:off x="7041240" y="6199560"/>
              <a:ext cx="163440" cy="34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48"/>
            <p:cNvSpPr/>
            <p:nvPr/>
          </p:nvSpPr>
          <p:spPr>
            <a:xfrm>
              <a:off x="7192440" y="6200280"/>
              <a:ext cx="10476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49"/>
            <p:cNvSpPr/>
            <p:nvPr/>
          </p:nvSpPr>
          <p:spPr>
            <a:xfrm>
              <a:off x="7160400" y="6252840"/>
              <a:ext cx="129960" cy="16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0"/>
            <p:cNvSpPr/>
            <p:nvPr/>
          </p:nvSpPr>
          <p:spPr>
            <a:xfrm>
              <a:off x="7183440" y="6358680"/>
              <a:ext cx="6444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1"/>
            <p:cNvSpPr/>
            <p:nvPr/>
          </p:nvSpPr>
          <p:spPr>
            <a:xfrm>
              <a:off x="7147080" y="6202440"/>
              <a:ext cx="1663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52"/>
            <p:cNvSpPr/>
            <p:nvPr/>
          </p:nvSpPr>
          <p:spPr>
            <a:xfrm>
              <a:off x="7198560" y="6275880"/>
              <a:ext cx="11484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53"/>
            <p:cNvSpPr/>
            <p:nvPr/>
          </p:nvSpPr>
          <p:spPr>
            <a:xfrm>
              <a:off x="6885000" y="5864760"/>
              <a:ext cx="8748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54"/>
            <p:cNvSpPr/>
            <p:nvPr/>
          </p:nvSpPr>
          <p:spPr>
            <a:xfrm>
              <a:off x="6937200" y="5879880"/>
              <a:ext cx="7128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5"/>
            <p:cNvSpPr/>
            <p:nvPr/>
          </p:nvSpPr>
          <p:spPr>
            <a:xfrm>
              <a:off x="6975720" y="5835240"/>
              <a:ext cx="14508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56"/>
            <p:cNvSpPr/>
            <p:nvPr/>
          </p:nvSpPr>
          <p:spPr>
            <a:xfrm>
              <a:off x="6994800" y="6070320"/>
              <a:ext cx="676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914160" y="5769720"/>
              <a:ext cx="5616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8"/>
            <p:cNvSpPr/>
            <p:nvPr/>
          </p:nvSpPr>
          <p:spPr>
            <a:xfrm>
              <a:off x="6965280" y="5767920"/>
              <a:ext cx="23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59"/>
            <p:cNvSpPr/>
            <p:nvPr/>
          </p:nvSpPr>
          <p:spPr>
            <a:xfrm>
              <a:off x="7004880" y="6100560"/>
              <a:ext cx="3312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7026120" y="6060240"/>
              <a:ext cx="40356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1"/>
            <p:cNvSpPr/>
            <p:nvPr/>
          </p:nvSpPr>
          <p:spPr>
            <a:xfrm>
              <a:off x="7236000" y="5709240"/>
              <a:ext cx="9972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62"/>
            <p:cNvSpPr/>
            <p:nvPr/>
          </p:nvSpPr>
          <p:spPr>
            <a:xfrm>
              <a:off x="7255080" y="5788080"/>
              <a:ext cx="5724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63"/>
            <p:cNvSpPr/>
            <p:nvPr/>
          </p:nvSpPr>
          <p:spPr>
            <a:xfrm>
              <a:off x="7238880" y="5821200"/>
              <a:ext cx="7344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64"/>
            <p:cNvSpPr/>
            <p:nvPr/>
          </p:nvSpPr>
          <p:spPr>
            <a:xfrm>
              <a:off x="7234920" y="5870520"/>
              <a:ext cx="561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65"/>
            <p:cNvSpPr/>
            <p:nvPr/>
          </p:nvSpPr>
          <p:spPr>
            <a:xfrm>
              <a:off x="7223760" y="5882760"/>
              <a:ext cx="70560" cy="26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66"/>
            <p:cNvSpPr/>
            <p:nvPr/>
          </p:nvSpPr>
          <p:spPr>
            <a:xfrm>
              <a:off x="7175520" y="5887800"/>
              <a:ext cx="6336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67"/>
            <p:cNvSpPr/>
            <p:nvPr/>
          </p:nvSpPr>
          <p:spPr>
            <a:xfrm>
              <a:off x="7313760" y="5643720"/>
              <a:ext cx="1238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68"/>
            <p:cNvSpPr/>
            <p:nvPr/>
          </p:nvSpPr>
          <p:spPr>
            <a:xfrm>
              <a:off x="7429680" y="5643720"/>
              <a:ext cx="4212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69"/>
            <p:cNvSpPr/>
            <p:nvPr/>
          </p:nvSpPr>
          <p:spPr>
            <a:xfrm>
              <a:off x="7322400" y="5724360"/>
              <a:ext cx="150480" cy="40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0"/>
            <p:cNvSpPr/>
            <p:nvPr/>
          </p:nvSpPr>
          <p:spPr>
            <a:xfrm>
              <a:off x="7291440" y="5702400"/>
              <a:ext cx="128880" cy="43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1"/>
            <p:cNvSpPr/>
            <p:nvPr/>
          </p:nvSpPr>
          <p:spPr>
            <a:xfrm>
              <a:off x="7252920" y="6027840"/>
              <a:ext cx="482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72"/>
            <p:cNvSpPr/>
            <p:nvPr/>
          </p:nvSpPr>
          <p:spPr>
            <a:xfrm>
              <a:off x="7273080" y="5923080"/>
              <a:ext cx="5328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73"/>
            <p:cNvSpPr/>
            <p:nvPr/>
          </p:nvSpPr>
          <p:spPr>
            <a:xfrm>
              <a:off x="7303680" y="5826240"/>
              <a:ext cx="50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74"/>
            <p:cNvSpPr/>
            <p:nvPr/>
          </p:nvSpPr>
          <p:spPr>
            <a:xfrm>
              <a:off x="7308720" y="5739480"/>
              <a:ext cx="5508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75"/>
            <p:cNvSpPr/>
            <p:nvPr/>
          </p:nvSpPr>
          <p:spPr>
            <a:xfrm>
              <a:off x="7043040" y="5767920"/>
              <a:ext cx="151200" cy="30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76"/>
            <p:cNvSpPr/>
            <p:nvPr/>
          </p:nvSpPr>
          <p:spPr>
            <a:xfrm>
              <a:off x="7078320" y="5802120"/>
              <a:ext cx="7776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77"/>
            <p:cNvSpPr/>
            <p:nvPr/>
          </p:nvSpPr>
          <p:spPr>
            <a:xfrm>
              <a:off x="7139160" y="5960520"/>
              <a:ext cx="4824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78"/>
            <p:cNvSpPr/>
            <p:nvPr/>
          </p:nvSpPr>
          <p:spPr>
            <a:xfrm>
              <a:off x="6987600" y="6123600"/>
              <a:ext cx="676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79"/>
            <p:cNvSpPr/>
            <p:nvPr/>
          </p:nvSpPr>
          <p:spPr>
            <a:xfrm>
              <a:off x="7278120" y="5806080"/>
              <a:ext cx="464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80"/>
            <p:cNvSpPr/>
            <p:nvPr/>
          </p:nvSpPr>
          <p:spPr>
            <a:xfrm>
              <a:off x="7485120" y="6105600"/>
              <a:ext cx="107748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81"/>
            <p:cNvSpPr/>
            <p:nvPr/>
          </p:nvSpPr>
          <p:spPr>
            <a:xfrm>
              <a:off x="8506080" y="6114960"/>
              <a:ext cx="68400" cy="32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82"/>
            <p:cNvSpPr/>
            <p:nvPr/>
          </p:nvSpPr>
          <p:spPr>
            <a:xfrm>
              <a:off x="8159040" y="6203520"/>
              <a:ext cx="3132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83"/>
            <p:cNvSpPr/>
            <p:nvPr/>
          </p:nvSpPr>
          <p:spPr>
            <a:xfrm>
              <a:off x="8172000" y="6188040"/>
              <a:ext cx="3369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84"/>
            <p:cNvSpPr/>
            <p:nvPr/>
          </p:nvSpPr>
          <p:spPr>
            <a:xfrm>
              <a:off x="8288280" y="6248880"/>
              <a:ext cx="19152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5"/>
            <p:cNvSpPr/>
            <p:nvPr/>
          </p:nvSpPr>
          <p:spPr>
            <a:xfrm>
              <a:off x="7419600" y="6282000"/>
              <a:ext cx="1028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86"/>
            <p:cNvSpPr/>
            <p:nvPr/>
          </p:nvSpPr>
          <p:spPr>
            <a:xfrm>
              <a:off x="7266240" y="6500880"/>
              <a:ext cx="93708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7"/>
            <p:cNvSpPr/>
            <p:nvPr/>
          </p:nvSpPr>
          <p:spPr>
            <a:xfrm>
              <a:off x="8476200" y="6342480"/>
              <a:ext cx="124920" cy="1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88"/>
            <p:cNvSpPr/>
            <p:nvPr/>
          </p:nvSpPr>
          <p:spPr>
            <a:xfrm>
              <a:off x="8533440" y="6545160"/>
              <a:ext cx="712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89"/>
            <p:cNvSpPr/>
            <p:nvPr/>
          </p:nvSpPr>
          <p:spPr>
            <a:xfrm>
              <a:off x="7241040" y="6571440"/>
              <a:ext cx="13158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90"/>
            <p:cNvSpPr/>
            <p:nvPr/>
          </p:nvSpPr>
          <p:spPr>
            <a:xfrm>
              <a:off x="7489080" y="6351840"/>
              <a:ext cx="70128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91"/>
            <p:cNvSpPr/>
            <p:nvPr/>
          </p:nvSpPr>
          <p:spPr>
            <a:xfrm>
              <a:off x="7453800" y="6418080"/>
              <a:ext cx="51048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92"/>
            <p:cNvSpPr/>
            <p:nvPr/>
          </p:nvSpPr>
          <p:spPr>
            <a:xfrm>
              <a:off x="8289360" y="6401880"/>
              <a:ext cx="1544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93"/>
            <p:cNvSpPr/>
            <p:nvPr/>
          </p:nvSpPr>
          <p:spPr>
            <a:xfrm>
              <a:off x="8323560" y="6441480"/>
              <a:ext cx="1562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94"/>
            <p:cNvSpPr/>
            <p:nvPr/>
          </p:nvSpPr>
          <p:spPr>
            <a:xfrm>
              <a:off x="8336520" y="6487920"/>
              <a:ext cx="1807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95"/>
            <p:cNvSpPr/>
            <p:nvPr/>
          </p:nvSpPr>
          <p:spPr>
            <a:xfrm>
              <a:off x="7463880" y="4971240"/>
              <a:ext cx="95832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96"/>
            <p:cNvSpPr/>
            <p:nvPr/>
          </p:nvSpPr>
          <p:spPr>
            <a:xfrm>
              <a:off x="8454600" y="4991400"/>
              <a:ext cx="9792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97"/>
            <p:cNvSpPr/>
            <p:nvPr/>
          </p:nvSpPr>
          <p:spPr>
            <a:xfrm>
              <a:off x="8389440" y="5118480"/>
              <a:ext cx="166320" cy="86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98"/>
            <p:cNvSpPr/>
            <p:nvPr/>
          </p:nvSpPr>
          <p:spPr>
            <a:xfrm>
              <a:off x="8345880" y="5047920"/>
              <a:ext cx="106560" cy="78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99"/>
            <p:cNvSpPr/>
            <p:nvPr/>
          </p:nvSpPr>
          <p:spPr>
            <a:xfrm>
              <a:off x="7462800" y="5253480"/>
              <a:ext cx="184320" cy="73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00"/>
            <p:cNvSpPr/>
            <p:nvPr/>
          </p:nvSpPr>
          <p:spPr>
            <a:xfrm>
              <a:off x="7665840" y="5990760"/>
              <a:ext cx="6019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01"/>
            <p:cNvSpPr/>
            <p:nvPr/>
          </p:nvSpPr>
          <p:spPr>
            <a:xfrm>
              <a:off x="8281440" y="5992560"/>
              <a:ext cx="1137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02"/>
            <p:cNvSpPr/>
            <p:nvPr/>
          </p:nvSpPr>
          <p:spPr>
            <a:xfrm>
              <a:off x="7726320" y="6000840"/>
              <a:ext cx="9180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03"/>
            <p:cNvSpPr/>
            <p:nvPr/>
          </p:nvSpPr>
          <p:spPr>
            <a:xfrm>
              <a:off x="7673760" y="6114960"/>
              <a:ext cx="4428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04"/>
            <p:cNvSpPr/>
            <p:nvPr/>
          </p:nvSpPr>
          <p:spPr>
            <a:xfrm>
              <a:off x="8177400" y="5998680"/>
              <a:ext cx="13284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05"/>
            <p:cNvSpPr/>
            <p:nvPr/>
          </p:nvSpPr>
          <p:spPr>
            <a:xfrm>
              <a:off x="8328600" y="6058440"/>
              <a:ext cx="2124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06"/>
            <p:cNvSpPr/>
            <p:nvPr/>
          </p:nvSpPr>
          <p:spPr>
            <a:xfrm>
              <a:off x="7715160" y="5906880"/>
              <a:ext cx="2808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07"/>
            <p:cNvSpPr/>
            <p:nvPr/>
          </p:nvSpPr>
          <p:spPr>
            <a:xfrm>
              <a:off x="7717320" y="5868720"/>
              <a:ext cx="5317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08"/>
            <p:cNvSpPr/>
            <p:nvPr/>
          </p:nvSpPr>
          <p:spPr>
            <a:xfrm>
              <a:off x="8235000" y="5871600"/>
              <a:ext cx="1980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09"/>
            <p:cNvSpPr/>
            <p:nvPr/>
          </p:nvSpPr>
          <p:spPr>
            <a:xfrm>
              <a:off x="8124840" y="5898960"/>
              <a:ext cx="198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10"/>
            <p:cNvSpPr/>
            <p:nvPr/>
          </p:nvSpPr>
          <p:spPr>
            <a:xfrm>
              <a:off x="8025120" y="5897880"/>
              <a:ext cx="248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11"/>
            <p:cNvSpPr/>
            <p:nvPr/>
          </p:nvSpPr>
          <p:spPr>
            <a:xfrm>
              <a:off x="7909920" y="5895000"/>
              <a:ext cx="230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12"/>
            <p:cNvSpPr/>
            <p:nvPr/>
          </p:nvSpPr>
          <p:spPr>
            <a:xfrm>
              <a:off x="7809840" y="5901120"/>
              <a:ext cx="25200" cy="5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13"/>
            <p:cNvSpPr/>
            <p:nvPr/>
          </p:nvSpPr>
          <p:spPr>
            <a:xfrm>
              <a:off x="8102520" y="5153760"/>
              <a:ext cx="19152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14"/>
            <p:cNvSpPr/>
            <p:nvPr/>
          </p:nvSpPr>
          <p:spPr>
            <a:xfrm>
              <a:off x="7570800" y="5403960"/>
              <a:ext cx="153360" cy="43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5"/>
            <p:cNvSpPr/>
            <p:nvPr/>
          </p:nvSpPr>
          <p:spPr>
            <a:xfrm>
              <a:off x="7722360" y="5775840"/>
              <a:ext cx="5468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16"/>
            <p:cNvSpPr/>
            <p:nvPr/>
          </p:nvSpPr>
          <p:spPr>
            <a:xfrm>
              <a:off x="8233560" y="5132520"/>
              <a:ext cx="112680" cy="67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17"/>
            <p:cNvSpPr/>
            <p:nvPr/>
          </p:nvSpPr>
          <p:spPr>
            <a:xfrm>
              <a:off x="7215840" y="6307200"/>
              <a:ext cx="19260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18"/>
            <p:cNvSpPr/>
            <p:nvPr/>
          </p:nvSpPr>
          <p:spPr>
            <a:xfrm>
              <a:off x="6930000" y="4998600"/>
              <a:ext cx="979560" cy="85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19"/>
            <p:cNvSpPr/>
            <p:nvPr/>
          </p:nvSpPr>
          <p:spPr>
            <a:xfrm>
              <a:off x="8466840" y="5490720"/>
              <a:ext cx="676800" cy="101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20"/>
            <p:cNvSpPr/>
            <p:nvPr/>
          </p:nvSpPr>
          <p:spPr>
            <a:xfrm>
              <a:off x="7206480" y="6512760"/>
              <a:ext cx="5544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21"/>
            <p:cNvSpPr/>
            <p:nvPr/>
          </p:nvSpPr>
          <p:spPr>
            <a:xfrm>
              <a:off x="7545600" y="6586560"/>
              <a:ext cx="1343880" cy="27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22"/>
            <p:cNvSpPr/>
            <p:nvPr/>
          </p:nvSpPr>
          <p:spPr>
            <a:xfrm>
              <a:off x="7570080" y="5125680"/>
              <a:ext cx="747360" cy="20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23"/>
            <p:cNvSpPr/>
            <p:nvPr/>
          </p:nvSpPr>
          <p:spPr>
            <a:xfrm>
              <a:off x="7618320" y="5185800"/>
              <a:ext cx="305640" cy="34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24"/>
            <p:cNvSpPr/>
            <p:nvPr/>
          </p:nvSpPr>
          <p:spPr>
            <a:xfrm>
              <a:off x="7478280" y="6177240"/>
              <a:ext cx="27000" cy="11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900000" y="1773360"/>
            <a:ext cx="7272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23544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92000" y="360360"/>
            <a:ext cx="73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Times New Roman"/>
              </a:rPr>
              <a:t>Актуа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0360" y="981000"/>
            <a:ext cx="8640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Times New Roman"/>
              <a:buChar char="•"/>
              <a:tabLst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Times New Roman"/>
              </a:rPr>
              <a:t>Актуальность исследуемой темы подчеркивается тем, что сегодняшние ученики – завтра активные участники общественной жизни. В силу этого важно использовать воспитательный потенциал исторического источника для сформирования мировоззрения обучающих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Times New Roman"/>
              <a:buChar char="•"/>
              <a:tabLst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84807"/>
                </a:solidFill>
                <a:latin typeface="Times New Roman"/>
              </a:rPr>
              <a:t>Современное развитие общества требует подготовки личности, способной адаптироваться и реализоваться в динамичных социально-экономических условиях, самостоятельно извлекать и обрабатывать информацию; раскрывать свой творческий потенциал, использовать новейшие информационные технолог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Times New Roman"/>
              </a:rPr>
              <a:t>Особенности социализации в обществе определяют качества , необходимые современной личности: конкурентоспособность, коммуникабельность, толерантность, высокая нравственность, предприимчивость, сотрудничество, мобильность, коммуникативность, конструктив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6000" y="3456000"/>
            <a:ext cx="8470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5280" y="37162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800080"/>
                </a:solidFill>
                <a:latin typeface="Times New Roman"/>
              </a:rPr>
              <a:t>Новиз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Работа с историческим источником содействует становлению системы нравственных ценностей, духовно-нравственной культуры, свободной, саморазвивающейся личности. Способной социализироваться в современном обще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Углубляет знания обучающихся, удовлетворяет интерес в освоении основ исторической науки, воспитывает патриотизм, гражданственность, социальную ответствен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835280" y="486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516040" y="360360"/>
            <a:ext cx="4232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Times New Roman"/>
              </a:rPr>
              <a:t>Противореч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47640" y="1295280"/>
            <a:ext cx="803916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80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Сегодня ценятся личности способные творить и мотивировать, не ценятся – выполняющие работу по заданному шаблон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80"/>
                </a:solidFill>
                <a:latin typeface="Times New Roman"/>
              </a:rPr>
              <a:t>2)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Между предлагаемым всем детям образовательным стандартом образования и   индивидуальной избирательностью ученика к познанию ми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80"/>
                </a:solidFill>
                <a:latin typeface="Times New Roman"/>
              </a:rPr>
              <a:t>3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Огромны возможности использования ИКТ для формирования учебно-познавательных компетенций и недостаточна готовность обучающихся к данному виду деятельности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592360" y="720720"/>
            <a:ext cx="34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68200" y="2016000"/>
            <a:ext cx="851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628720" cy="2982960"/>
          </a:xfrm>
          <a:prstGeom prst="rect">
            <a:avLst/>
          </a:prstGeom>
          <a:ln w="0">
            <a:noFill/>
          </a:ln>
        </p:spPr>
      </p:pic>
      <p:grpSp>
        <p:nvGrpSpPr>
          <p:cNvPr id="103" name="Блок-схема: перфолента 9"/>
          <p:cNvGrpSpPr/>
          <p:nvPr/>
        </p:nvGrpSpPr>
        <p:grpSpPr>
          <a:xfrm>
            <a:off x="396720" y="2712960"/>
            <a:ext cx="7966080" cy="3803760"/>
            <a:chOff x="396720" y="2712960"/>
            <a:chExt cx="7966080" cy="3803760"/>
          </a:xfrm>
        </p:grpSpPr>
        <p:pic>
          <p:nvPicPr>
            <p:cNvPr id="104" name="Блок-схема: перфолента 9" descr=""/>
            <p:cNvPicPr/>
            <p:nvPr/>
          </p:nvPicPr>
          <p:blipFill>
            <a:blip r:embed="rId2"/>
            <a:stretch/>
          </p:blipFill>
          <p:spPr>
            <a:xfrm>
              <a:off x="396720" y="2712960"/>
              <a:ext cx="7966080" cy="38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69880" y="3579840"/>
              <a:ext cx="763128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90033"/>
                  </a:solidFill>
                  <a:latin typeface="Times New Roman"/>
                </a:rPr>
                <a:t>Гипотеза: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a1319c"/>
                  </a:solidFill>
                  <a:latin typeface="Times New Roman"/>
                </a:rPr>
                <a:t>Внедрение организации работы с историческими источниками (или: источниками социальной информации)способствует повышению  качества образования, формированию у обучающихся  информационной и познавательной активности, способствует плодотворному развитию исторического созн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6" name="Прямоугольник 2" descr=""/>
          <p:cNvPicPr/>
          <p:nvPr/>
        </p:nvPicPr>
        <p:blipFill>
          <a:blip r:embed="rId3"/>
          <a:stretch/>
        </p:blipFill>
        <p:spPr>
          <a:xfrm>
            <a:off x="3700440" y="182520"/>
            <a:ext cx="493704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879640" y="431640"/>
            <a:ext cx="453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1800360"/>
            <a:ext cx="8352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Скругленный прямоугольник 3"/>
          <p:cNvGrpSpPr/>
          <p:nvPr/>
        </p:nvGrpSpPr>
        <p:grpSpPr>
          <a:xfrm>
            <a:off x="324000" y="262080"/>
            <a:ext cx="2973240" cy="976320"/>
            <a:chOff x="324000" y="262080"/>
            <a:chExt cx="2973240" cy="976320"/>
          </a:xfrm>
        </p:grpSpPr>
        <p:pic>
          <p:nvPicPr>
            <p:cNvPr id="11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24000" y="262080"/>
              <a:ext cx="29732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23800" y="463680"/>
              <a:ext cx="2579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90099"/>
                  </a:solidFill>
                  <a:latin typeface="Times New Roman"/>
                  <a:ea typeface="Times New Roman"/>
                </a:rPr>
                <a:t>Цел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395280" y="1197000"/>
            <a:ext cx="82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a1319c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a1319c"/>
                </a:solidFill>
                <a:latin typeface="Arial"/>
              </a:rPr>
              <a:t>Создание педагогических условий, направленных на формир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a1319c"/>
                </a:solidFill>
                <a:latin typeface="Arial"/>
              </a:rPr>
              <a:t>у обучающихся потребности: овладеть умениями работать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a1319c"/>
                </a:solidFill>
                <a:latin typeface="Arial"/>
              </a:rPr>
              <a:t>различными источниками исторической информации для того , чтобы активизировать деятельность обучающихся и использовать свой  опыт в практической  и повседневной жизни, т. 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a1319c"/>
                </a:solidFill>
                <a:latin typeface="Arial"/>
              </a:rPr>
              <a:t>социализироваться в общест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Скругленный прямоугольник 4"/>
          <p:cNvGrpSpPr/>
          <p:nvPr/>
        </p:nvGrpSpPr>
        <p:grpSpPr>
          <a:xfrm>
            <a:off x="324000" y="3005280"/>
            <a:ext cx="3303360" cy="628560"/>
            <a:chOff x="324000" y="3005280"/>
            <a:chExt cx="3303360" cy="628560"/>
          </a:xfrm>
        </p:grpSpPr>
        <p:pic>
          <p:nvPicPr>
            <p:cNvPr id="114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24000" y="3005280"/>
              <a:ext cx="33033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80880" y="3062160"/>
              <a:ext cx="319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90099"/>
                  </a:solidFill>
                  <a:latin typeface="Times New Roman"/>
                  <a:ea typeface="Times New Roman"/>
                </a:rPr>
                <a:t>Задач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Rectangle 12"/>
          <p:cNvSpPr/>
          <p:nvPr/>
        </p:nvSpPr>
        <p:spPr>
          <a:xfrm>
            <a:off x="250920" y="3645000"/>
            <a:ext cx="8713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Проанализировать педагогическую, методическую, научную литературу по проблеме исслед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Изучить передовой педагогический опыт по теме исслед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Разработать дидактические материалы для учебного процесса и внекласс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Организовать проектную и исследовательскую деятельность обучающихся на уроках истории, обществознания и во внеклассной рабо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оспитывать любовь к своей стране, к своей истории, показать, что исторический источник, оставленный нам потомками может являться важным в процессе познания прошл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576360" y="503280"/>
            <a:ext cx="28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Участник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24000" y="836640"/>
            <a:ext cx="280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b270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2704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Обучающиеся 6-9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b2704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Род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b270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b2704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Социально-психологическ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служба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759280" y="576360"/>
            <a:ext cx="2519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Срок реализаци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2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55640" y="4005360"/>
            <a:ext cx="31320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b2704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Объект     иссле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Образовательные технологии обучения на уроках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716360" y="3645000"/>
            <a:ext cx="401796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Предмет иссле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2b2704"/>
                </a:solidFill>
                <a:latin typeface="Times New Roman"/>
              </a:rPr>
              <a:t>Инновационные методы и приёмы обучения как средство работы с историческими источниками на уроках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SDC10207"/>
          <p:cNvPicPr/>
          <p:nvPr/>
        </p:nvPicPr>
        <p:blipFill>
          <a:blip r:embed="rId1"/>
          <a:stretch/>
        </p:blipFill>
        <p:spPr>
          <a:xfrm>
            <a:off x="2627280" y="1197000"/>
            <a:ext cx="295272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631880" y="576360"/>
            <a:ext cx="6000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Times New Roman"/>
              </a:rPr>
              <a:t>Этапы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76360" y="1986120"/>
            <a:ext cx="79912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2b2704"/>
                </a:solidFill>
                <a:uFillTx/>
                <a:latin typeface="Times New Roman"/>
              </a:rPr>
              <a:t>  </a:t>
            </a: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Ɩ. Аналитиче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Подготовительный. </a:t>
            </a:r>
            <a:br>
              <a:rPr sz="2200"/>
            </a:br>
            <a:r>
              <a:rPr b="0" lang="ru-RU" sz="2200" spc="-1" strike="noStrike">
                <a:solidFill>
                  <a:srgbClr val="740d89"/>
                </a:solidFill>
                <a:latin typeface="Times New Roman"/>
              </a:rPr>
              <a:t>Изучение проблемы. (сентябрь 2015- август 201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Диагностический.</a:t>
            </a:r>
            <a:r>
              <a:rPr b="0" lang="ru-RU" sz="2200" spc="-1" strike="noStrike">
                <a:solidFill>
                  <a:srgbClr val="740d89"/>
                </a:solidFill>
                <a:latin typeface="Times New Roman"/>
              </a:rPr>
              <a:t> Анкетирование, мониторинги, собеседование, позволяющие выявить творческие способности де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  </a:t>
            </a: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ƖƖ. Практический.</a:t>
            </a:r>
            <a:r>
              <a:rPr b="0" lang="ru-RU" sz="2200" spc="-1" strike="noStrike">
                <a:solidFill>
                  <a:srgbClr val="740d89"/>
                </a:solidFill>
                <a:latin typeface="Times New Roman"/>
              </a:rPr>
              <a:t> (сентябрь 2016- май 2017)</a:t>
            </a:r>
            <a:br>
              <a:rPr sz="2200"/>
            </a:br>
            <a:r>
              <a:rPr b="0" lang="ru-RU" sz="2200" spc="-1" strike="noStrike">
                <a:solidFill>
                  <a:srgbClr val="740d89"/>
                </a:solidFill>
                <a:latin typeface="Times New Roman"/>
              </a:rPr>
              <a:t>Достижение поставленной цели и решение поставленных задач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  </a:t>
            </a:r>
            <a:r>
              <a:rPr b="0" lang="ru-RU" sz="2200" spc="-1" strike="noStrike" u="sng">
                <a:solidFill>
                  <a:srgbClr val="740d89"/>
                </a:solidFill>
                <a:uFillTx/>
                <a:latin typeface="Times New Roman"/>
              </a:rPr>
              <a:t>ƖƖƖ. Заключительный.</a:t>
            </a:r>
            <a:r>
              <a:rPr b="0" lang="ru-RU" sz="2200" spc="-1" strike="noStrike">
                <a:solidFill>
                  <a:srgbClr val="740d89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740d89"/>
                </a:solidFill>
                <a:latin typeface="Times New Roman"/>
              </a:rPr>
              <a:t>Анализ полученных результатов. (июнь - сентябрь 2017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152360" y="431640"/>
            <a:ext cx="62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60360" y="1295280"/>
            <a:ext cx="2952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Увеличение уровня интереса к изуч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95280" y="5300640"/>
            <a:ext cx="273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Развитие логического мыш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724360" y="1440000"/>
            <a:ext cx="298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использования работы с историческими источниками для социализации в обще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859280" y="4581360"/>
            <a:ext cx="4103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Формирование развития коммуникативных навы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843280" y="580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Ум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анализировать доку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DSC_0232"/>
          <p:cNvPicPr/>
          <p:nvPr/>
        </p:nvPicPr>
        <p:blipFill>
          <a:blip r:embed="rId1"/>
          <a:stretch/>
        </p:blipFill>
        <p:spPr>
          <a:xfrm>
            <a:off x="1547640" y="2492280"/>
            <a:ext cx="3384720" cy="25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47640" y="1332000"/>
            <a:ext cx="806472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973080" y="287280"/>
            <a:ext cx="7318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Анализ передового педагогического оп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31640" y="1197000"/>
            <a:ext cx="849636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40d89"/>
                </a:solidFill>
                <a:latin typeface="Times New Roman"/>
              </a:rPr>
              <a:t>Проанализировав педагогическую, методическую, научную литературу по проблеме исследования следующих педагогов новаторов: О.Б Ананьевой, В.А. Андреевой, А.А. Вашия, Н.Г. Дайри, М.И. Махмутова, И.Я. Лернера, М.Н. Скаткина, А.Т. Степанищ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DSC_0230"/>
          <p:cNvPicPr/>
          <p:nvPr/>
        </p:nvPicPr>
        <p:blipFill>
          <a:blip r:embed="rId1"/>
          <a:stretch/>
        </p:blipFill>
        <p:spPr>
          <a:xfrm>
            <a:off x="2411280" y="3141720"/>
            <a:ext cx="3961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1:46:51Z</dcterms:created>
  <dc:creator/>
  <dc:description/>
  <dc:language>en-US</dc:language>
  <cp:lastModifiedBy>Татьяна</cp:lastModifiedBy>
  <dcterms:modified xsi:type="dcterms:W3CDTF">2017-09-19T15:01:25Z</dcterms:modified>
  <cp:revision>28</cp:revision>
  <dc:subject/>
  <dc:title>Слайд 1</dc:title>
</cp:coreProperties>
</file>