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635-46F8-4ED8-881E-58305559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38B-6A8E-4AA7-804E-2A259F27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445-BBF3-4649-B501-C3E76D75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2D9-1BBD-49C2-B215-21FCF528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DC44-BB38-4F86-838D-943248D3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F401-983F-4C51-8B2D-BC60C03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1B7-EAEE-4049-8EEB-61E19BEC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DFE-99DE-4203-B1CE-10A7C9FF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834-11B9-40F4-B501-2150486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7C1-11FC-4ED6-8581-3AFEB2E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F97F-5E7C-42C2-AC75-E2E67A5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AE3-0E72-4BC7-8B42-A971A59A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D9B-01B6-4F28-96F9-14A5A11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55EA-BD62-4830-884D-F6E2628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9EAB-CD4C-4DFC-A958-045BD92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910D-5FE1-43E9-B2E0-6F3953CF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CDDD-DBEA-40B3-AE7B-AFD58BEB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936-F73C-4963-9437-A92BF680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5F0-AA38-4619-B392-9233B8F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81C-EF7F-4B7B-B418-F5E6F85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892-74E5-4575-991B-61B70386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D29-8877-462C-99F9-ECE215F4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64C-FCAC-4EED-9B8F-3B5F7B31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5D4-FBA5-40B4-8004-2A1F6CB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BECB-100B-4B0C-BA95-DAAF3A8D5D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F61-10FD-4C25-A33D-A69144A654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042920" y="3933720"/>
            <a:ext cx="46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рокина Еле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КОУ «Фатеж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c0000"/>
                </a:solidFill>
                <a:latin typeface="Times New Roman"/>
              </a:rPr>
              <a:t>Осень в живопис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9720" y="3886200"/>
            <a:ext cx="507204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Даже у одного художника осень очень разная.</a:t>
            </a:r>
            <a:br>
              <a:rPr sz="2800"/>
            </a:b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И. Левит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4174277_original"/>
          <p:cNvPicPr/>
          <p:nvPr/>
        </p:nvPicPr>
        <p:blipFill>
          <a:blip r:embed="rId1"/>
          <a:stretch/>
        </p:blipFill>
        <p:spPr>
          <a:xfrm>
            <a:off x="755640" y="1413000"/>
            <a:ext cx="3527280" cy="23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4174943_original"/>
          <p:cNvPicPr/>
          <p:nvPr/>
        </p:nvPicPr>
        <p:blipFill>
          <a:blip r:embed="rId2"/>
          <a:stretch/>
        </p:blipFill>
        <p:spPr>
          <a:xfrm>
            <a:off x="4643280" y="1413000"/>
            <a:ext cx="35928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4175436_original"/>
          <p:cNvPicPr/>
          <p:nvPr/>
        </p:nvPicPr>
        <p:blipFill>
          <a:blip r:embed="rId3"/>
          <a:stretch/>
        </p:blipFill>
        <p:spPr>
          <a:xfrm>
            <a:off x="4716360" y="3933720"/>
            <a:ext cx="3527640" cy="226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4178202_original"/>
          <p:cNvPicPr/>
          <p:nvPr/>
        </p:nvPicPr>
        <p:blipFill>
          <a:blip r:embed="rId4"/>
          <a:stretch/>
        </p:blipFill>
        <p:spPr>
          <a:xfrm>
            <a:off x="826920" y="3933720"/>
            <a:ext cx="3457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А вот «Осень» И.Шиш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4176015_original"/>
          <p:cNvPicPr/>
          <p:nvPr/>
        </p:nvPicPr>
        <p:blipFill>
          <a:blip r:embed="rId1"/>
          <a:stretch/>
        </p:blipFill>
        <p:spPr>
          <a:xfrm>
            <a:off x="684360" y="1557360"/>
            <a:ext cx="34700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178786_original"/>
          <p:cNvPicPr/>
          <p:nvPr/>
        </p:nvPicPr>
        <p:blipFill>
          <a:blip r:embed="rId2"/>
          <a:stretch/>
        </p:blipFill>
        <p:spPr>
          <a:xfrm>
            <a:off x="4788000" y="1557360"/>
            <a:ext cx="3254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Чаще всего художники изображают прекрасный период, называемый «золотой осенью». Но и она у каждого своя.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от «Золотая осень» И.Левит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 тек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4169019_original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«Золотая осень» И.Шиш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4169235_original"/>
          <p:cNvPicPr/>
          <p:nvPr/>
        </p:nvPicPr>
        <p:blipFill>
          <a:blip r:embed="rId1"/>
          <a:stretch/>
        </p:blipFill>
        <p:spPr>
          <a:xfrm>
            <a:off x="901800" y="1600200"/>
            <a:ext cx="733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«Золотая осень» В.Д.Поле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4169634_original"/>
          <p:cNvPicPr/>
          <p:nvPr/>
        </p:nvPicPr>
        <p:blipFill>
          <a:blip r:embed="rId1"/>
          <a:stretch/>
        </p:blipFill>
        <p:spPr>
          <a:xfrm>
            <a:off x="874800" y="1600200"/>
            <a:ext cx="739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такая разная«Золотая осень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4170202_original"/>
          <p:cNvPicPr/>
          <p:nvPr/>
        </p:nvPicPr>
        <p:blipFill>
          <a:blip r:embed="rId1"/>
          <a:stretch/>
        </p:blipFill>
        <p:spPr>
          <a:xfrm>
            <a:off x="826920" y="1557360"/>
            <a:ext cx="3481560" cy="233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4170795_original"/>
          <p:cNvPicPr/>
          <p:nvPr/>
        </p:nvPicPr>
        <p:blipFill>
          <a:blip r:embed="rId2"/>
          <a:stretch/>
        </p:blipFill>
        <p:spPr>
          <a:xfrm>
            <a:off x="4788000" y="1557360"/>
            <a:ext cx="329220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4170452_original"/>
          <p:cNvPicPr/>
          <p:nvPr/>
        </p:nvPicPr>
        <p:blipFill>
          <a:blip r:embed="rId3"/>
          <a:stretch/>
        </p:blipFill>
        <p:spPr>
          <a:xfrm>
            <a:off x="4716360" y="3933720"/>
            <a:ext cx="3399120" cy="2552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4173909_original"/>
          <p:cNvPicPr/>
          <p:nvPr/>
        </p:nvPicPr>
        <p:blipFill>
          <a:blip r:embed="rId4"/>
          <a:stretch/>
        </p:blipFill>
        <p:spPr>
          <a:xfrm>
            <a:off x="826920" y="407664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</a:rPr>
              <a:t>Осень —  прекрасная п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для каждого из нас такая разная, для кого-то грустная, с дождями и пронизывающими ветрами, а для кого-то  — золотая пора. Осенью можно собирать в охапки желтые и красные листья, бродить под дождем, вдыхать осеннюю прохладу,  собирать грибы, наслаждаться красотой опавших листьев, сидеть с чашечкой горячего чая в руках и любоваться из окна на красоту осени. Бродить по уютному парку с лавочками среди опавшей листвы, слушать звук осеннего дожд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- одно из красивейших и романтичных времен года, загадочная, таинственная, романтичная, задумчивая по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самое живописное время года, у нее своя атмосфера и целая палитра ярких, теплых красок от светло-желтых до самых темных серых оттенков. Необыкновенно яркие краски, которые дарит нам осень — это простор для творчеств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Осень это прекрасное время года для художников, поэтов, которые воспевали ее красоту   в своих  произвед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Times New Roman"/>
              </a:rPr>
              <a:t>Поэтому, наверно, так много картин посвятили художники осе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У каждого своя осень.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от «Осень» И.И.Шиш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483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 тек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4159812_original"/>
          <p:cNvPicPr/>
          <p:nvPr/>
        </p:nvPicPr>
        <p:blipFill>
          <a:blip r:embed="rId2"/>
          <a:stretch/>
        </p:blipFill>
        <p:spPr>
          <a:xfrm>
            <a:off x="1619280" y="1413000"/>
            <a:ext cx="5676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«Осень» И.Левит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4160471_original"/>
          <p:cNvPicPr/>
          <p:nvPr/>
        </p:nvPicPr>
        <p:blipFill>
          <a:blip r:embed="rId1"/>
          <a:stretch/>
        </p:blipFill>
        <p:spPr>
          <a:xfrm>
            <a:off x="1258920" y="1413000"/>
            <a:ext cx="66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А.Куинд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4174420_original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Н.П.Крым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4176499_original"/>
          <p:cNvPicPr/>
          <p:nvPr/>
        </p:nvPicPr>
        <p:blipFill>
          <a:blip r:embed="rId1"/>
          <a:stretch/>
        </p:blipFill>
        <p:spPr>
          <a:xfrm>
            <a:off x="1258920" y="1341360"/>
            <a:ext cx="66261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А.К.Саврас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4177324_original"/>
          <p:cNvPicPr/>
          <p:nvPr/>
        </p:nvPicPr>
        <p:blipFill>
          <a:blip r:embed="rId1"/>
          <a:stretch/>
        </p:blipFill>
        <p:spPr>
          <a:xfrm>
            <a:off x="1428840" y="1357200"/>
            <a:ext cx="61912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Б.М.Кустод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4179842_original"/>
          <p:cNvPicPr/>
          <p:nvPr/>
        </p:nvPicPr>
        <p:blipFill>
          <a:blip r:embed="rId1"/>
          <a:stretch/>
        </p:blipFill>
        <p:spPr>
          <a:xfrm>
            <a:off x="1357200" y="157176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Times New Roman"/>
              </a:rPr>
              <a:t>Вот «Осень» Ю.Ю.Клев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4180125_original"/>
          <p:cNvPicPr/>
          <p:nvPr/>
        </p:nvPicPr>
        <p:blipFill>
          <a:blip r:embed="rId1"/>
          <a:stretch/>
        </p:blipFill>
        <p:spPr>
          <a:xfrm>
            <a:off x="1162080" y="1600200"/>
            <a:ext cx="68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Елена</cp:lastModifiedBy>
  <dcterms:modified xsi:type="dcterms:W3CDTF">2017-09-19T13:54:47Z</dcterms:modified>
  <cp:revision>36</cp:revision>
  <dc:subject/>
  <dc:title>Название презентации</dc:title>
</cp:coreProperties>
</file>