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B95E-0B8F-419D-AB4C-7D15E15A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8FF3-E41D-4749-A9BB-035D10D0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44C9-4C93-47C4-A71A-72CFD4ECF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8581-8603-4993-80A5-ABE544583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F51A-B552-4378-9506-6DA8B1E1E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1F7A-0612-41E2-81A7-F803C051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B007-C9C0-4589-B200-40B4D11A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415B-FE98-451B-A987-87D7673A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26DB-F661-4349-9B5E-D90A669E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AF98-21DA-48CF-950E-C3A6AFF1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96F2-CA7D-4472-8102-5F08DC61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A0CE-AB85-4FDB-B81A-1FA7A6A8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5DA4-D2E2-443E-934C-E8C3650D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459D-F1B3-4711-A06D-3D0CA116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CE1A-3095-47DD-A50E-ACC4CE50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DB05-9E6E-4861-AC15-6D276B0C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02F1-8909-4506-A397-9F4724341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AB6A-A2CF-4F1E-AB05-EA3F1C95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3660-AA86-44A1-970D-AA4FFF54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7458-4E7A-40A1-B304-1FA5DE56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B4BA-2907-4BCE-A0DD-F071E718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2EE3-CB4B-4A6D-B2AD-CC45FE12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A90F-9AFF-476B-A225-D2488E96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D342-45C4-47F0-B028-B4FB6FE5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DF76-7A86-4B25-A0B9-79E82016586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6DB0-62EB-4B5E-8A33-92DFE3A1FD3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1042920" y="3933720"/>
            <a:ext cx="460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то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орокина Елена Ю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КОУ «Фатежская сош №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211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c0000"/>
                </a:solidFill>
                <a:latin typeface="Times New Roman"/>
              </a:rPr>
              <a:t>Осень в живопис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99720" y="3886200"/>
            <a:ext cx="507204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0000"/>
                </a:solidFill>
                <a:latin typeface="Times New Roman"/>
              </a:rPr>
              <a:t>Даже у одного художника осень очень разная.</a:t>
            </a:r>
            <a:br>
              <a:rPr sz="2800"/>
            </a:br>
            <a:r>
              <a:rPr b="0" lang="ru-RU" sz="2800" spc="-1" strike="noStrike">
                <a:solidFill>
                  <a:srgbClr val="6c0000"/>
                </a:solidFill>
                <a:latin typeface="Times New Roman"/>
              </a:rPr>
              <a:t>Вот «Осень» И. Левита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4174277_original"/>
          <p:cNvPicPr/>
          <p:nvPr/>
        </p:nvPicPr>
        <p:blipFill>
          <a:blip r:embed="rId1"/>
          <a:stretch/>
        </p:blipFill>
        <p:spPr>
          <a:xfrm>
            <a:off x="755640" y="1413000"/>
            <a:ext cx="3527280" cy="2333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4174943_original"/>
          <p:cNvPicPr/>
          <p:nvPr/>
        </p:nvPicPr>
        <p:blipFill>
          <a:blip r:embed="rId2"/>
          <a:stretch/>
        </p:blipFill>
        <p:spPr>
          <a:xfrm>
            <a:off x="4643280" y="1413000"/>
            <a:ext cx="3592800" cy="2376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4175436_original"/>
          <p:cNvPicPr/>
          <p:nvPr/>
        </p:nvPicPr>
        <p:blipFill>
          <a:blip r:embed="rId3"/>
          <a:stretch/>
        </p:blipFill>
        <p:spPr>
          <a:xfrm>
            <a:off x="4716360" y="3933720"/>
            <a:ext cx="3527640" cy="2265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4178202_original"/>
          <p:cNvPicPr/>
          <p:nvPr/>
        </p:nvPicPr>
        <p:blipFill>
          <a:blip r:embed="rId4"/>
          <a:stretch/>
        </p:blipFill>
        <p:spPr>
          <a:xfrm>
            <a:off x="826920" y="3933720"/>
            <a:ext cx="345780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0000"/>
                </a:solidFill>
                <a:latin typeface="Times New Roman"/>
              </a:rPr>
              <a:t>А вот «Осень» И.Шишк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4176015_original"/>
          <p:cNvPicPr/>
          <p:nvPr/>
        </p:nvPicPr>
        <p:blipFill>
          <a:blip r:embed="rId1"/>
          <a:stretch/>
        </p:blipFill>
        <p:spPr>
          <a:xfrm>
            <a:off x="684360" y="1557360"/>
            <a:ext cx="3470040" cy="4525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4178786_original"/>
          <p:cNvPicPr/>
          <p:nvPr/>
        </p:nvPicPr>
        <p:blipFill>
          <a:blip r:embed="rId2"/>
          <a:stretch/>
        </p:blipFill>
        <p:spPr>
          <a:xfrm>
            <a:off x="4788000" y="1557360"/>
            <a:ext cx="32544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52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Чаще всего художники изображают прекрасный период, называемый «золотой осенью». Но и она у каждого своя.</a:t>
            </a:r>
            <a:br>
              <a:rPr sz="2400"/>
            </a:b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Вот «Золотая осень» И.Левита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483920"/>
            <a:ext cx="83534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ш текс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4169019_original"/>
          <p:cNvPicPr/>
          <p:nvPr/>
        </p:nvPicPr>
        <p:blipFill>
          <a:blip r:embed="rId1"/>
          <a:stretch/>
        </p:blipFill>
        <p:spPr>
          <a:xfrm>
            <a:off x="1258920" y="1628640"/>
            <a:ext cx="6553080" cy="45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Вот «Золотая осень» И.Шишк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4169235_original"/>
          <p:cNvPicPr/>
          <p:nvPr/>
        </p:nvPicPr>
        <p:blipFill>
          <a:blip r:embed="rId1"/>
          <a:stretch/>
        </p:blipFill>
        <p:spPr>
          <a:xfrm>
            <a:off x="901800" y="1600200"/>
            <a:ext cx="7338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«Золотая осень» В.Д.Полено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4169634_original"/>
          <p:cNvPicPr/>
          <p:nvPr/>
        </p:nvPicPr>
        <p:blipFill>
          <a:blip r:embed="rId1"/>
          <a:stretch/>
        </p:blipFill>
        <p:spPr>
          <a:xfrm>
            <a:off x="874800" y="1600200"/>
            <a:ext cx="7392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Вот такая разная«Золотая осень»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4170202_original"/>
          <p:cNvPicPr/>
          <p:nvPr/>
        </p:nvPicPr>
        <p:blipFill>
          <a:blip r:embed="rId1"/>
          <a:stretch/>
        </p:blipFill>
        <p:spPr>
          <a:xfrm>
            <a:off x="826920" y="1557360"/>
            <a:ext cx="3481560" cy="2333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4170795_original"/>
          <p:cNvPicPr/>
          <p:nvPr/>
        </p:nvPicPr>
        <p:blipFill>
          <a:blip r:embed="rId2"/>
          <a:stretch/>
        </p:blipFill>
        <p:spPr>
          <a:xfrm>
            <a:off x="4788000" y="1557360"/>
            <a:ext cx="3292200" cy="2305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4170452_original"/>
          <p:cNvPicPr/>
          <p:nvPr/>
        </p:nvPicPr>
        <p:blipFill>
          <a:blip r:embed="rId3"/>
          <a:stretch/>
        </p:blipFill>
        <p:spPr>
          <a:xfrm>
            <a:off x="4716360" y="3933720"/>
            <a:ext cx="3399120" cy="2552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4173909_original"/>
          <p:cNvPicPr/>
          <p:nvPr/>
        </p:nvPicPr>
        <p:blipFill>
          <a:blip r:embed="rId4"/>
          <a:stretch/>
        </p:blipFill>
        <p:spPr>
          <a:xfrm>
            <a:off x="826920" y="4076640"/>
            <a:ext cx="352908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c0000"/>
                </a:solidFill>
                <a:latin typeface="Times New Roman"/>
              </a:rPr>
              <a:t>Осень —  прекрасная п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6c0000"/>
                </a:solidFill>
                <a:latin typeface="Times New Roman"/>
              </a:rPr>
              <a:t>Осень для каждого из нас такая разная, для кого-то грустная, с дождями и пронизывающими ветрами, а для кого-то  — золотая пора. Осенью можно собирать в охапки желтые и красные листья, бродить под дождем, вдыхать осеннюю прохладу,  собирать грибы, наслаждаться красотой опавших листьев, сидеть с чашечкой горячего чая в руках и любоваться из окна на красоту осени. Бродить по уютному парку с лавочками среди опавшей листвы, слушать звук осеннего дождя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Times New Roman"/>
              </a:rPr>
              <a:t>Осень - одно из красивейших и романтичных времен года, загадочная, таинственная, романтичная, задумчивая пор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Times New Roman"/>
              </a:rPr>
              <a:t>Осень самое живописное время года, у нее своя атмосфера и целая палитра ярких, теплых красок от светло-желтых до самых темных серых оттенков. Необыкновенно яркие краски, которые дарит нам осень — это простор для творчества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Times New Roman"/>
              </a:rPr>
              <a:t>Осень это прекрасное время года для художников, поэтов, которые воспевали ее красоту   в своих  произведени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Times New Roman"/>
              </a:rPr>
              <a:t>Поэтому, наверно, так много картин посвятили художники осен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52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У каждого своя осень. 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Вот «Осень» И.И.Шишк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95280" y="1483920"/>
            <a:ext cx="83534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ш текс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4159812_original"/>
          <p:cNvPicPr/>
          <p:nvPr/>
        </p:nvPicPr>
        <p:blipFill>
          <a:blip r:embed="rId2"/>
          <a:stretch/>
        </p:blipFill>
        <p:spPr>
          <a:xfrm>
            <a:off x="1619280" y="1413000"/>
            <a:ext cx="56768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Вот «Осень» И.Левита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4160471_original"/>
          <p:cNvPicPr/>
          <p:nvPr/>
        </p:nvPicPr>
        <p:blipFill>
          <a:blip r:embed="rId1"/>
          <a:stretch/>
        </p:blipFill>
        <p:spPr>
          <a:xfrm>
            <a:off x="1258920" y="1413000"/>
            <a:ext cx="66978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0000"/>
                </a:solidFill>
                <a:latin typeface="Times New Roman"/>
              </a:rPr>
              <a:t>Вот «Осень» А.Куиндж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4174420_original"/>
          <p:cNvPicPr/>
          <p:nvPr/>
        </p:nvPicPr>
        <p:blipFill>
          <a:blip r:embed="rId1"/>
          <a:stretch/>
        </p:blipFill>
        <p:spPr>
          <a:xfrm>
            <a:off x="958680" y="1600200"/>
            <a:ext cx="7226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0000"/>
                </a:solidFill>
                <a:latin typeface="Times New Roman"/>
              </a:rPr>
              <a:t>Вот «Осень» Н.П.Крымо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4176499_original"/>
          <p:cNvPicPr/>
          <p:nvPr/>
        </p:nvPicPr>
        <p:blipFill>
          <a:blip r:embed="rId1"/>
          <a:stretch/>
        </p:blipFill>
        <p:spPr>
          <a:xfrm>
            <a:off x="1258920" y="1341360"/>
            <a:ext cx="662616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0000"/>
                </a:solidFill>
                <a:latin typeface="Times New Roman"/>
              </a:rPr>
              <a:t>Вот «Осень» А.К.Саврасо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4177324_original"/>
          <p:cNvPicPr/>
          <p:nvPr/>
        </p:nvPicPr>
        <p:blipFill>
          <a:blip r:embed="rId1"/>
          <a:stretch/>
        </p:blipFill>
        <p:spPr>
          <a:xfrm>
            <a:off x="1428840" y="1357200"/>
            <a:ext cx="619128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0000"/>
                </a:solidFill>
                <a:latin typeface="Times New Roman"/>
              </a:rPr>
              <a:t>Вот «Осень» Б.М.Кустоди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4179842_original"/>
          <p:cNvPicPr/>
          <p:nvPr/>
        </p:nvPicPr>
        <p:blipFill>
          <a:blip r:embed="rId1"/>
          <a:stretch/>
        </p:blipFill>
        <p:spPr>
          <a:xfrm>
            <a:off x="1357200" y="1571760"/>
            <a:ext cx="6264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0000"/>
                </a:solidFill>
                <a:latin typeface="Times New Roman"/>
              </a:rPr>
              <a:t>Вот «Осень» Ю.Ю.Клеве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4180125_original"/>
          <p:cNvPicPr/>
          <p:nvPr/>
        </p:nvPicPr>
        <p:blipFill>
          <a:blip r:embed="rId1"/>
          <a:stretch/>
        </p:blipFill>
        <p:spPr>
          <a:xfrm>
            <a:off x="1162080" y="1600200"/>
            <a:ext cx="6818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8T16:01:14Z</dcterms:created>
  <dc:creator>Елена</dc:creator>
  <dc:description/>
  <dc:language>en-US</dc:language>
  <cp:lastModifiedBy>Елена</cp:lastModifiedBy>
  <dcterms:modified xsi:type="dcterms:W3CDTF">2017-09-19T13:54:47Z</dcterms:modified>
  <cp:revision>36</cp:revision>
  <dc:subject/>
  <dc:title>Название презентации</dc:title>
</cp:coreProperties>
</file>