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D00-BC58-4761-9822-B3AA5B94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A29-DB89-4347-B4A2-9295615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F0A-F69D-4840-B254-A10B77C7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474-1D6D-4C68-BBE6-D5EEF04A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116-545F-4C4E-B444-EFE8C2FD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692B-263D-4BF3-B44D-158722C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119C-A5A9-4FE2-9709-D96B677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6B15-3B69-4DAE-A977-66D26DA1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EBCA-121D-465A-BE91-AA5646DA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6B19-62C1-4312-9B0B-D0D9578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5D4C-B9C7-4770-B904-60DFC9A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C39-B65A-4213-A0AD-0D80773F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749-C0D2-4B6E-B4A1-AAB277A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D07-BA67-48D7-B13D-35B896F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BDB4-2853-45D0-8AA7-A500A9E1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5754-0D4E-4233-9F0E-09E3A89A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0283-274F-47E6-9B8B-BD0E022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B29E-32FD-42A7-803C-92451872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7C10-833B-4912-B4B8-53EED9DA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4ECF-D584-48BD-8A23-2BFA335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6073-2EDE-4F36-8122-B228FC4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134D-DCA5-430F-B450-21A1725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400-CE35-47C4-9381-1BF5944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4666-E214-428D-99A2-4EC89B82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4477-4ABA-4A97-ADFC-1298C14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A2C6-B64C-4BB7-B44E-981FB46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BE0AB-9D89-485D-907C-3930878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23E9-4A59-4DFC-95E3-449E319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4EE2-8A5B-44FE-8857-C85F8465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5D92-251C-48B1-93F0-F788C506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AFA6-2984-412C-BE63-178F1821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CCC9-C26F-4566-9208-DDA7767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DC31-6D8E-47FA-B761-EC2A1D78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FD3-A4FA-41AE-B32C-E0AD02C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67FE-E4B4-40AB-8235-3E73605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B54A-B668-487A-B43C-3532919A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164D-83B9-4764-AD59-BC18568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AFDC-C723-4E0A-A2A0-BE6721D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EDBB-37FF-4A8D-BF9F-3039D4D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A907-7A86-4036-987B-E501245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292E-2181-4C8F-943F-E0D9D2E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56AD-98AC-4D2D-820D-A060AEFD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7516-7A3C-4004-A2AF-049F44C5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432B-8B19-4390-8D71-56B89BEE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BA9-E647-4E0A-8491-32A235D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08D8-E887-4330-853D-08D0632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4771-14B6-4E70-9105-F170AB86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BA2E-5303-4DA0-8FEA-0BAD02D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58DD-751E-4E6E-9146-D1CBD82F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2513-ECE9-4852-851A-5BAAF6C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F928-7895-43A8-97C4-2C4384A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CE02-3192-4A06-9724-FD71CF3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1BD5-B0B3-414C-886D-EEBA1D1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D75B-46AF-4575-A67B-AB186CA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20FE-E3EB-42AD-A214-8A0DDC9A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3A9-7569-40FC-9EC1-3809FB2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D4E1-7749-41E8-A96F-76BF1833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FE7A-3DCA-436F-B02C-D6A872F6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C933-DBE6-47D9-AF34-FE97762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2B38-F7D3-4242-82B1-6579C6D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4022-838A-4FA8-99FB-20F6B43A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52FF-462D-4383-8A2C-6990BBC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28A2-342A-47BE-8E10-1959689B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AD8B-EE27-4F70-9BAA-33C1FA1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1E69-44BF-4C84-9B0A-0580F94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014C8-3A35-47EB-A950-B649456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E2B-6831-4011-A52A-5DAA7C11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CD2A-006D-4319-B85A-CEDB744F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E20D-3E5C-4B9B-A042-53BE9B19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B245-CC1D-4E61-A378-AC7F8365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8A65-A1A7-4E24-AFB5-98B83C06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5EFA7-6A02-4DC2-8064-2205386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AC51-59F2-493E-966E-7B816AD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8FB6-02B8-4854-A29D-DBD8F41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CF69-AAAE-4F6F-9CAB-A63E5DD9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BF91-8146-45C0-9B1E-AF4E259C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2EC5C-BFE1-4887-8BE7-A6A16BF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BC5-9CE4-4CF8-8A7D-F4D5B55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FAB1-7CC3-4D63-9172-9D8AB43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9905-7071-4593-8541-C588599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2F6F-F065-4C6E-8FD2-6F80D5E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11A0B-9A75-4809-955D-87B1DEF9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DF1D-A60E-4E3A-81D6-69906BF3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B8E1-C5E7-405F-B49D-B8995C9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7A38-4CC6-4CF9-8C71-C7A92204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47E5-2F17-44A5-A64E-36E1A6C8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BD17-FBB0-4259-ADD1-9AE36F3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53A5B-4A3B-49F7-B91C-7706931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9EE-E980-479F-8DF1-F3D6316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8C7D-47B0-41F4-BFAD-CEDE429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ABCDE-6C3C-4C24-BEEF-5FD9C40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57F88-7B8A-464C-9C15-42687D0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646B1-F1E3-4334-ACC3-72A661B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699F-D127-4982-B062-73988CC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FC27-AC72-4158-94A9-C0D3F66D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C5B77-B5A1-48B7-A783-B14BF3DA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192-997F-4699-B694-0B569D9D4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Слайд1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7C5-CE23-449E-8683-8F683B77E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лайд3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347-1F25-4DE5-95B7-1DD64B5C5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Слайд2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496-6587-4EF2-AF8B-8BC8E6AB7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лайд5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736E-1182-4F83-9C65-3D81D3E9A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лайд7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4F6-8A6E-49B1-8B93-794BDF0A5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Слайд6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608-2C8D-4D37-A0BA-790944BB7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6" descr="Слайд8.JPG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7" descr="Слайд4.JPG"/>
          <p:cNvPicPr/>
          <p:nvPr/>
        </p:nvPicPr>
        <p:blipFill>
          <a:blip r:embed="rId3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15F-21E1-43EB-BF3A-07CB157F3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33360" y="719280"/>
            <a:ext cx="6264360" cy="72738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549360" y="3445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</a:t>
            </a:r>
            <a:r>
              <a:rPr b="1" i="1" lang="ru-RU" sz="1800" spc="-1" strike="noStrike">
                <a:solidFill>
                  <a:srgbClr val="2004c6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Таблица 1" descr=""/>
          <p:cNvPicPr/>
          <p:nvPr/>
        </p:nvPicPr>
        <p:blipFill>
          <a:blip r:embed="rId1"/>
          <a:stretch/>
        </p:blipFill>
        <p:spPr>
          <a:xfrm>
            <a:off x="347760" y="1805040"/>
            <a:ext cx="6181560" cy="44560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260280" y="611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списание  непосредственной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на 2017 - 2018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9T14:20:52Z</dcterms:created>
  <dc:creator>DAY</dc:creator>
  <dc:description/>
  <dc:language>en-US</dc:language>
  <cp:lastModifiedBy>Надя</cp:lastModifiedBy>
  <dcterms:modified xsi:type="dcterms:W3CDTF">2017-09-16T05:21:57Z</dcterms:modified>
  <cp:revision>18</cp:revision>
  <dc:subject/>
  <dc:title>Слайд 1</dc:title>
</cp:coreProperties>
</file>