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9.wmf" ContentType="image/x-wmf"/>
  <Override PartName="/ppt/media/image6.jpeg" ContentType="image/jpeg"/>
  <Override PartName="/ppt/media/image7.jpeg" ContentType="image/jpeg"/>
  <Override PartName="/ppt/media/image8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BE0F8-F33D-4424-A1DE-719F185C7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74F54-3EBF-4A1A-A17B-EEEF77D5C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4B74E-DF9D-4734-B74F-67D336DCC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5EC00-134A-4283-A6D1-DDE14408A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4952D-D3FB-4200-9709-B4C840958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4E390-48E6-4096-A105-4EC915385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34DE7-EDEA-4807-8C75-36A741402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25FAD-DC26-46C8-95FA-40E7FC98F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60FD6-79DF-44FD-BFFE-5FCC23B87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E4964-0D8C-47FF-8ACF-7E34AB0F5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F36AE-DE54-4800-8182-74F7763A0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AE412-36D4-40BB-ABCD-2DD84E469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44260-2258-4620-A6D3-8A0FE2BF2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E8BCB-13CC-44D1-9333-14DF28807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36B01-292A-4C55-9990-468051775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A15FD-F5DC-4C35-8EC0-FF3CE824C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812DA-A3CB-449F-810A-A8BC37B62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07BBB6-3D0B-4BD2-BA42-A32991D45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3DD8FE-516F-4F27-B19F-9F4AA5F75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56E23D-475D-4400-82F5-1C31EFA49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468E40-D890-4EA2-B782-92EDD0EDB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0C27DC-2FC1-4B12-9FDD-DA01D03A8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03B5E-1631-4EE0-8B4A-D278E1131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2CC312-1EA8-445E-A491-10902858C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79AF57-0AB4-4AC1-B5F9-3C5FF8681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331A44-D4AB-47E2-ABC9-91E7AF3C8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E66CD2-55B8-45E5-99EC-1D80DF4FC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C99329-D37B-4E51-BA3D-13AC2EB11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AFF0E0-F77D-4646-9A0A-78218A197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54353F-DCAF-40AA-A469-BCA3ABB16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24C81B-CCA6-449E-ADDE-7D96093A8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ECF6BB-5277-4FAD-97C4-38A3B34E6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6C1265-A8A0-4D3F-9524-D2D4E59CE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FC259-510C-437A-A698-EEA497B05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A78B58-046B-4454-8A26-575CA5B42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CCD06A-BE97-4B2D-A12C-A7425E927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A0011B-C381-4DF3-A8C6-497D9EA62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986D22-D2AC-4E08-8561-A86AD6ACC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35685E-A571-43A7-BAE4-FA70417AC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6CB027-3E6F-470A-8F89-7CEB21BD4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629B54-9BF4-413E-BC67-7CB28C7DC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2E08CD-D085-4405-96B7-7D5B121FB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EA2388-2F97-4EC3-A134-E03C076EC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19FA0C-13B9-4F3B-B721-68011952A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4559A-DDBC-441D-BC0E-553432C48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280AFC-01AA-4CB1-BE6F-3B2CBC6E0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463BDC-AF4E-48F0-A43F-A09D92DC0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136055-EB63-41A2-BD88-90543ECCE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08D1BB-482B-45CC-AA55-A9739B378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1E02F5-DAFA-4783-976D-7D1E20111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A7F679-1AFA-4C04-9F0B-13A551D13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9FDCAC-6FC4-435B-AB1E-299615A2C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138BC5-5435-4859-80B6-4561BF2B2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370F3D-A2BB-4E1D-8AC2-003D39E0B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75E049-1425-42AF-A4C2-D645C1EBE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5BE4C-40DB-4305-9A59-B029C71AF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8E18AA-B3DC-482B-A5EF-ECC61F7E8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BE20FA-DF69-42A7-9B5A-D668E11FA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988A5B-4B2C-4950-B54A-20CE23B12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C42672-0C40-4D34-88E9-350F5EE6C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B3A19D-249C-4B1E-9648-D9B67F3DB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E89465-720D-4614-B201-CF91B6EEE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2AC055-3DFE-4250-A47D-CCAED7BC7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399EE2-A6DE-4819-98AF-EE7AB11DD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9E2899-C6E9-48F7-BE1A-F7946B835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2DF553-7983-4BDA-A592-239A43B49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E4791-431D-4AEF-A67B-7459F3253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F7FEE5-6093-40EC-970E-1D1307D25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9C3651-52FE-42FE-B189-6250E573D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0CA495-2CE4-4128-B12A-0C9ADE0CB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E5DC55-AF2F-4EE9-8E3D-983CDA9E3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CF7B47-B8E9-449D-9040-3358F1D9C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F5BABF-3528-49ED-85FB-73A0AD19D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CD42C7-772C-4004-AFA7-96645BF1C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C47D89-5863-498D-A8F9-35CD61CA8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D64E76-B275-44A6-9154-F12A8AA4A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1949CA-EA74-491A-BCA1-67F8EE512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AF5FE-4C3F-40B2-9419-C59450F09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87AA9C-37EE-4F40-A215-442CE1995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530409-593A-4EB9-AB62-A9F75D62B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DF8207-857B-4286-9FEB-2E1B6B5A3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DEFEC7-76E5-4BB2-AA0C-FC4434489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FF0A99-9D75-45C2-93A5-752274F58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117E4D-6769-43A2-B5E3-0EDBBDD54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9041A1-502B-40CD-9C40-14FFA60A4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6EE64F-2FC5-4D5D-A10F-D21C552A5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D44D6F-2253-418E-8925-8B81C0F7C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6B9E6A-3071-47E7-8782-0AC37B921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7B332-2E43-47CD-BAC5-C9C7BEF3D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5DFD55-A7E6-4FEC-A2BB-12120B354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350F54-7434-413A-89FC-C117FFE3D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840683-1D2A-4107-84E7-F1F79A204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B1FD01-594B-4CAD-BCDC-67C2693C5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39F658-7563-4739-AF6C-330C9DA19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081726-77D1-4306-954A-DE9D24D13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80919B-B4C2-4EC6-A459-DC208AB7C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37FCD-1795-4B82-87F8-1645337DEA7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Рисунок 6" descr="Слайд8.JPG"/>
          <p:cNvPicPr/>
          <p:nvPr/>
        </p:nvPicPr>
        <p:blipFill>
          <a:blip r:embed="rId2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Рисунок 6" descr="Слайд8.JPG"/>
          <p:cNvPicPr/>
          <p:nvPr/>
        </p:nvPicPr>
        <p:blipFill>
          <a:blip r:embed="rId2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  <p:pic>
        <p:nvPicPr>
          <p:cNvPr id="43" name="Рисунок 7" descr="Слайд1.JPG"/>
          <p:cNvPicPr/>
          <p:nvPr/>
        </p:nvPicPr>
        <p:blipFill>
          <a:blip r:embed="rId3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F37EA-F1ED-408C-B1FF-EEC0CE18186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Рисунок 6" descr="Слайд8.JPG"/>
          <p:cNvPicPr/>
          <p:nvPr/>
        </p:nvPicPr>
        <p:blipFill>
          <a:blip r:embed="rId2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  <p:pic>
        <p:nvPicPr>
          <p:cNvPr id="86" name="Рисунок 7" descr="Слайд3.JPG"/>
          <p:cNvPicPr/>
          <p:nvPr/>
        </p:nvPicPr>
        <p:blipFill>
          <a:blip r:embed="rId3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8C68D-8207-4F79-95CF-348BC2D7F2A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Рисунок 6" descr="Слайд8.JPG"/>
          <p:cNvPicPr/>
          <p:nvPr/>
        </p:nvPicPr>
        <p:blipFill>
          <a:blip r:embed="rId2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  <p:pic>
        <p:nvPicPr>
          <p:cNvPr id="129" name="Рисунок 7" descr="Слайд2.JPG"/>
          <p:cNvPicPr/>
          <p:nvPr/>
        </p:nvPicPr>
        <p:blipFill>
          <a:blip r:embed="rId3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10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11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12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B2921-8EC2-4701-A432-730B6021023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Рисунок 6" descr="Слайд8.JPG"/>
          <p:cNvPicPr/>
          <p:nvPr/>
        </p:nvPicPr>
        <p:blipFill>
          <a:blip r:embed="rId2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  <p:pic>
        <p:nvPicPr>
          <p:cNvPr id="172" name="Рисунок 7" descr="Слайд5.JPG"/>
          <p:cNvPicPr/>
          <p:nvPr/>
        </p:nvPicPr>
        <p:blipFill>
          <a:blip r:embed="rId3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3DD53-2879-4702-8E34-B3F2A04F433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Рисунок 6" descr="Слайд8.JPG"/>
          <p:cNvPicPr/>
          <p:nvPr/>
        </p:nvPicPr>
        <p:blipFill>
          <a:blip r:embed="rId2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  <p:pic>
        <p:nvPicPr>
          <p:cNvPr id="215" name="Рисунок 7" descr="Слайд7.JPG"/>
          <p:cNvPicPr/>
          <p:nvPr/>
        </p:nvPicPr>
        <p:blipFill>
          <a:blip r:embed="rId3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dt" idx="16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ftr" idx="17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sldNum" idx="18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BAFEC-CE7F-4001-83AE-7E15C3E523A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Рисунок 6" descr="Слайд8.JPG"/>
          <p:cNvPicPr/>
          <p:nvPr/>
        </p:nvPicPr>
        <p:blipFill>
          <a:blip r:embed="rId2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  <p:pic>
        <p:nvPicPr>
          <p:cNvPr id="258" name="Рисунок 7" descr="Слайд6.JPG"/>
          <p:cNvPicPr/>
          <p:nvPr/>
        </p:nvPicPr>
        <p:blipFill>
          <a:blip r:embed="rId3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dt" idx="19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ftr" idx="20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 type="sldNum" idx="21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1EEF7-8324-4733-A778-5F66688675A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Рисунок 6" descr="Слайд8.JPG"/>
          <p:cNvPicPr/>
          <p:nvPr/>
        </p:nvPicPr>
        <p:blipFill>
          <a:blip r:embed="rId2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  <p:pic>
        <p:nvPicPr>
          <p:cNvPr id="301" name="Рисунок 7" descr="Слайд4.JPG"/>
          <p:cNvPicPr/>
          <p:nvPr/>
        </p:nvPicPr>
        <p:blipFill>
          <a:blip r:embed="rId3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dt" idx="22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ftr" idx="23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sldNum" idx="24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E5B61-1522-4A6E-A599-C6D0A281CF4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Picture 5" descr=""/>
          <p:cNvPicPr/>
          <p:nvPr/>
        </p:nvPicPr>
        <p:blipFill>
          <a:blip r:embed="rId1"/>
          <a:stretch/>
        </p:blipFill>
        <p:spPr>
          <a:xfrm>
            <a:off x="333360" y="719280"/>
            <a:ext cx="6264360" cy="7273800"/>
          </a:xfrm>
          <a:prstGeom prst="rect">
            <a:avLst/>
          </a:prstGeom>
          <a:ln w="0">
            <a:noFill/>
          </a:ln>
        </p:spPr>
      </p:pic>
      <p:sp>
        <p:nvSpPr>
          <p:cNvPr id="344" name="TextBox 3"/>
          <p:cNvSpPr/>
          <p:nvPr/>
        </p:nvSpPr>
        <p:spPr>
          <a:xfrm>
            <a:off x="549360" y="344520"/>
            <a:ext cx="58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70c0"/>
                </a:solidFill>
                <a:latin typeface="Arial"/>
                <a:ea typeface="Arial"/>
              </a:rPr>
              <a:t>Режим дня</a:t>
            </a:r>
            <a:r>
              <a:rPr b="1" i="1" lang="ru-RU" sz="1800" spc="-1" strike="noStrike">
                <a:solidFill>
                  <a:srgbClr val="2004c6"/>
                </a:solidFill>
                <a:latin typeface="Arial"/>
                <a:ea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Таблица 1" descr=""/>
          <p:cNvPicPr/>
          <p:nvPr/>
        </p:nvPicPr>
        <p:blipFill>
          <a:blip r:embed="rId1"/>
          <a:stretch/>
        </p:blipFill>
        <p:spPr>
          <a:xfrm>
            <a:off x="347760" y="1805040"/>
            <a:ext cx="6181560" cy="4456080"/>
          </a:xfrm>
          <a:prstGeom prst="rect">
            <a:avLst/>
          </a:prstGeom>
          <a:ln w="0">
            <a:noFill/>
          </a:ln>
        </p:spPr>
      </p:pic>
      <p:sp>
        <p:nvSpPr>
          <p:cNvPr id="346" name="TextBox 2"/>
          <p:cNvSpPr/>
          <p:nvPr/>
        </p:nvSpPr>
        <p:spPr>
          <a:xfrm>
            <a:off x="260280" y="611280"/>
            <a:ext cx="626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70c0"/>
                </a:solidFill>
                <a:latin typeface="Arial"/>
                <a:ea typeface="Arial"/>
              </a:rPr>
              <a:t>Расписание  непосредственной образовательной деятель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70c0"/>
                </a:solidFill>
                <a:latin typeface="Arial"/>
                <a:ea typeface="Arial"/>
              </a:rPr>
              <a:t> </a:t>
            </a:r>
            <a:r>
              <a:rPr b="1" i="1" lang="ru-RU" sz="1800" spc="-1" strike="noStrike">
                <a:solidFill>
                  <a:srgbClr val="0070c0"/>
                </a:solidFill>
                <a:latin typeface="Arial"/>
                <a:ea typeface="Arial"/>
              </a:rPr>
              <a:t>на 2017 - 2018 учебный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2-09T14:20:52Z</dcterms:created>
  <dc:creator>DAY</dc:creator>
  <dc:description/>
  <dc:language>en-US</dc:language>
  <cp:lastModifiedBy>Надя</cp:lastModifiedBy>
  <dcterms:modified xsi:type="dcterms:W3CDTF">2017-09-16T05:21:57Z</dcterms:modified>
  <cp:revision>18</cp:revision>
  <dc:subject/>
  <dc:title>Слайд 1</dc:title>
</cp:coreProperties>
</file>