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10C-F9C8-414F-B0BF-FB8D9D21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14E-0B24-438D-8343-E1365C38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623-8EE5-46F0-9DC8-C55B0FC2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885-5487-459B-8E46-B86D573C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769-C0CC-478F-80B8-FFA54F61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D56-8BCC-42EF-BE2C-A2C241D6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5D7-3DEC-4F91-8580-27BFAC29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C33-CB5D-42FB-A3A2-EB94BF41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387-4ADD-457A-9582-B89563A1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839-BECA-403B-94F8-A7AAB05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9F3-CE09-4B67-9666-38FE2C6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4D9-6CC8-49DA-89A6-B3535A05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41E1-153B-4D82-91B9-F2D4D2DFC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ка развития  коммуникативных навыков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ей-инофонов, посещающих ДО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-логопед  Васехина Т.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БДОУ детский сад №41 Московского р-на 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педагогов ДОУ по развитию коммуникативных способностей дошкольников с неродным русским язы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овать речевую активность детей в различных видах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ировать детей к речевым действиям посредством специально организованной игров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развивающую речевую среду (доступную ребенку)  в течение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навыки общения для решения коммуникативных задач разного типа (просьба, описание, обращение и т.д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1828800" y="120816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уальность данной тем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условлена рядом основных  пр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контингента воспитанников с  неродным русским языком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ностями в овладении детьми-инофонами программным материалом как в дошкольном возрасте, так и в дальнейшем, при обучении в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стью успешной интеграции детей-инофонов в среду русскоговорящих ровес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педагогов ДОУ с семьями до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P1020365"/>
          <p:cNvPicPr/>
          <p:nvPr/>
        </p:nvPicPr>
        <p:blipFill>
          <a:blip r:embed="rId1"/>
          <a:stretch/>
        </p:blipFill>
        <p:spPr>
          <a:xfrm>
            <a:off x="4572000" y="1828800"/>
            <a:ext cx="4186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ка уровня владения русским языком детей-инофонов в ДОУ осуществляется по следующим направления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- речевая а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сико-грамматическое оформление высказы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нетическое оформление высказы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а логопедической работы с детьми, овладевающими рус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неродным) языком. Г. В. Чиркина, А.В. Лагутина, 2008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уровней владения русским язык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тьми- инофонами, посещающими массовые групп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БДОУ детский сад №41 в 2014-2015 учебно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380880" y="1752480"/>
          <a:ext cx="828540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28540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о-речевая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Times New Roman"/>
              </a:rPr>
              <a:t>Уровень выш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ребёнок имеет достаточный объём речевого высказывания (по возрасту), хорошо    понимает вопросы, но нуждается в стимулировании речевой ак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Средн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ребёнок использует упрощенные лексико-грамматические структуры, характерно общее понимание вопросов на уровне обиходно-бытов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Уровень ниж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ребёнок отвечает на вопросы по бытовым темам однословными ответами, использует заученные образцы речевого высказ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Низ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у ребёнка несформировано речевое общение на русском языке, возможно активное использование мимики и же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62120" y="4343400"/>
          <a:ext cx="7643520" cy="20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343400"/>
                    <a:ext cx="76435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Лексико-грамматическое оформление высказы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바탕"/>
              </a:rPr>
              <a:t>Средн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отмечаются ошибки лексико-грамматического строя речи, регулярные нарушения в согласовании и управлении; словарный запас ограничен обиходно-бытовой лекс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바탕"/>
              </a:rPr>
              <a:t>Уровень ниж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в речи большое количество грамматических и синтаксических ошибок; навыки грамматической самокоррекции не сформированы; активный словарь ограничен общеупотребляемыми сло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바탕"/>
              </a:rPr>
              <a:t>Низ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речь ребёнка малопонятна для окружающих; широко употребляются слова и выражения родного язы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6"/>
          <p:cNvGraphicFramePr/>
          <p:nvPr/>
        </p:nvGraphicFramePr>
        <p:xfrm>
          <a:off x="463680" y="3938760"/>
          <a:ext cx="821664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938760"/>
                    <a:ext cx="821664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7"/>
          <p:cNvGraphicFramePr/>
          <p:nvPr/>
        </p:nvGraphicFramePr>
        <p:xfrm>
          <a:off x="914400" y="3962520"/>
          <a:ext cx="7629480" cy="20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962520"/>
                    <a:ext cx="762948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Фонетическое оформление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바탕"/>
              </a:rPr>
              <a:t>Уровень выш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произношение ребёнка в целом соответствует нормативам русского языка, но могут встречаться незначительные артикуляционные ошибки, звуки отсутствующие в русском языке, при этом речь может быть недостаточно выразительной и не в полной мере отражать коммуникативные намер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바탕"/>
              </a:rPr>
              <a:t>Средн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наблюдается правильное произношение не всех звуков русского языка, характерны смешения оппозиционных звуков, неустойчивое употребление их в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99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바탕"/>
              </a:rPr>
              <a:t>Уровень ниж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выявляется нарушение звукопроизношения, выражен акцент, затрудняющий восприятие речи, наличие искажений звуко-слоговой структуры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바탕"/>
              </a:rPr>
              <a:t>Низ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не сформировано речевое общение на русском языке, возможно активное использование мимики и же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6"/>
          <p:cNvGraphicFramePr/>
          <p:nvPr/>
        </p:nvGraphicFramePr>
        <p:xfrm>
          <a:off x="944640" y="4267080"/>
          <a:ext cx="7643880" cy="20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4267080"/>
                    <a:ext cx="764388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рганизации работы с дошкольниками с русским неродным языком учитываем следующие 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ый возраст как сензитивный период для овладения речевыми функ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ональность, открытость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приятное окружение в ДО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тая речевая прак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720" y="1600200"/>
            <a:ext cx="30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рганизации работы с дошкольниками с русским неродным языком учитываем следующие 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в семье полного перехода на русский язы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точный уровень владения русским языком со стороны родителей, близкого окру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контроля за речью ребенка до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собственных социокультурных  представлений и традиций в семье воспитан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09-19T13:23:2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