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D2D-D15E-4614-BA4A-D5B2021A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84A-9A65-4F2D-A332-D120B817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B69-62B2-40F8-B494-AC908048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894-787C-45DD-813A-885B4AE6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1D4-32D8-479C-A5C7-1117B8F0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0D6-C11A-4EF3-8BFD-1B434647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3E1-F1CD-4AA2-A4FC-0CBF9E1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BC9-C68A-419E-A453-3B7E0E4A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F76-FBE3-4C54-B00B-9AEEE28A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946-FA6C-4175-BA58-0AA893BA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AA8-8C47-48AB-9DB9-79DA77B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EA4-6C16-4708-975F-63DFD3E5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A43F-FE2D-476C-8E0F-9104EE4B9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ценка развития  коммуникативных навыков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ей-инофонов, посещающих ДО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-логопед  Васехина Т.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БДОУ детский сад №41 Московского р-на 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педагогов ДОУ по развитию коммуникативных способностей дошкольников с неродным русским язы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овать речевую активность детей в различных видах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ировать детей к речевым действиям посредством специально организованной игров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развивающую речевую среду (доступную ребенку)  в течение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навыки общения для решения коммуникативных задач разного типа (просьба, описание, обращение и т.д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1828800" y="120816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уальность данной тем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условлена рядом основных  пр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контингента воспитанников с  неродным русским языком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ностями в овладении детьми-инофонами программным материалом как в дошкольном возрасте, так и в дальнейшем, при обучении в шк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стью успешной интеграции детей-инофонов в среду русскоговорящих ровес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педагогов ДОУ с семьями до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P1020365"/>
          <p:cNvPicPr/>
          <p:nvPr/>
        </p:nvPicPr>
        <p:blipFill>
          <a:blip r:embed="rId1"/>
          <a:stretch/>
        </p:blipFill>
        <p:spPr>
          <a:xfrm>
            <a:off x="4572000" y="1828800"/>
            <a:ext cx="4186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ценка уровня владения русским языком детей-инофонов в ДОУ осуществляется по следующим направления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- речевая а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ксико-грамматическое оформление высказы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нетическое оформление высказы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а логопедической работы с детьми, овладевающими русс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неродным) языком. Г. В. Чиркина, А.В. Лагутина, 2008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уровней владения русским язык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тьми- инофонами, посещающими массовые групп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БДОУ детский сад №41 в 2014-2015 учебно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380880" y="1752480"/>
          <a:ext cx="828540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28540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никативно-речевая а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Times New Roman"/>
              </a:rPr>
              <a:t>Уровень выше средне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ребёнок имеет достаточный объём речевого высказывания (по возрасту), хорошо    понимает вопросы, но нуждается в стимулировании речевой ак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Средн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ребёнок использует упрощенные лексико-грамматические структуры, характерно общее понимание вопросов на уровне обиходно-бытовой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Уровень ниже средне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ребёнок отвечает на вопросы по бытовым темам однословными ответами, использует заученные образцы речевого высказ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Низ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у ребёнка несформировано речевое общение на русском языке, возможно активное использование мимики и же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62120" y="4343400"/>
          <a:ext cx="7643520" cy="20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343400"/>
                    <a:ext cx="76435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Лексико-грамматическое оформление высказы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바탕"/>
              </a:rPr>
              <a:t>Средн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у ребёнка отмечаются ошибки лексико-грамматического строя речи, регулярные нарушения в согласовании и управлении; словарный запас ограничен обиходно-бытовой лекс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0099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바탕"/>
              </a:rPr>
              <a:t>Уровень ниже среднего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у ребёнка в речи большое количество грамматических и синтаксических ошибок; навыки грамматической самокоррекции не сформированы; активный словарь ограничен общеупотребляемыми сло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바탕"/>
              </a:rPr>
              <a:t>Низ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речь ребёнка малопонятна для окружающих; широко употребляются слова и выражения родного язы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6"/>
          <p:cNvGraphicFramePr/>
          <p:nvPr/>
        </p:nvGraphicFramePr>
        <p:xfrm>
          <a:off x="463680" y="3938760"/>
          <a:ext cx="821664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938760"/>
                    <a:ext cx="821664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7"/>
          <p:cNvGraphicFramePr/>
          <p:nvPr/>
        </p:nvGraphicFramePr>
        <p:xfrm>
          <a:off x="914400" y="3962520"/>
          <a:ext cx="7629480" cy="20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962520"/>
                    <a:ext cx="762948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Фонетическое оформление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바탕"/>
              </a:rPr>
              <a:t>Уровень выше среднего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произношение ребёнка в целом соответствует нормативам русского языка, но могут встречаться незначительные артикуляционные ошибки, звуки отсутствующие в русском языке, при этом речь может быть недостаточно выразительной и не в полной мере отражать коммуникативные намер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바탕"/>
              </a:rPr>
              <a:t>Средн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у ребёнка наблюдается правильное произношение не всех звуков русского языка, характерны смешения оппозиционных звуков, неустойчивое употребление их в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99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바탕"/>
              </a:rPr>
              <a:t>Уровень ниже среднего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у ребёнка выявляется нарушение звукопроизношения, выражен акцент, затрудняющий восприятие речи, наличие искажений звуко-слоговой структуры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바탕"/>
              </a:rPr>
              <a:t>Низ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바탕"/>
              </a:rPr>
              <a:t>: у ребёнка не сформировано речевое общение на русском языке, возможно активное использование мимики и же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6"/>
          <p:cNvGraphicFramePr/>
          <p:nvPr/>
        </p:nvGraphicFramePr>
        <p:xfrm>
          <a:off x="944640" y="4267080"/>
          <a:ext cx="7643880" cy="20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4267080"/>
                    <a:ext cx="764388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рганизации работы с дошкольниками с русским неродным языком учитываем следующие 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ый возраст как сензитивный период для овладения речевыми функ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ональность, открытость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приятное окружение в ДО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тая речевая прак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720" y="1600200"/>
            <a:ext cx="30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рганизации работы с дошкольниками с русским неродным языком учитываем следующие 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в семье полного перехода на русский язы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точный уровень владения русским языком со стороны родителей, близкого окру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контроля за речью ребенка до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собственных социокультурных  представлений и традиций в семье воспитан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09-19T13:23:22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