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F2DD-0604-43A1-9F60-D3F67761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B6C6-AFEB-47A1-9234-5EAD63DF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7529-F682-4140-A292-CE47B225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7D86-27E7-418A-BA58-C463FD59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A421-9DFD-4D23-B8FB-0430F1C9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4229-B129-4BE5-BBCB-4C21DE60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338F-6B4E-4533-870D-B8458B5D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992B-0A74-44FC-8AC2-187F6A27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6C38-520D-40F1-9E68-44EA8747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BF10-2F2D-4C3B-A8F0-F137F41A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7362-9E26-4CF4-B41F-7A9C5A60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B88D-5878-4CF6-8A4F-C821DD15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29BA-3ABC-4C4B-8934-8478973F5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" descr="Как нарисовать тетрадь в косую линейку Учитесь рисовать"/>
            <p:cNvPicPr/>
            <p:nvPr/>
          </p:nvPicPr>
          <p:blipFill>
            <a:blip r:embed="rId1"/>
            <a:srcRect l="4820" t="3813" r="3349" b="49917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133440" y="404640"/>
              <a:ext cx="249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Диктант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20" y="1268280"/>
              <a:ext cx="782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У Машы жыл рыжый кот васька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80" y="2133720"/>
              <a:ext cx="618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У него пушыстый хвост,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80" y="3068640"/>
              <a:ext cx="291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кий жывот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228360" y="2133720"/>
              <a:ext cx="1957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белень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" name="" descr="Как нарисовать тетрадь в косую линейку Учитесь рисовать"/>
            <p:cNvPicPr/>
            <p:nvPr/>
          </p:nvPicPr>
          <p:blipFill>
            <a:blip r:embed="rId1"/>
            <a:srcRect l="4820" t="3813" r="3349" b="49917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133440" y="404640"/>
              <a:ext cx="249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Диктант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42520" y="1268280"/>
              <a:ext cx="782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У Машы жыл рыжый кот васька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80" y="2133720"/>
              <a:ext cx="618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У него пушыстый хвост,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80" y="3068640"/>
              <a:ext cx="291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кий жывот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28360" y="2133720"/>
              <a:ext cx="1957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белень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126160" y="836640"/>
            <a:ext cx="435240" cy="1079640"/>
            <a:chOff x="2126160" y="836640"/>
            <a:chExt cx="435240" cy="1079640"/>
          </a:xfrm>
        </p:grpSpPr>
        <p:sp>
          <p:nvSpPr>
            <p:cNvPr id="56" name=""/>
            <p:cNvSpPr/>
            <p:nvPr/>
          </p:nvSpPr>
          <p:spPr>
            <a:xfrm>
              <a:off x="2195640" y="1413000"/>
              <a:ext cx="28872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26160" y="8366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989800" y="836640"/>
            <a:ext cx="435240" cy="1079640"/>
            <a:chOff x="2989800" y="836640"/>
            <a:chExt cx="435240" cy="1079640"/>
          </a:xfrm>
        </p:grpSpPr>
        <p:sp>
          <p:nvSpPr>
            <p:cNvPr id="59" name=""/>
            <p:cNvSpPr/>
            <p:nvPr/>
          </p:nvSpPr>
          <p:spPr>
            <a:xfrm>
              <a:off x="3059280" y="1413000"/>
              <a:ext cx="28872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89800" y="8366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790160" y="836640"/>
            <a:ext cx="435240" cy="1079640"/>
            <a:chOff x="4790160" y="836640"/>
            <a:chExt cx="435240" cy="1079640"/>
          </a:xfrm>
        </p:grpSpPr>
        <p:sp>
          <p:nvSpPr>
            <p:cNvPr id="62" name=""/>
            <p:cNvSpPr/>
            <p:nvPr/>
          </p:nvSpPr>
          <p:spPr>
            <a:xfrm>
              <a:off x="4859280" y="1413000"/>
              <a:ext cx="28836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90160" y="8366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592320" y="885960"/>
            <a:ext cx="455040" cy="1030320"/>
            <a:chOff x="6592320" y="885960"/>
            <a:chExt cx="455040" cy="1030320"/>
          </a:xfrm>
        </p:grpSpPr>
        <p:sp>
          <p:nvSpPr>
            <p:cNvPr id="65" name=""/>
            <p:cNvSpPr/>
            <p:nvPr/>
          </p:nvSpPr>
          <p:spPr>
            <a:xfrm>
              <a:off x="6659640" y="1413000"/>
              <a:ext cx="28872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92320" y="8859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f0000"/>
                  </a:solidFill>
                  <a:latin typeface="Edwardian Script ITC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629440" y="1700280"/>
            <a:ext cx="435240" cy="1078920"/>
            <a:chOff x="2629440" y="1700280"/>
            <a:chExt cx="435240" cy="1078920"/>
          </a:xfrm>
        </p:grpSpPr>
        <p:sp>
          <p:nvSpPr>
            <p:cNvPr id="68" name=""/>
            <p:cNvSpPr/>
            <p:nvPr/>
          </p:nvSpPr>
          <p:spPr>
            <a:xfrm>
              <a:off x="2698920" y="2276280"/>
              <a:ext cx="288720" cy="502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29440" y="17002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334160" y="2637000"/>
            <a:ext cx="435240" cy="1078920"/>
            <a:chOff x="1334160" y="2637000"/>
            <a:chExt cx="435240" cy="1078920"/>
          </a:xfrm>
        </p:grpSpPr>
        <p:sp>
          <p:nvSpPr>
            <p:cNvPr id="71" name=""/>
            <p:cNvSpPr/>
            <p:nvPr/>
          </p:nvSpPr>
          <p:spPr>
            <a:xfrm>
              <a:off x="1403280" y="3213000"/>
              <a:ext cx="288360" cy="502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34160" y="26370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6T19:32:32Z</dcterms:created>
  <dc:creator>www.PHILka.RU</dc:creator>
  <dc:description/>
  <dc:language>en-US</dc:language>
  <cp:lastModifiedBy>www.PHILka.RU</cp:lastModifiedBy>
  <dcterms:modified xsi:type="dcterms:W3CDTF">2014-10-16T19:41:49Z</dcterms:modified>
  <cp:revision>2</cp:revision>
  <dc:subject/>
  <dc:title>Слайд 1</dc:title>
</cp:coreProperties>
</file>