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7F4-787D-4981-841C-442DF38D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4B6-ADC5-4AE9-B3D0-EE62DD35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BCC-4321-46E6-AD4B-825909CD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959-339C-4EDE-AB0B-4C3A63A7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294-3DBF-443E-9E2E-3BA781F4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EFA-4CF5-4743-AB65-D929BCDF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45D-BECD-4B70-82A6-612ED1F8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6CF-DF7F-46F3-B0FC-C15702DE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085-3229-406F-9ACB-C5CAE9BC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946-AF0F-4DCE-81F2-AE753C2F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D7E-E1F5-44E9-8791-207DBEA6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FFB-26F0-4A94-9C70-5231381B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57E1-BABA-41B6-AC15-DC996AA6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Как нарисовать тетрадь в косую линейку Учитесь рисовать"/>
            <p:cNvPicPr/>
            <p:nvPr/>
          </p:nvPicPr>
          <p:blipFill>
            <a:blip r:embed="rId1"/>
            <a:srcRect l="4820" t="3813" r="3349" b="49917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133440" y="404640"/>
              <a:ext cx="249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Диктант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20" y="1268280"/>
              <a:ext cx="782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У Машы жыл рыжый кот васьк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80" y="2133720"/>
              <a:ext cx="618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У него пушыстый хвост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80" y="3068640"/>
              <a:ext cx="291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кий жывот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8360" y="2133720"/>
              <a:ext cx="195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белень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" descr="Как нарисовать тетрадь в косую линейку Учитесь рисовать"/>
            <p:cNvPicPr/>
            <p:nvPr/>
          </p:nvPicPr>
          <p:blipFill>
            <a:blip r:embed="rId1"/>
            <a:srcRect l="4820" t="3813" r="3349" b="49917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133440" y="404640"/>
              <a:ext cx="249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Диктант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2520" y="1268280"/>
              <a:ext cx="782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У Машы жыл рыжый кот васьк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80" y="2133720"/>
              <a:ext cx="618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У него пушыстый хвост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80" y="3068640"/>
              <a:ext cx="291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кий жывот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28360" y="2133720"/>
              <a:ext cx="195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белень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126160" y="836640"/>
            <a:ext cx="435240" cy="1079640"/>
            <a:chOff x="2126160" y="836640"/>
            <a:chExt cx="435240" cy="1079640"/>
          </a:xfrm>
        </p:grpSpPr>
        <p:sp>
          <p:nvSpPr>
            <p:cNvPr id="56" name=""/>
            <p:cNvSpPr/>
            <p:nvPr/>
          </p:nvSpPr>
          <p:spPr>
            <a:xfrm>
              <a:off x="2195640" y="1413000"/>
              <a:ext cx="28872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6160" y="836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989800" y="836640"/>
            <a:ext cx="435240" cy="1079640"/>
            <a:chOff x="2989800" y="836640"/>
            <a:chExt cx="435240" cy="1079640"/>
          </a:xfrm>
        </p:grpSpPr>
        <p:sp>
          <p:nvSpPr>
            <p:cNvPr id="59" name=""/>
            <p:cNvSpPr/>
            <p:nvPr/>
          </p:nvSpPr>
          <p:spPr>
            <a:xfrm>
              <a:off x="3059280" y="1413000"/>
              <a:ext cx="28872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89800" y="836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90160" y="836640"/>
            <a:ext cx="435240" cy="1079640"/>
            <a:chOff x="4790160" y="836640"/>
            <a:chExt cx="435240" cy="1079640"/>
          </a:xfrm>
        </p:grpSpPr>
        <p:sp>
          <p:nvSpPr>
            <p:cNvPr id="62" name=""/>
            <p:cNvSpPr/>
            <p:nvPr/>
          </p:nvSpPr>
          <p:spPr>
            <a:xfrm>
              <a:off x="4859280" y="1413000"/>
              <a:ext cx="28836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90160" y="836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592320" y="885960"/>
            <a:ext cx="455040" cy="1030320"/>
            <a:chOff x="6592320" y="885960"/>
            <a:chExt cx="455040" cy="1030320"/>
          </a:xfrm>
        </p:grpSpPr>
        <p:sp>
          <p:nvSpPr>
            <p:cNvPr id="65" name=""/>
            <p:cNvSpPr/>
            <p:nvPr/>
          </p:nvSpPr>
          <p:spPr>
            <a:xfrm>
              <a:off x="6659640" y="1413000"/>
              <a:ext cx="28872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92320" y="8859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Edwardian Script ITC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629440" y="1700280"/>
            <a:ext cx="435240" cy="1078920"/>
            <a:chOff x="2629440" y="1700280"/>
            <a:chExt cx="435240" cy="1078920"/>
          </a:xfrm>
        </p:grpSpPr>
        <p:sp>
          <p:nvSpPr>
            <p:cNvPr id="68" name=""/>
            <p:cNvSpPr/>
            <p:nvPr/>
          </p:nvSpPr>
          <p:spPr>
            <a:xfrm>
              <a:off x="2698920" y="2276280"/>
              <a:ext cx="288720" cy="502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29440" y="1700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334160" y="2637000"/>
            <a:ext cx="435240" cy="1078920"/>
            <a:chOff x="1334160" y="2637000"/>
            <a:chExt cx="435240" cy="1078920"/>
          </a:xfrm>
        </p:grpSpPr>
        <p:sp>
          <p:nvSpPr>
            <p:cNvPr id="71" name=""/>
            <p:cNvSpPr/>
            <p:nvPr/>
          </p:nvSpPr>
          <p:spPr>
            <a:xfrm>
              <a:off x="1403280" y="3213000"/>
              <a:ext cx="288360" cy="502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34160" y="2637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6T19:32:32Z</dcterms:created>
  <dc:creator>www.PHILka.RU</dc:creator>
  <dc:description/>
  <dc:language>en-US</dc:language>
  <cp:lastModifiedBy>www.PHILka.RU</cp:lastModifiedBy>
  <dcterms:modified xsi:type="dcterms:W3CDTF">2014-10-16T19:41:49Z</dcterms:modified>
  <cp:revision>2</cp:revision>
  <dc:subject/>
  <dc:title>Слайд 1</dc:title>
</cp:coreProperties>
</file>