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9C4-454D-48EB-9AD7-1AE62B39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03A-12BD-41BB-A4E4-8261765C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342-9DB2-40B4-A2A6-B9BBFDE7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C61-0BBD-4C52-9CFE-4142E47E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D95-42D6-4A09-8FCB-9871FC7B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8C7-3E7E-43B7-B4C4-0B6198E1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8F1-AA60-42C4-8B0D-0C413994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1EA-CDC1-4B01-8047-840EEB61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6B7-4F58-4A6D-A702-AC93AEE9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C98-0DB0-4960-A2DB-3B18759E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753-9A98-45EE-98AE-8C832BD5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DE0-4CBF-4962-9496-337F299A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0BFA-5BA0-4076-A994-93F351689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6290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Илья Иванович Машков «Фрукты на блюде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22480" y="6307920"/>
            <a:ext cx="60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Илья Ефимович Репин «Яблоки и листья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26920" y="2349360"/>
            <a:ext cx="7704360" cy="15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ПОЗИ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55736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Круглое, румяно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Я расту на вет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Любят меня взросл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И маленькие дет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76360" y="177336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Фрукт похож на неваляш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Носит желтую рубаш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Тишину в саду наруши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С дерева упала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3640" y="2060640"/>
            <a:ext cx="59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Желтый цитрусовый п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 странах солнечных рас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А на вкус кислейший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ак зовут е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8000" y="198900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Этот фрукт в рубашке я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Любит, чтобы было жар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 растет среди ос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руглый рыжий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92360" y="1844640"/>
            <a:ext cx="59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Знают этот фрукт дети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Любят есть его марты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Родом он из жар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ысоко растет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63640" y="1700280"/>
            <a:ext cx="63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адорвали край рубашк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низ посыпались стекля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 собрать их все наз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Что за плод тако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35280" y="1916280"/>
            <a:ext cx="62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у а это угада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чень даже просто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Апельсин, ни дать, ни взять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Только меньше рос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1989000"/>
            <a:ext cx="619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Близнецы на тонкой ветк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се лозы родные детки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Гостю каждый в доме рад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Это сладкий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8:47:13Z</dcterms:created>
  <dc:creator>www.PHILka.RU</dc:creator>
  <dc:description/>
  <dc:language>en-US</dc:language>
  <cp:lastModifiedBy>www.PHILka.RU</cp:lastModifiedBy>
  <dcterms:modified xsi:type="dcterms:W3CDTF">2014-06-24T19:34:47Z</dcterms:modified>
  <cp:revision>4</cp:revision>
  <dc:subject/>
  <dc:title>Слайд 1</dc:title>
</cp:coreProperties>
</file>