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0A5-559F-4DCE-81C6-AD219196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529-ADD8-4669-A48C-7B949A1A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807-AA24-4A63-B198-0D6B7C81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260-FEEE-40D5-B76A-4B5029F0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BEC-362E-4D94-BDB1-0A244F5F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591-72FF-4125-BFB1-06DDC96D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523-3E2B-4AA8-BBF6-52C47982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3B4-0E4C-4B09-8771-69B64577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A49-A671-4F6C-9492-302DFAC2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F6C-9A98-44CD-8180-2A29F5B3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592-E7A3-4547-A875-B983C8C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01E-79D2-4D50-8492-41EA72DF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A860-1231-4E6A-AC8B-12D2DC1F8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40000" y="6290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Илья Иванович Машков «Фрукты на блюде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22480" y="6307920"/>
            <a:ext cx="60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Илья Ефимович Репин «Яблоки и листья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26920" y="2349360"/>
            <a:ext cx="7704360" cy="15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ПОЗИЦ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155736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Круглое, румяно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Я расту на вет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Любят меня взросл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И маленькие дет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76360" y="177336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Фрукт похож на неваляшк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Носит желтую рубаш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Тишину в саду наруши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С дерева упала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63640" y="2060640"/>
            <a:ext cx="59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Желтый цитрусовый пл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 странах солнечных рас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А на вкус кислейший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Как зовут е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8000" y="198900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Этот фрукт в рубашке яр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Любит, чтобы было жар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е растет среди ос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Круглый рыжий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92360" y="1844640"/>
            <a:ext cx="59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Знают этот фрукт дети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Любят есть его марты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Родом он из жарк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ысоко растет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63640" y="1700280"/>
            <a:ext cx="633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адорвали край рубашк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низ посыпались стекля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е собрать их все наз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Что за плод тако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35280" y="1916280"/>
            <a:ext cx="62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у а это угадат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чень даже просто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Апельсин, ни дать, ни взять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Только меньше рост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5280" y="1989000"/>
            <a:ext cx="619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Близнецы на тонкой ветк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се лозы родные детки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Гостю каждый в доме рад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Это сладкий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18:47:13Z</dcterms:created>
  <dc:creator>www.PHILka.RU</dc:creator>
  <dc:description/>
  <dc:language>en-US</dc:language>
  <cp:lastModifiedBy>www.PHILka.RU</cp:lastModifiedBy>
  <dcterms:modified xsi:type="dcterms:W3CDTF">2014-06-24T19:34:47Z</dcterms:modified>
  <cp:revision>4</cp:revision>
  <dc:subject/>
  <dc:title>Слайд 1</dc:title>
</cp:coreProperties>
</file>