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B7F-B74A-44C5-B59D-83BF584B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BBC-999D-450D-914D-38A4E0D3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5BA-40C3-47DB-A5FF-0916A455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759-0CD4-4538-A890-71CBEE97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FDE-D306-4924-AB27-0C90CF9B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713-27B4-408D-81B9-A6BBCB90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FCE-5196-4D0F-B343-C7FDC084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E1D-88D4-46A1-843D-FBAE51F4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FF2-C3B1-4E9E-A73B-D77332FB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393-0A9F-4F13-84C8-9C5A6C99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D6B-3DBD-4426-BAA6-F25EC7FD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DBC-8EF6-4751-B355-F2843420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CA0C-766A-440F-B0A3-FB2914C40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8000" y="-25560"/>
            <a:ext cx="50389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3175" t="0" r="4116" b="0"/>
          <a:stretch/>
        </p:blipFill>
        <p:spPr>
          <a:xfrm>
            <a:off x="4067280" y="1550880"/>
            <a:ext cx="4825800" cy="4667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17725" t="0" r="12858" b="0"/>
          <a:stretch/>
        </p:blipFill>
        <p:spPr>
          <a:xfrm>
            <a:off x="179280" y="260280"/>
            <a:ext cx="37450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27332" t="0" r="19748" b="0"/>
          <a:stretch/>
        </p:blipFill>
        <p:spPr>
          <a:xfrm>
            <a:off x="4965840" y="1773360"/>
            <a:ext cx="3709800" cy="4673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2338" t="0" r="10263" b="0"/>
          <a:stretch/>
        </p:blipFill>
        <p:spPr>
          <a:xfrm>
            <a:off x="468360" y="476280"/>
            <a:ext cx="396072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31508" t="1381" r="12846" b="2725"/>
          <a:stretch/>
        </p:blipFill>
        <p:spPr>
          <a:xfrm>
            <a:off x="4643280" y="1268280"/>
            <a:ext cx="3816360" cy="496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54312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4176720" cy="417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2492280"/>
            <a:ext cx="39988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897280" cy="4232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86576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3821040" cy="4897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6673" r="13930" b="13346"/>
          <a:stretch/>
        </p:blipFill>
        <p:spPr>
          <a:xfrm>
            <a:off x="4876920" y="476280"/>
            <a:ext cx="36748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7T20:14:21Z</dcterms:created>
  <dc:creator>www.PHILka.RU</dc:creator>
  <dc:description/>
  <dc:language>en-US</dc:language>
  <cp:lastModifiedBy>www.PHILka.RU</cp:lastModifiedBy>
  <dcterms:modified xsi:type="dcterms:W3CDTF">2014-06-17T21:31:39Z</dcterms:modified>
  <cp:revision>3</cp:revision>
  <dc:subject/>
  <dc:title>Слайд 1</dc:title>
</cp:coreProperties>
</file>