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EE4-4CF9-45F2-A579-DFCA6DD7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856-DEFC-44F5-BDFD-9E9B1F71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559-B725-4370-B50A-E88A99AA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CAF-4972-47B3-9444-8FBB04D3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6CFB-5B76-41D4-8E29-ADC66431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AAD6-C905-4EAA-8F11-D82ACDAA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52F4-BD7E-4AC3-89D6-FBC5C9FC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53F5-508C-4D9D-B827-2DB94E5B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C26D-B293-4B25-A08F-FD6712B1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823D-1DCB-4DB9-B354-CC584647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F97F-1214-4269-B8BA-D427D63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579-16BC-4D4C-8F8F-89F20D84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8EAF-0C33-479C-A848-56DC8FE1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416B-B75E-4159-A050-0CBF04A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1EF8-4AD6-4A19-8575-EC72F27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4BE-0C27-4C55-B4C6-345EB937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A958-B072-47C3-9DAF-CF63C6D3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C0F-8B17-46F6-870A-FFB92116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697-392C-4F81-9ABB-C0EF057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B3F-4B26-441B-81EE-2192A72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3C9-E163-4A82-8106-79081B01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0F1-72C7-4EF3-9733-EA1F229C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9B7-0571-48DB-9D6C-77A3F18B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63D-18C1-4F80-A727-0733453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E0E3-2598-4074-9429-E367281342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4A1-EDB1-45EC-BD92-740F995D552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3D29"/>
          <p:cNvPicPr/>
          <p:nvPr/>
        </p:nvPicPr>
        <p:blipFill>
          <a:blip r:embed="rId1"/>
          <a:stretch/>
        </p:blipFill>
        <p:spPr>
          <a:xfrm>
            <a:off x="249120" y="549360"/>
            <a:ext cx="2305080" cy="2303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 rot="328200">
            <a:off x="4232880" y="45252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e0000"/>
                </a:solidFill>
                <a:latin typeface="Times New Roman"/>
              </a:rPr>
              <a:t>Журна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2" descr="2275.jpg"/>
          <p:cNvPicPr/>
          <p:nvPr/>
        </p:nvPicPr>
        <p:blipFill>
          <a:blip r:embed="rId2">
            <a:lum bright="20000"/>
          </a:blip>
          <a:srcRect l="7292" t="29041" r="7292" b="12275"/>
          <a:stretch/>
        </p:blipFill>
        <p:spPr>
          <a:xfrm rot="322200">
            <a:off x="4304880" y="1472760"/>
            <a:ext cx="3503520" cy="52326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3"/>
          <a:stretch/>
        </p:blipFill>
        <p:spPr>
          <a:xfrm>
            <a:off x="3809880" y="2146320"/>
            <a:ext cx="4041720" cy="4194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468360" y="3789360"/>
            <a:ext cx="3456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20000"/>
                </a:solidFill>
                <a:latin typeface="Times New Roman"/>
              </a:rPr>
              <a:t>«Тепловые явлени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12000" y="28526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мороженое растает быстре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ходится под шубой, потому что шуба гре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же под вентилято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сти дома эксперимент и сделать выв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место мороженого можно взять кусок ль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1225440" y="500040"/>
            <a:ext cx="66801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2" descr=""/>
          <p:cNvPicPr/>
          <p:nvPr/>
        </p:nvPicPr>
        <p:blipFill>
          <a:blip r:embed="rId1"/>
          <a:stretch/>
        </p:blipFill>
        <p:spPr>
          <a:xfrm>
            <a:off x="1609560" y="2773440"/>
            <a:ext cx="5950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116000" y="1773360"/>
          <a:ext cx="7628040" cy="4184640"/>
        </p:xfrm>
        <a:graphic>
          <a:graphicData uri="http://schemas.openxmlformats.org/drawingml/2006/table">
            <a:tbl>
              <a:tblPr/>
              <a:tblGrid>
                <a:gridCol w="1440000"/>
                <a:gridCol w="1295280"/>
                <a:gridCol w="4892760"/>
              </a:tblGrid>
              <a:tr h="771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ΔU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Δ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4356000" y="1844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ьте формулы из этих физических велич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Прямоугольник 5" descr=""/>
          <p:cNvPicPr/>
          <p:nvPr/>
        </p:nvPicPr>
        <p:blipFill>
          <a:blip r:embed="rId1"/>
          <a:stretch/>
        </p:blipFill>
        <p:spPr>
          <a:xfrm>
            <a:off x="1938240" y="353880"/>
            <a:ext cx="536436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"/>
          <p:cNvPicPr/>
          <p:nvPr/>
        </p:nvPicPr>
        <p:blipFill>
          <a:blip r:embed="rId2"/>
          <a:stretch/>
        </p:blipFill>
        <p:spPr>
          <a:xfrm>
            <a:off x="4511520" y="2637000"/>
            <a:ext cx="4008600" cy="3605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ачественные задачи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ки-истор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авние времена жилище бурят была войлочная юрта со сборным деревянным каркасом. Вход в юрту закрывается кошмой, а на верху отверст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прос 1. Почему юрта изготавливалась из войлока, а не из другого материал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прос 2. Для чего в верхней части юрты располагается отверсти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-41328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ки-биолог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«Два человека живут в разных природных зонах: один на севере, другой в пустыне – и оба тепло одеты: в ватные пальто или халаты. Почему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«Почему птицы в холодную погоду сидят нахохлившис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Лохматая шубка позволяет шмелям собирать нектар и пыльцу даже в Заполярье. Под такой одежкой тело шмеля при усиленной работе мышц нагревается до 40 0С. И чем севернее живет шмель, тем он крупнее и лохматее. В тропиках шмелей нет – перегреваю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ему шубка спасает шмелей от замерзани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-41328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ки-географ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гузинская долина находится на севере Бурятии в условиях резко-континентального климата. Осадков на севере долины мало, а в южной части долины обильные. Какими физическими явлениями это можно объяснит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3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5522760" y="208080"/>
            <a:ext cx="3737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4389480" cy="29242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2"/>
          <a:stretch/>
        </p:blipFill>
        <p:spPr>
          <a:xfrm>
            <a:off x="0" y="2681280"/>
            <a:ext cx="3774960" cy="417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6472080" y="1413000"/>
            <a:ext cx="2671920" cy="2685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4"/>
          <a:stretch/>
        </p:blipFill>
        <p:spPr>
          <a:xfrm>
            <a:off x="6702480" y="4005360"/>
            <a:ext cx="2441520" cy="2844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5"/>
          <a:stretch/>
        </p:blipFill>
        <p:spPr>
          <a:xfrm>
            <a:off x="4389480" y="3860640"/>
            <a:ext cx="2270160" cy="30258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" descr=""/>
          <p:cNvPicPr/>
          <p:nvPr/>
        </p:nvPicPr>
        <p:blipFill>
          <a:blip r:embed="rId6"/>
          <a:stretch/>
        </p:blipFill>
        <p:spPr>
          <a:xfrm>
            <a:off x="4657680" y="426960"/>
            <a:ext cx="37371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Условие расчетных задач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62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е массу воздуха в юрте объемом 57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лотность воздуха принять равной 1 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е количество теплоты, которое потребуется на нагревание воздуха в юрте от -2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о +2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 Удельная теплоёмкость воздуха 1000 Дж/кг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667040" cy="43624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146320" y="500040"/>
            <a:ext cx="4857840" cy="15177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3"/>
          <a:stretch/>
        </p:blipFill>
        <p:spPr>
          <a:xfrm>
            <a:off x="3828960" y="1743120"/>
            <a:ext cx="480852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Экспериментальные 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619280" y="2060640"/>
            <a:ext cx="576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гибание и сгибание медной проволо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ние монеты о брус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дары молотком по железному предмет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Прямоугольник 3" descr=""/>
          <p:cNvPicPr/>
          <p:nvPr/>
        </p:nvPicPr>
        <p:blipFill>
          <a:blip r:embed="rId1"/>
          <a:stretch/>
        </p:blipFill>
        <p:spPr>
          <a:xfrm>
            <a:off x="1798560" y="208080"/>
            <a:ext cx="58341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ление формул (4 бал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али качественные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четные задачи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минутка (1 бал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яли эксперименты (4 бал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ерий оцено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-14 – «5», 13-11 – «4», 10-8 – «3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1328760" y="500040"/>
            <a:ext cx="6364440" cy="1517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2" descr="2275.jpg"/>
          <p:cNvPicPr/>
          <p:nvPr/>
        </p:nvPicPr>
        <p:blipFill>
          <a:blip r:embed="rId1">
            <a:lum bright="20000"/>
          </a:blip>
          <a:srcRect l="7292" t="29041" r="7292" b="12275"/>
          <a:stretch/>
        </p:blipFill>
        <p:spPr>
          <a:xfrm rot="322200">
            <a:off x="2670120" y="677520"/>
            <a:ext cx="3503520" cy="5688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1779480"/>
            <a:ext cx="4042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6:05:53Z</dcterms:created>
  <dc:creator>КомStar Service</dc:creator>
  <dc:description/>
  <dc:language>en-US</dc:language>
  <cp:lastModifiedBy>комп</cp:lastModifiedBy>
  <dcterms:modified xsi:type="dcterms:W3CDTF">2014-10-03T01:12:47Z</dcterms:modified>
  <cp:revision>50</cp:revision>
  <dc:subject/>
  <dc:title>Урок - телеревю</dc:title>
</cp:coreProperties>
</file>