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1D637-3187-4372-BC10-35915D0BB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528DB-9A00-4337-B278-2756E10F5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37C7E-8262-4B72-9B3E-6652D720E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D38CD-3601-4CE8-BB4A-5024834A4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DB2DA-2EE6-4D6F-B8D8-E907BFCA0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FDCC2-9958-48DE-B2E0-A67099ADD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C8183-41E6-4E92-8A50-3B804515A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A8E48-41C3-474C-A972-BE7E7F787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32634-FE66-4111-8198-E0CDBD891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C1C04-B0CB-4833-8088-4F5A09CBE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DC2D3-F6CE-4858-8440-3AC0F5340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ADDC5-D66D-449F-B73B-834E96E73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5000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EAF5A-7332-411C-9321-9C18CBA8D2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5000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771640" y="1052640"/>
            <a:ext cx="3570480" cy="50403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340000" y="476280"/>
            <a:ext cx="452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асилий Дмитриевич Полен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5000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11640" y="476280"/>
            <a:ext cx="381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рхип Иванович Куиндж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484360" y="1052640"/>
            <a:ext cx="3797280" cy="50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5000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916360" y="1125360"/>
            <a:ext cx="3483000" cy="50482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050200" y="476280"/>
            <a:ext cx="554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митрий Наркисович Мамин-Сибиря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5000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187280" y="476280"/>
            <a:ext cx="7237440" cy="57229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 txBox="1"/>
          <p:nvPr/>
        </p:nvSpPr>
        <p:spPr>
          <a:xfrm rot="738600">
            <a:off x="4749480" y="4890600"/>
            <a:ext cx="346860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Серая шей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5000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495240" y="5734080"/>
            <a:ext cx="274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улик-песочн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116000" y="692280"/>
            <a:ext cx="7416720" cy="49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5000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279600" y="5950080"/>
            <a:ext cx="294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улик-плавунч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195640" y="404640"/>
            <a:ext cx="5119560" cy="546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5000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4430880" y="5734080"/>
            <a:ext cx="212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Чернозоб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116000" y="765000"/>
            <a:ext cx="7272360" cy="493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5000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708360" y="5805360"/>
            <a:ext cx="155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Черны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258920" y="404640"/>
            <a:ext cx="6985080" cy="523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5000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141800" y="5373720"/>
            <a:ext cx="112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уй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042920" y="549360"/>
            <a:ext cx="7274160" cy="462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9-23T23:50:43Z</dcterms:created>
  <dc:creator>www.PHILka.RU</dc:creator>
  <dc:description/>
  <dc:language>en-US</dc:language>
  <cp:lastModifiedBy>www.PHILka.RU</cp:lastModifiedBy>
  <dcterms:modified xsi:type="dcterms:W3CDTF">2014-09-23T23:56:21Z</dcterms:modified>
  <cp:revision>2</cp:revision>
  <dc:subject/>
  <dc:title>Слайд 1</dc:title>
</cp:coreProperties>
</file>