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141-AD83-4AF7-83A8-5111300C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925-605B-4E32-9719-02943E31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2F5-5C02-4C5D-9EAF-A1AFC6F3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CEA-B245-4928-A535-3EEB49C4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FCD-8A68-4CB0-A7EB-CACAB0B5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C27-6698-4A0D-9247-BAE22B7B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D7C-686D-4775-8854-4BCD236E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731-5E94-43C0-9E0A-A8BEB7DB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6EA-8CA2-4571-B922-FC7BCD79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2D4-4670-41C3-8E70-5B6DC611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08F-789C-4800-B26B-D09478DD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256-F879-4186-A1AC-B93BD3E1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5AA1-F15E-4E9D-9E4A-466B0667F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570480" cy="504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40000" y="476280"/>
            <a:ext cx="45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силий Дмитриевич По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640" y="47628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хип Иванович Куин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379728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483000" cy="504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0200" y="47628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й Наркисович Мамин-Сибир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7237440" cy="572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738600">
            <a:off x="4749480" y="4890600"/>
            <a:ext cx="3468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рая ше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95240" y="573408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ик-песо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416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9600" y="59500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ик-плаву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511956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30880" y="573408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озо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27236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08360" y="5805360"/>
            <a:ext cx="15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98508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141800" y="537372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у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741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3T23:50:43Z</dcterms:created>
  <dc:creator>www.PHILka.RU</dc:creator>
  <dc:description/>
  <dc:language>en-US</dc:language>
  <cp:lastModifiedBy>www.PHILka.RU</cp:lastModifiedBy>
  <dcterms:modified xsi:type="dcterms:W3CDTF">2014-09-23T23:56:21Z</dcterms:modified>
  <cp:revision>2</cp:revision>
  <dc:subject/>
  <dc:title>Слайд 1</dc:title>
</cp:coreProperties>
</file>