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7B7-4C9D-4233-A4B0-AD513F09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24F-EEFC-42DD-8EA2-128545B0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760-596F-4DF7-B839-36763C9A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5FA-67AE-4CE2-B59A-98BB5627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4BE-30A7-4627-BB95-8FB81936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666-8112-46FB-B41D-9AA2760A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F29-096F-4B21-8CB0-ED138384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FDC-11E3-4755-830E-96F17B9D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98B-6991-46BC-B68B-4E2785DA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DF8-DB04-4826-AA00-7CC4C5C6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172-1902-4307-8796-6F9A2154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F37-DE63-4045-83A2-51562AA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95F2-8C4F-4DD4-9941-A5B012A68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исатели &quot;Мурзилки&quot;"/>
          <p:cNvPicPr/>
          <p:nvPr/>
        </p:nvPicPr>
        <p:blipFill>
          <a:blip r:embed="rId1"/>
          <a:stretch/>
        </p:blipFill>
        <p:spPr>
          <a:xfrm>
            <a:off x="2771640" y="1125360"/>
            <a:ext cx="3448080" cy="48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8520" y="47628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ина Петровна Токм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нига &quot;Ходит солнышко по кругу&quot;. купить с доставкой. Книжный магазин Literatura.by. Доставка книг по Беларуси"/>
          <p:cNvPicPr/>
          <p:nvPr/>
        </p:nvPicPr>
        <p:blipFill>
          <a:blip r:embed="rId1"/>
          <a:stretch/>
        </p:blipFill>
        <p:spPr>
          <a:xfrm rot="21223800">
            <a:off x="468360" y="259920"/>
            <a:ext cx="2508120" cy="27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Поиграем. Стихи, Токмакова Ирина Петровна"/>
          <p:cNvPicPr/>
          <p:nvPr/>
        </p:nvPicPr>
        <p:blipFill>
          <a:blip r:embed="rId2"/>
          <a:stretch/>
        </p:blipFill>
        <p:spPr>
          <a:xfrm>
            <a:off x="3348000" y="189000"/>
            <a:ext cx="2367000" cy="30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Ростик и Кеша (аудиокнига) Скачать."/>
          <p:cNvPicPr/>
          <p:nvPr/>
        </p:nvPicPr>
        <p:blipFill>
          <a:blip r:embed="rId3"/>
          <a:stretch/>
        </p:blipFill>
        <p:spPr>
          <a:xfrm rot="267000">
            <a:off x="6659640" y="115560"/>
            <a:ext cx="2057400" cy="3144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И.Тургенев. Ася - Новости Литрес-аудиокниг на www.litres.ru"/>
          <p:cNvPicPr/>
          <p:nvPr/>
        </p:nvPicPr>
        <p:blipFill>
          <a:blip r:embed="rId4"/>
          <a:stretch/>
        </p:blipFill>
        <p:spPr>
          <a:xfrm>
            <a:off x="250920" y="378936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Токмакова Ирина Петровна книги, цена, купить, магазин hotline.ua"/>
          <p:cNvPicPr/>
          <p:nvPr/>
        </p:nvPicPr>
        <p:blipFill>
          <a:blip r:embed="rId5"/>
          <a:stretch/>
        </p:blipFill>
        <p:spPr>
          <a:xfrm>
            <a:off x="2340000" y="342900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Петушок и бобовое зернышко Скачать книгу"/>
          <p:cNvPicPr/>
          <p:nvPr/>
        </p:nvPicPr>
        <p:blipFill>
          <a:blip r:embed="rId6"/>
          <a:stretch/>
        </p:blipFill>
        <p:spPr>
          <a:xfrm>
            <a:off x="6443640" y="3573360"/>
            <a:ext cx="2286000" cy="2954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Песенки - Токмакова Ирина Петровна"/>
          <p:cNvPicPr/>
          <p:nvPr/>
        </p:nvPicPr>
        <p:blipFill>
          <a:blip r:embed="rId7"/>
          <a:stretch/>
        </p:blipFill>
        <p:spPr>
          <a:xfrm>
            <a:off x="4211640" y="3429000"/>
            <a:ext cx="20764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Плещеев Алексей: Биография плещеев алексей николаевич - Найдется всё"/>
          <p:cNvPicPr/>
          <p:nvPr/>
        </p:nvPicPr>
        <p:blipFill>
          <a:blip r:embed="rId1"/>
          <a:stretch/>
        </p:blipFill>
        <p:spPr>
          <a:xfrm>
            <a:off x="2050920" y="765000"/>
            <a:ext cx="4859640" cy="561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69800" y="260280"/>
            <a:ext cx="45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ексей Николаевич Плещ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3528" r="0" b="0"/>
          <a:stretch/>
        </p:blipFill>
        <p:spPr>
          <a:xfrm>
            <a:off x="0" y="549360"/>
            <a:ext cx="9144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19:25:40Z</dcterms:created>
  <dc:creator>www.PHILka.RU</dc:creator>
  <dc:description/>
  <dc:language>en-US</dc:language>
  <cp:lastModifiedBy>www.PHILka.RU</cp:lastModifiedBy>
  <dcterms:modified xsi:type="dcterms:W3CDTF">2014-09-28T20:38:46Z</dcterms:modified>
  <cp:revision>2</cp:revision>
  <dc:subject/>
  <dc:title>Слайд 1</dc:title>
</cp:coreProperties>
</file>