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061-2DE3-487E-8509-D9900E28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A47-3B23-4275-9AB7-794CB15C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BAC-3A5E-473F-BBA8-2336616F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56F-04B8-4CD2-80C7-D45877B9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2FF-2B40-4DD2-A66B-A512EE52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8EB-AEC2-41B3-8FF3-77C3F5DB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334-5346-4C87-94F6-CC5E14F8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0C6-B6A7-4475-8965-156EE484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61A-B840-4B8E-9206-F3376623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DDC-1A37-480F-839B-D93589E7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932-6736-49D9-BB61-7E669196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446-0939-4B88-A52C-86BEB3CD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67F2-2555-430E-BC18-44E0BB8B2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исатели &quot;Мурзилки&quot;"/>
          <p:cNvPicPr/>
          <p:nvPr/>
        </p:nvPicPr>
        <p:blipFill>
          <a:blip r:embed="rId1"/>
          <a:stretch/>
        </p:blipFill>
        <p:spPr>
          <a:xfrm>
            <a:off x="2771640" y="1125360"/>
            <a:ext cx="3448080" cy="48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8520" y="476280"/>
            <a:ext cx="41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ина Петровна Токм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нига &quot;Ходит солнышко по кругу&quot;. купить с доставкой. Книжный магазин Literatura.by. Доставка книг по Беларуси"/>
          <p:cNvPicPr/>
          <p:nvPr/>
        </p:nvPicPr>
        <p:blipFill>
          <a:blip r:embed="rId1"/>
          <a:stretch/>
        </p:blipFill>
        <p:spPr>
          <a:xfrm rot="21223800">
            <a:off x="468360" y="259920"/>
            <a:ext cx="2508120" cy="276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Поиграем. Стихи, Токмакова Ирина Петровна"/>
          <p:cNvPicPr/>
          <p:nvPr/>
        </p:nvPicPr>
        <p:blipFill>
          <a:blip r:embed="rId2"/>
          <a:stretch/>
        </p:blipFill>
        <p:spPr>
          <a:xfrm>
            <a:off x="3348000" y="189000"/>
            <a:ext cx="2367000" cy="30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Ростик и Кеша (аудиокнига) Скачать."/>
          <p:cNvPicPr/>
          <p:nvPr/>
        </p:nvPicPr>
        <p:blipFill>
          <a:blip r:embed="rId3"/>
          <a:stretch/>
        </p:blipFill>
        <p:spPr>
          <a:xfrm rot="267000">
            <a:off x="6659640" y="115560"/>
            <a:ext cx="2057400" cy="3144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И.Тургенев. Ася - Новости Литрес-аудиокниг на www.litres.ru"/>
          <p:cNvPicPr/>
          <p:nvPr/>
        </p:nvPicPr>
        <p:blipFill>
          <a:blip r:embed="rId4"/>
          <a:stretch/>
        </p:blipFill>
        <p:spPr>
          <a:xfrm>
            <a:off x="250920" y="378936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Токмакова Ирина Петровна книги, цена, купить, магазин hotline.ua"/>
          <p:cNvPicPr/>
          <p:nvPr/>
        </p:nvPicPr>
        <p:blipFill>
          <a:blip r:embed="rId5"/>
          <a:stretch/>
        </p:blipFill>
        <p:spPr>
          <a:xfrm>
            <a:off x="2340000" y="342900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Петушок и бобовое зернышко Скачать книгу"/>
          <p:cNvPicPr/>
          <p:nvPr/>
        </p:nvPicPr>
        <p:blipFill>
          <a:blip r:embed="rId6"/>
          <a:stretch/>
        </p:blipFill>
        <p:spPr>
          <a:xfrm>
            <a:off x="6443640" y="3573360"/>
            <a:ext cx="2286000" cy="2954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Песенки - Токмакова Ирина Петровна"/>
          <p:cNvPicPr/>
          <p:nvPr/>
        </p:nvPicPr>
        <p:blipFill>
          <a:blip r:embed="rId7"/>
          <a:stretch/>
        </p:blipFill>
        <p:spPr>
          <a:xfrm>
            <a:off x="4211640" y="3429000"/>
            <a:ext cx="20764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Плещеев Алексей: Биография плещеев алексей николаевич - Найдется всё"/>
          <p:cNvPicPr/>
          <p:nvPr/>
        </p:nvPicPr>
        <p:blipFill>
          <a:blip r:embed="rId1"/>
          <a:stretch/>
        </p:blipFill>
        <p:spPr>
          <a:xfrm>
            <a:off x="2050920" y="765000"/>
            <a:ext cx="4859640" cy="561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69800" y="260280"/>
            <a:ext cx="45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ексей Николаевич Плещ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3528" r="0" b="0"/>
          <a:stretch/>
        </p:blipFill>
        <p:spPr>
          <a:xfrm>
            <a:off x="0" y="549360"/>
            <a:ext cx="914400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8T19:25:40Z</dcterms:created>
  <dc:creator>www.PHILka.RU</dc:creator>
  <dc:description/>
  <dc:language>en-US</dc:language>
  <cp:lastModifiedBy>www.PHILka.RU</cp:lastModifiedBy>
  <dcterms:modified xsi:type="dcterms:W3CDTF">2014-09-28T20:38:46Z</dcterms:modified>
  <cp:revision>2</cp:revision>
  <dc:subject/>
  <dc:title>Слайд 1</dc:title>
</cp:coreProperties>
</file>