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CED-9683-4BEC-A988-B1B4EFF5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752-2CED-421A-8CD8-08465146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237-DC8B-4C33-9F51-AB433C7C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1EE-8276-497C-A61A-A7C43B75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8E7-999D-4DD8-8795-6DB31A9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A75-6E22-429C-B75E-F050CE4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AD0-B7CD-4B55-BF1E-A9182D1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75B-C516-4569-AA08-2BB9AC44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084-8426-4EE2-844C-405393C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7DE-FD86-4D0E-A03E-E9031BF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10C-24E5-4459-AB72-41A081C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F4A-8EAE-4D50-B676-FA66ECF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5496-2540-4BC2-92DD-251A15B5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189000"/>
          <a:ext cx="2448000" cy="633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ию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авгу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ен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ок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дека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февр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а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643280" y="189000"/>
          <a:ext cx="3961080" cy="633564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Конституции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ащитника Оте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Государственного фл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к Весны и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ародного ед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жен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189000"/>
          <a:ext cx="2448000" cy="633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ию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авгу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ен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ок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дека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февр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а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43280" y="189000"/>
          <a:ext cx="3961080" cy="633564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Конституции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ащитника Оте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Государственного фл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к Весны и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ародного ед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жен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43280" y="476280"/>
            <a:ext cx="1728720" cy="5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052640"/>
            <a:ext cx="1728720" cy="2305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43280" y="476280"/>
            <a:ext cx="1728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843280" y="1628280"/>
            <a:ext cx="1728720" cy="5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2781360"/>
            <a:ext cx="1728720" cy="287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43280" y="2205000"/>
            <a:ext cx="1728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933720"/>
            <a:ext cx="1728720" cy="57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43280" y="2707920"/>
            <a:ext cx="1800000" cy="1873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084640"/>
            <a:ext cx="1728720" cy="115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43280" y="3860640"/>
            <a:ext cx="1800000" cy="187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43280" y="5013360"/>
            <a:ext cx="180000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20:56:34Z</dcterms:created>
  <dc:creator>www.PHILka.RU</dc:creator>
  <dc:description/>
  <dc:language>en-US</dc:language>
  <cp:lastModifiedBy>www.PHILka.RU</cp:lastModifiedBy>
  <dcterms:modified xsi:type="dcterms:W3CDTF">2014-10-15T21:07:22Z</dcterms:modified>
  <cp:revision>2</cp:revision>
  <dc:subject/>
  <dc:title>Слайд 1</dc:title>
</cp:coreProperties>
</file>