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BC4D-3C49-4B09-8317-9834DB53E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8A80-0BD6-4C54-896B-C5F1F5A8F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4F6C-8516-41BA-B96C-596F28843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58CD-C5DC-4A80-B70F-94E17B0DE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8689-E612-4743-8602-3D2821EEF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DCD0-CBEA-4812-A54A-18ECA8EB2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EC37-45D5-4B43-9FBA-ECA600DE0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D56F-4FD6-41C3-90A3-06C7A18DE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7B4E-CCAB-4B3F-936F-A10D8AE1A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583A-08C3-4BEE-AF6B-71747DEF4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EF38-17EE-465A-9E9F-EB7228B2B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6DB0-5148-4AF4-9B4E-E8C594410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BB112-2CD1-47D6-BC28-B29155B414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5000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95280" y="189000"/>
          <a:ext cx="2448000" cy="6335640"/>
        </p:xfrm>
        <a:graphic>
          <a:graphicData uri="http://schemas.openxmlformats.org/drawingml/2006/table">
            <a:tbl>
              <a:tblPr/>
              <a:tblGrid>
                <a:gridCol w="2448000"/>
              </a:tblGrid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июн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3737"/>
                    </a:solidFill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 август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3737"/>
                    </a:solidFill>
                  </a:tcPr>
                </a:tc>
              </a:tr>
              <a:tr h="57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сентябр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3737"/>
                    </a:solidFill>
                  </a:tcPr>
                </a:tc>
              </a:tr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октябр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3737"/>
                    </a:solidFill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ноябр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3737"/>
                    </a:solidFill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декабр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3737"/>
                    </a:solidFill>
                  </a:tcPr>
                </a:tc>
              </a:tr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январ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3737"/>
                    </a:solidFill>
                  </a:tcPr>
                </a:tc>
              </a:tr>
              <a:tr h="57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 феврал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3737"/>
                    </a:solidFill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март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3737"/>
                    </a:solidFill>
                  </a:tcPr>
                </a:tc>
              </a:tr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ма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3737"/>
                    </a:solidFill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ма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b373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2" name=""/>
          <p:cNvGraphicFramePr/>
          <p:nvPr/>
        </p:nvGraphicFramePr>
        <p:xfrm>
          <a:off x="4643280" y="189000"/>
          <a:ext cx="3961080" cy="6335640"/>
        </p:xfrm>
        <a:graphic>
          <a:graphicData uri="http://schemas.openxmlformats.org/drawingml/2006/table">
            <a:tbl>
              <a:tblPr/>
              <a:tblGrid>
                <a:gridCol w="3961080"/>
              </a:tblGrid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нь зна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a1a1"/>
                    </a:solidFill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нь Росс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a1a1"/>
                    </a:solidFill>
                  </a:tcPr>
                </a:tc>
              </a:tr>
              <a:tr h="57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нь учител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a1a1"/>
                    </a:solidFill>
                  </a:tcPr>
                </a:tc>
              </a:tr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нь Конституции Р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a1a1"/>
                    </a:solidFill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нь защитника Отечест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a1a1"/>
                    </a:solidFill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нь Государственного флаг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a1a1"/>
                    </a:solidFill>
                  </a:tcPr>
                </a:tc>
              </a:tr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аздник Весны и тру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a1a1"/>
                    </a:solidFill>
                  </a:tcPr>
                </a:tc>
              </a:tr>
              <a:tr h="57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вый г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a1a1"/>
                    </a:solidFill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нь побед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a1a1"/>
                    </a:solidFill>
                  </a:tcPr>
                </a:tc>
              </a:tr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нь народного единст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a1a1"/>
                    </a:solidFill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ждународный женский ден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a1a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5000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395280" y="189000"/>
          <a:ext cx="2448000" cy="6335640"/>
        </p:xfrm>
        <a:graphic>
          <a:graphicData uri="http://schemas.openxmlformats.org/drawingml/2006/table">
            <a:tbl>
              <a:tblPr/>
              <a:tblGrid>
                <a:gridCol w="2448000"/>
              </a:tblGrid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июн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3737"/>
                    </a:solidFill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 август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3737"/>
                    </a:solidFill>
                  </a:tcPr>
                </a:tc>
              </a:tr>
              <a:tr h="57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сентябр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3737"/>
                    </a:solidFill>
                  </a:tcPr>
                </a:tc>
              </a:tr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октябр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3737"/>
                    </a:solidFill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ноябр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3737"/>
                    </a:solidFill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декабр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3737"/>
                    </a:solidFill>
                  </a:tcPr>
                </a:tc>
              </a:tr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январ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3737"/>
                    </a:solidFill>
                  </a:tcPr>
                </a:tc>
              </a:tr>
              <a:tr h="57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 феврал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3737"/>
                    </a:solidFill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март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3737"/>
                    </a:solidFill>
                  </a:tcPr>
                </a:tc>
              </a:tr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ма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3737"/>
                    </a:solidFill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ма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b373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4643280" y="189000"/>
          <a:ext cx="3961080" cy="6335640"/>
        </p:xfrm>
        <a:graphic>
          <a:graphicData uri="http://schemas.openxmlformats.org/drawingml/2006/table">
            <a:tbl>
              <a:tblPr/>
              <a:tblGrid>
                <a:gridCol w="3961080"/>
              </a:tblGrid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нь зна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a1a1"/>
                    </a:solidFill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нь Росс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a1a1"/>
                    </a:solidFill>
                  </a:tcPr>
                </a:tc>
              </a:tr>
              <a:tr h="57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нь учител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a1a1"/>
                    </a:solidFill>
                  </a:tcPr>
                </a:tc>
              </a:tr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нь Конституции Р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a1a1"/>
                    </a:solidFill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нь защитника Отечест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a1a1"/>
                    </a:solidFill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нь Государственного флаг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a1a1"/>
                    </a:solidFill>
                  </a:tcPr>
                </a:tc>
              </a:tr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аздник Весны и тру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a1a1"/>
                    </a:solidFill>
                  </a:tcPr>
                </a:tc>
              </a:tr>
              <a:tr h="57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вый г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a1a1"/>
                    </a:solidFill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нь побед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a1a1"/>
                    </a:solidFill>
                  </a:tcPr>
                </a:tc>
              </a:tr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нь народного единст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a1a1"/>
                    </a:solidFill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ждународный женский ден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a1a1"/>
                    </a:solidFill>
                  </a:tcPr>
                </a:tc>
              </a:tr>
            </a:tbl>
          </a:graphicData>
        </a:graphic>
      </p:graphicFrame>
      <p:sp>
        <p:nvSpPr>
          <p:cNvPr id="45" name=""/>
          <p:cNvSpPr/>
          <p:nvPr/>
        </p:nvSpPr>
        <p:spPr>
          <a:xfrm>
            <a:off x="2843280" y="476280"/>
            <a:ext cx="1728720" cy="576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843280" y="1052640"/>
            <a:ext cx="1728720" cy="230508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2843280" y="476280"/>
            <a:ext cx="1728720" cy="12240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843280" y="1628280"/>
            <a:ext cx="1728720" cy="576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43280" y="2781360"/>
            <a:ext cx="1728720" cy="28796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843280" y="2205000"/>
            <a:ext cx="1728720" cy="12240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43280" y="3933720"/>
            <a:ext cx="1728720" cy="5749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843280" y="2707920"/>
            <a:ext cx="1800000" cy="187308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43280" y="5084640"/>
            <a:ext cx="1728720" cy="11527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2843280" y="3860640"/>
            <a:ext cx="1800000" cy="18734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2843280" y="5013360"/>
            <a:ext cx="1800000" cy="12240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15T20:56:34Z</dcterms:created>
  <dc:creator>www.PHILka.RU</dc:creator>
  <dc:description/>
  <dc:language>en-US</dc:language>
  <cp:lastModifiedBy>www.PHILka.RU</cp:lastModifiedBy>
  <dcterms:modified xsi:type="dcterms:W3CDTF">2014-10-15T21:07:22Z</dcterms:modified>
  <cp:revision>2</cp:revision>
  <dc:subject/>
  <dc:title>Слайд 1</dc:title>
</cp:coreProperties>
</file>