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A05-91BD-4D99-8297-6056D839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916-53F9-4E90-AF6C-F19CEE74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322-C9B1-438B-8361-536FCBD2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61D-0442-4092-9682-44B15236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ED8-5E1A-41C8-83B8-BFCF7FFA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A22-045E-4F53-B54D-4D0F1C81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D98-8FDB-4A20-846F-B2359578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85E-03F9-4E65-A303-5E603C13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09D-31E7-4CC4-8C41-0460EC1D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B8D-AFAB-41E3-A5DC-C4D3B941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0C5-6B38-4F03-9951-9F4DAC24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D49-CEA0-4C79-9BEA-0F6794C6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3DF9-2A76-49F2-A456-8898669B0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_NEW0517_jpg_800x800_q85"/>
          <p:cNvPicPr/>
          <p:nvPr/>
        </p:nvPicPr>
        <p:blipFill>
          <a:blip r:embed="rId1"/>
          <a:srcRect l="0" t="0" r="11154" b="0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476720" y="331920"/>
            <a:ext cx="649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ека моего детст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26880" y="290988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. Ис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5f77d6af300e03bbc14050d3dce8fec9"/>
          <p:cNvPicPr/>
          <p:nvPr/>
        </p:nvPicPr>
        <p:blipFill>
          <a:blip r:embed="rId1"/>
          <a:srcRect l="0" t="0" r="13664" b="326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50920" y="403560"/>
            <a:ext cx="8496360" cy="2228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щё не поздно помочь природе. Хотя в целом река Исеть сильно изменена под влиянием хозяйственной деятельности, на реке еще остались участки, полные жизни. В истоках реки сохранились нетронутые реликтовые кедровники и лиственные леса, гнездовья птиц и убежища зверей. Истоки реки не утратили потенциал возрождения естественной водной системы – источника жизни вокруг реки. Река борется, река жи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ost-6-1355938572"/>
          <p:cNvPicPr/>
          <p:nvPr/>
        </p:nvPicPr>
        <p:blipFill>
          <a:blip r:embed="rId1"/>
          <a:srcRect l="29848" t="0" r="16781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24000" y="333720"/>
            <a:ext cx="8569080" cy="17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ждый город России стоит на какой-то реке, которая занимает важное и значимое место в становлении и жизнедеятельности этого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Екатеринбурга такой рекой является Исет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95280" y="976320"/>
            <a:ext cx="424800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попытаться отыскать Исеть на глобусе - это всего лишь неровная черточка. На карте Свердловской области она - крупная водная артерия. Исеть берет свое начало в Уральских горах и впадает в реку Тобол. Протяженность реки составляет 606 километров. Река протекает по территории Свердловской, Курганской и Тюменской обл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0f981620d4fc"/>
          <p:cNvPicPr/>
          <p:nvPr/>
        </p:nvPicPr>
        <p:blipFill>
          <a:blip r:embed="rId1"/>
          <a:srcRect l="0" t="22709" r="0" b="17455"/>
          <a:stretch/>
        </p:blipFill>
        <p:spPr>
          <a:xfrm>
            <a:off x="4859280" y="981000"/>
            <a:ext cx="3924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0920" y="293040"/>
            <a:ext cx="856908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еке водится большое количество рыбы, в том числе ценных пород, таких как: толстолобик, щука и лещ. Но не только ради этого стоит беречь центральную реку города Екатеринбурга, а еще и потому, что она является неотъемлемой частью города, его исторической составляющей и главной достопримечательностью всей Свердл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b7ba61b74cf8062c5dd30aaf0407c5c"/>
          <p:cNvPicPr/>
          <p:nvPr/>
        </p:nvPicPr>
        <p:blipFill>
          <a:blip r:embed="rId1"/>
          <a:stretch/>
        </p:blipFill>
        <p:spPr>
          <a:xfrm>
            <a:off x="2050920" y="3079800"/>
            <a:ext cx="44499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3419640" y="3932640"/>
            <a:ext cx="5182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воду в реке Исеть нельзя считать чистой, но она пока способна разбавлять и поддерживать биологическое равновесие воды. Значительное загрязнение реки вызвано поступлением в неё сточных вод предприятий и ливневых стоков с территорий промышленных объе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403560"/>
            <a:ext cx="3240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тное место занимает река и в истории России, начиная с освоения Урала древним человеком и до наших дней. Современное состояние реки вызывает горькую досаду. Ведь многие люди связаны с этой рекой своей судьбой с самого дет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naberezhnaya"/>
          <p:cNvPicPr/>
          <p:nvPr/>
        </p:nvPicPr>
        <p:blipFill>
          <a:blip r:embed="rId1"/>
          <a:stretch/>
        </p:blipFill>
        <p:spPr>
          <a:xfrm>
            <a:off x="3998880" y="404640"/>
            <a:ext cx="4533840" cy="316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333101"/>
          <p:cNvPicPr/>
          <p:nvPr/>
        </p:nvPicPr>
        <p:blipFill>
          <a:blip r:embed="rId2"/>
          <a:stretch/>
        </p:blipFill>
        <p:spPr>
          <a:xfrm>
            <a:off x="324000" y="4214880"/>
            <a:ext cx="27111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24000" y="40356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сожалению, человек не умеет беречь малые реки. Ведь когда истощаются притоки, мелеет большая река. Вот почему в задачу охраны окружающей природы входит забота о реке Исеть, которая, являясь притоком более крупной реки Тобол, питает её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95280" y="1843560"/>
            <a:ext cx="40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ё недавно в бассейнах притоков реки Исеть были густые заросли черемухи, смородины, а в поймах и на побережье кусты калины, дикий хм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0_6bbd0_ab2f8202_XL"/>
          <p:cNvPicPr/>
          <p:nvPr/>
        </p:nvPicPr>
        <p:blipFill>
          <a:blip r:embed="rId1"/>
          <a:stretch/>
        </p:blipFill>
        <p:spPr>
          <a:xfrm>
            <a:off x="539640" y="357336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130d2bd8f71ec4930435747c19e4afb8"/>
          <p:cNvPicPr/>
          <p:nvPr/>
        </p:nvPicPr>
        <p:blipFill>
          <a:blip r:embed="rId2"/>
          <a:srcRect l="34798" t="0" r="11965" b="0"/>
          <a:stretch/>
        </p:blipFill>
        <p:spPr>
          <a:xfrm>
            <a:off x="4788000" y="1989000"/>
            <a:ext cx="352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24000" y="620640"/>
            <a:ext cx="439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легкомыслия человека растительность в верховьях малых речек уменьшилась, кусты растений вырублены или поломаны, поэтому роль защитных насаждений в бассейнах притоков снизилась, что повлекло за собой усиление паводков. Из-за быстрого поверхностного стока воды весной, при таянии снега, и под действием летних ливней возникла водная эрозия с огромными потерями лучшей части лесной почвы. Это привело к резкому её ухудшению: растительность стала всё беднеть, а речка начала катастрофически мел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37709"/>
          <p:cNvPicPr/>
          <p:nvPr/>
        </p:nvPicPr>
        <p:blipFill>
          <a:blip r:embed="rId1"/>
          <a:srcRect l="34331" t="0" r="6457" b="0"/>
          <a:stretch/>
        </p:blipFill>
        <p:spPr>
          <a:xfrm>
            <a:off x="4859280" y="765000"/>
            <a:ext cx="39607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971640" y="475200"/>
            <a:ext cx="72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ценимое значение имеет изменение поведения людей в отношении охраны и бережного отношения к реке Исеть. Люди и их деятельность загрязняют реку, но в это же время деятельность людей, направленная на защиту и охрану природы, может значительно улучшить состояние реки Исе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31"/>
          <p:cNvPicPr/>
          <p:nvPr/>
        </p:nvPicPr>
        <p:blipFill>
          <a:blip r:embed="rId1"/>
          <a:stretch/>
        </p:blipFill>
        <p:spPr>
          <a:xfrm>
            <a:off x="611280" y="2330280"/>
            <a:ext cx="4537080" cy="3403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age_1274838136"/>
          <p:cNvPicPr/>
          <p:nvPr/>
        </p:nvPicPr>
        <p:blipFill>
          <a:blip r:embed="rId2"/>
          <a:stretch/>
        </p:blipFill>
        <p:spPr>
          <a:xfrm>
            <a:off x="5292720" y="2500200"/>
            <a:ext cx="32338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24000" y="403200"/>
            <a:ext cx="64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существенным изменениям могут привести простые действия, такие к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411920"/>
            <a:ext cx="84247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акций по очистке и благоустройству участков р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квидация свалок пластиковых отходов и автомобильных покрыш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ищение притоков и ручьев, впадающих в Исе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разъяснительных работ с населением, беседы и распространение листовок (они не знают или делают вид, что не знают, что наносят ущерб охраняемой территор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аживание деревьев и кустарников для предотвращения разрушения бере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ка предупреждающих 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5:13:18Z</dcterms:created>
  <dc:creator>ШЕВА 7</dc:creator>
  <dc:description/>
  <dc:language>en-US</dc:language>
  <cp:lastModifiedBy>ШЕВА 7</cp:lastModifiedBy>
  <dcterms:modified xsi:type="dcterms:W3CDTF">2017-09-19T19:00:27Z</dcterms:modified>
  <cp:revision>18</cp:revision>
  <dc:subject/>
  <dc:title>Слайд 1</dc:title>
</cp:coreProperties>
</file>