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892-BBAB-4DE2-BC52-469AE48B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8D3-C261-4EFE-9870-CD96997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99B-11CD-48C8-B607-67A3BEBD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8CF-7BFC-4436-9721-49F2F2C4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FD50-F703-45DB-A385-AC0B79B2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510-C749-4173-BD05-CCC7E47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721-F786-4009-93A4-973D51E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F2F2-86B4-4C58-85D5-5C6CF02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1B5-0ECB-4688-9836-C938956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F1B7-37AD-4CC7-8B38-A367002E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6CE3-46B2-45AA-BCDA-31EF3C6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FC2-1A3F-4C4B-94EE-C9B9846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16EF-4397-48AD-8928-0F3FF74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9BE3-04A7-462D-AC42-CD5C628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067-5DB2-4B1D-911A-36E88DF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8CB-1E54-4BCA-A2F8-A53666A5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F0A5-E451-4AFF-A88F-E42AB995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37C-1DE3-4298-9306-0AC06E5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2C3-1242-4453-B0B6-58043704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6AB-D7C1-453A-959C-56B9B24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EA5-E931-4529-82BF-3265D8E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8BE-8098-45C3-9E06-279E630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C79-6CB9-4E09-9C0E-6900DDF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DED-DEE0-4C32-A31D-3A629B8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762-0FE7-4929-A588-C5FAA8022D0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ED1-4611-48DB-9815-94DC41B2AFC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934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Verdana"/>
              </a:rPr>
              <a:t>Словарная работа на уроках русского языка </a:t>
            </a:r>
            <a:br>
              <a:rPr sz="4800"/>
            </a:b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5" descr="Cap photo"/>
          <p:cNvPicPr/>
          <p:nvPr/>
        </p:nvPicPr>
        <p:blipFill>
          <a:blip r:embed="rId1"/>
          <a:stretch/>
        </p:blipFill>
        <p:spPr>
          <a:xfrm>
            <a:off x="2124000" y="2565360"/>
            <a:ext cx="4753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Задача учителя русского языка –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формировать развитую речевую культуру у школьник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учить правильному орфографическому письм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тие школьника как личност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лноценно владеющей устной и письменной речь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аложить основы письм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полнение словарного запаса учащихся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учить детей задумываться над значением слова, употреблять его в точном соответствии с его семантическим наполнение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грамотно толковать значение слов в различных жизненных ситуациях: при определении понятий, явлений, фактов в процессе изучения дисциплин школьной программы, при восприятии новых слов, актуализирующихся в тех или иных сферах общения, при разъяснении незнакомых слов, при взаимодействии со старшими, друзьями, сверстника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MOUSREAD"/>
          <p:cNvPicPr/>
          <p:nvPr/>
        </p:nvPicPr>
        <p:blipFill>
          <a:blip r:embed="rId1"/>
          <a:stretch/>
        </p:blipFill>
        <p:spPr>
          <a:xfrm>
            <a:off x="2529000" y="1600200"/>
            <a:ext cx="4086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Verdana"/>
              </a:rPr>
              <a:t>План</a:t>
            </a:r>
            <a:br>
              <a:rPr sz="4200"/>
            </a:br>
            <a:endParaRPr b="0" lang="en-US" sz="4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1. Введение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2. Цели словарно-орфографической работы на уроках русского языка: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3. Методы и приемы словарной работы на уроках русского язык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4. Обогащение словаря учащихся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5. Работа по обогащению активного словаря учащихся </a:t>
            </a:r>
            <a:br>
              <a:rPr sz="2300"/>
            </a:b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6. Приемы и упражнения, для обогащения словарного запас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7. Памятка для запоминания непроверяемых слов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8. Виды словарной работы на уроках русского языка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00"/>
                </a:solidFill>
                <a:latin typeface="Verdana"/>
              </a:rPr>
              <a:t>Изучение русского языка в  школе направлено на достижение </a:t>
            </a:r>
            <a:br>
              <a:rPr sz="2700"/>
            </a:br>
            <a:r>
              <a:rPr b="1" lang="ru-RU" sz="2700" spc="-1" strike="noStrike">
                <a:solidFill>
                  <a:srgbClr val="990000"/>
                </a:solidFill>
                <a:latin typeface="Verdana"/>
              </a:rPr>
              <a:t>следующих целей:</a:t>
            </a: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. развитие речи, мышления, воображения школьников, способности выбирать средства языка в соответствии с условиями общения, развитие интуиции и «чувства языка»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2. освоение первоначальных знаний о лексике, фонетике, грамматике русского языка; овладение элементарными способами анализа изучаемых явлений язы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3. овладение умениями правильно писать и читать, участвовать в диалоге, составлять несложные монологические высказыва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4. воспитание позитивного эмоционально-ценностного отношения к русскому языку, чувства сопричастности к сохранению его уникальности и чистоты; пробуждение познавательного интереса к различным языкам, стремления совершенствовать свою реч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Одной из главных задач, стоящих перед учителем, является задача научить ребёнка писать эти слова без ошибок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Цели словарно-орфографической работы на уроках русского язык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1. Формировать у школьников самостоятельность в учебном труде, приобщение их к работе со справочной литератур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2. Выработать привычку обращаться к словарям и справочникам в трудных или сомнительных случаях написания слов, их произношения, ударения, образования формы, раскрытия знач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3. Выработать навыки умения пользоваться словарями, понимания значения слова, его сознательное употребление в контекс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История развития вопро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Вопрос об изучении словарной работы был поставлен крупнейшими методистами еще в прошлом веке</a:t>
            </a:r>
            <a:r>
              <a:rPr b="1" lang="ru-RU" sz="2600" spc="-1" strike="noStrike">
                <a:solidFill>
                  <a:srgbClr val="6633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Ф.И. Буслаевы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И.И. Срезневски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Д.И. Тихомировым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К. Д. Ушинским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Verdana"/>
              </a:rPr>
              <a:t>И.И. Срезневским</a:t>
            </a:r>
            <a:r>
              <a:rPr b="1" lang="ru-RU" sz="26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Константин Дмитриевич Уши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Ushinskijkon"/>
          <p:cNvPicPr/>
          <p:nvPr/>
        </p:nvPicPr>
        <p:blipFill>
          <a:blip r:embed="rId1"/>
          <a:stretch/>
        </p:blipFill>
        <p:spPr>
          <a:xfrm>
            <a:off x="4643280" y="1413000"/>
            <a:ext cx="4187880" cy="5113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79280" y="1700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Родилс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9 феврал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824 года в Тул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едагог, методис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Ушинский считал словарную работу самой главной на уроках русского языка и литерату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начения слов могут быть раскрыты путе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158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каза предмета или его изображения (картины) - наглядный метод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асчленения понятия, указание на его признаки, перечисление и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ведение слова в предложение или развернутый связный текст (в контексте или фразе значение слова выступает ярче), а также путем дописывания предлож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инонимической замены сл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равнения и сопоставления по сходству, различи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азбор слова по состав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правок в энциклопедических и толковых словаря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амятка для запоминания непроверяемых слов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. внимательно прочитайте слово про себя и вслу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2. справьтесь о значении слова, если не знаете ег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3. прочитайте слово по слогам и запишите ег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4. подчеркните ту часть слова, которую стараетесь запомни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5. проверьте по словарю, правильно ли вы записали слово, произнеся его по слог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6. подберите несколько родственных слов и напишите слово два - три раза…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Заключени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ловарная работа составляет неотъемлемую часть школьной программы обучения русскому языку, так как способствует решению многих важных задач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омогает формировать личность ученика, его мировоззрения, расширяет словарный запас и наделяет ученика навыками, необходимыми для будущей практической деятель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 время словарной работы происходит знакомство ученика с богатством  языка и показ его стилистических возможнос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8:34:35Z</dcterms:created>
  <dc:creator>Admin</dc:creator>
  <dc:description/>
  <dc:language>en-US</dc:language>
  <cp:lastModifiedBy>User</cp:lastModifiedBy>
  <dcterms:modified xsi:type="dcterms:W3CDTF">2017-09-19T02:34:20Z</dcterms:modified>
  <cp:revision>5</cp:revision>
  <dc:subject/>
  <dc:title>Слайд 1</dc:title>
</cp:coreProperties>
</file>