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1AF-09CE-485E-A2E2-F4152937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609-CD0D-43B7-8D10-80807BC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413-59AF-4395-8692-2A7E254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441-2280-4A8E-BA49-72096193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7A8-21AC-4FF4-96BA-1151F4B5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0E2F-3D20-4D40-B38D-B7374C9C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9F03-A5E0-46F3-AE6C-8FA23BD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7953-98A0-4819-97FD-3A5AFA3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287A-B386-40C5-91F3-13BAAF0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544-89CF-49EE-A7EC-8E054B5C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C5BB-64D7-4FE6-9457-44DBF6A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2D6-1CFC-4956-B700-51D5E2A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B04-EE30-4361-B6DF-60AE7F8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E46-9D2A-4D2C-8B09-637C0CA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EE6E-8C42-4F38-ADB0-8CB1518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1E69-2AFA-4569-8BCA-D28B76C5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3689-06A5-422D-96B6-C283D2A8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50D-7824-40D4-AE67-274D7A06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66B-7537-4597-965A-65C22DF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432-6A8A-4417-8272-8C44A6D1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A67-A646-4D04-8EC2-D1CCD20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8D3-3F55-4E6A-90DE-315FAD0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444-9B56-461F-B20E-97B1BD6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24E-314C-49D4-8E06-4CA097E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EE7-C489-4DC9-87B2-4B689BE1FC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197-4F80-4A69-9BAB-4781AB48645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934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Verdana"/>
              </a:rPr>
              <a:t>Словарная работа на уроках русского языка </a:t>
            </a:r>
            <a:br>
              <a:rPr sz="4800"/>
            </a:b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5" descr="Cap photo"/>
          <p:cNvPicPr/>
          <p:nvPr/>
        </p:nvPicPr>
        <p:blipFill>
          <a:blip r:embed="rId1"/>
          <a:stretch/>
        </p:blipFill>
        <p:spPr>
          <a:xfrm>
            <a:off x="2124000" y="2565360"/>
            <a:ext cx="4753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Задача учителя русского языка –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формировать развитую речевую культуру у школьник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учить правильному орфографическому письм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тие школьника как личност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лноценно владеющей устной и письменной речь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аложить основы письм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полнение словарного запаса учащихся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учить детей задумываться над значением слова, употреблять его в точном соответствии с его семантическим наполнение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грамотно толковать значение слов в различных жизненных ситуациях: при определении понятий, явлений, фактов в процессе изучения дисциплин школьной программы, при восприятии новых слов, актуализирующихся в тех или иных сферах общения, при разъяснении незнакомых слов, при взаимодействии со старшими, друзьями, сверстника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MOUSREAD"/>
          <p:cNvPicPr/>
          <p:nvPr/>
        </p:nvPicPr>
        <p:blipFill>
          <a:blip r:embed="rId1"/>
          <a:stretch/>
        </p:blipFill>
        <p:spPr>
          <a:xfrm>
            <a:off x="2529000" y="1600200"/>
            <a:ext cx="4086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Verdana"/>
              </a:rPr>
              <a:t>План</a:t>
            </a:r>
            <a:br>
              <a:rPr sz="4200"/>
            </a:br>
            <a:endParaRPr b="0" lang="en-US" sz="4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1. Введение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2. Цели словарно-орфографической работы на уроках русского языка: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3. Методы и приемы словарной работы на уроках русского язык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4. Обогащение словаря учащихся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5. Работа по обогащению активного словаря учащихся </a:t>
            </a:r>
            <a:br>
              <a:rPr sz="2300"/>
            </a:b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6. Приемы и упражнения, для обогащения словарного запас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7. Памятка для запоминания непроверяемых слов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8. Виды словарной работы на уроках русского язык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00"/>
                </a:solidFill>
                <a:latin typeface="Verdana"/>
              </a:rPr>
              <a:t>Изучение русского языка в  школе направлено на достижение </a:t>
            </a:r>
            <a:br>
              <a:rPr sz="2700"/>
            </a:br>
            <a:r>
              <a:rPr b="1" lang="ru-RU" sz="2700" spc="-1" strike="noStrike">
                <a:solidFill>
                  <a:srgbClr val="990000"/>
                </a:solidFill>
                <a:latin typeface="Verdana"/>
              </a:rPr>
              <a:t>следующих целей:</a:t>
            </a: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. развитие речи, мышления, воображения школьников, способности выбирать средства языка в соответствии с условиями общения, развитие интуиции и «чувства языка»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2. освоение первоначальных знаний о лексике, фонетике, грамматике русского языка; овладение элементарными способами анализа изучаемых явлений язы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3. овладение умениями правильно писать и читать, участвовать в диалоге, составлять несложные монологические высказыва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4. воспитание позитивного эмоционально-ценностного отношения к русскому языку, чувства сопричастности к сохранению его уникальности и чистоты; пробуждение познавательного интереса к различным языкам, стремления совершенствовать свою реч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Одной из главных задач, стоящих перед учителем, является задача научить ребёнка писать эти слова без ошибок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Цели словарно-орфографической работы на уроках русского язык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1. Формировать у школьников самостоятельность в учебном труде, приобщение их к работе со справочной литератур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2. Выработать привычку обращаться к словарям и справочникам в трудных или сомнительных случаях написания слов, их произношения, ударения, образования формы, раскрытия знач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3. Выработать навыки умения пользоваться словарями, понимания значения слова, его сознательное употребление в контекс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История развития вопро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Вопрос об изучении словарной работы был поставлен крупнейшими методистами еще в прошлом веке</a:t>
            </a:r>
            <a:r>
              <a:rPr b="1" lang="ru-RU" sz="2600" spc="-1" strike="noStrike">
                <a:solidFill>
                  <a:srgbClr val="6633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Ф.И. Буслаевы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И.И. Срезневски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Д.И. Тихомировым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К. Д. Ушински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И.И. Срезневским</a:t>
            </a:r>
            <a:r>
              <a:rPr b="1" lang="ru-RU" sz="26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Константин Дмитриевич Уши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Ushinskijkon"/>
          <p:cNvPicPr/>
          <p:nvPr/>
        </p:nvPicPr>
        <p:blipFill>
          <a:blip r:embed="rId1"/>
          <a:stretch/>
        </p:blipFill>
        <p:spPr>
          <a:xfrm>
            <a:off x="4643280" y="1413000"/>
            <a:ext cx="4187880" cy="5113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79280" y="1700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Родилс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9 феврал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824 года в Тул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едагог, методис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Ушинский считал словарную работу самой главной на уроках русского языка и литерату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начения слов могут быть раскрыты путе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158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каза предмета или его изображения (картины) - наглядный метод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асчленения понятия, указание на его признаки, перечисление и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ведение слова в предложение или развернутый связный текст (в контексте или фразе значение слова выступает ярче), а также путем дописывания предлож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инонимической замены сл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равнения и сопоставления по сходству, различи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азбор слова по состав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правок в энциклопедических и толковых словаря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амятка для запоминания непроверяемых слов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. внимательно прочитайте слово про себя и вслу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2. справьтесь о значении слова, если не знаете ег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3. прочитайте слово по слогам и запишите ег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4. подчеркните ту часть слова, которую стараетесь запомни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5. проверьте по словарю, правильно ли вы записали слово, произнеся его по слог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6. подберите несколько родственных слов и напишите слово два - три раза…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Заключени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ловарная работа составляет неотъемлемую часть школьной программы обучения русскому языку, так как способствует решению многих важных задач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омогает формировать личность ученика, его мировоззрения, расширяет словарный запас и наделяет ученика навыками, необходимыми для будущей практической деятель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 время словарной работы происходит знакомство ученика с богатством  языка и показ его стилистических возможнос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8:34:35Z</dcterms:created>
  <dc:creator>Admin</dc:creator>
  <dc:description/>
  <dc:language>en-US</dc:language>
  <cp:lastModifiedBy>User</cp:lastModifiedBy>
  <dcterms:modified xsi:type="dcterms:W3CDTF">2017-09-19T02:34:20Z</dcterms:modified>
  <cp:revision>5</cp:revision>
  <dc:subject/>
  <dc:title>Слайд 1</dc:title>
</cp:coreProperties>
</file>