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CD8-27C8-43A9-8935-43D18A737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3DD0-7073-4D6A-8297-CDE0D03C7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7B6-0330-4800-BA26-6104265F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72C-5C85-435C-B780-E4666A38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5042F-2E02-4ECC-BFB6-5C96C7B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C425E-1465-4F2E-A7E9-0E596EA3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EDFAA-8619-4428-8497-F8CFE0B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015E5-FB63-408C-B0AC-BF42FF8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AF80-5123-42DE-97A6-90384C9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E3E71-19F6-49A7-9BF6-BA6259B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6A8A6-71C9-4F08-8D98-94FBEA4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03C5-0ECD-4B6F-ADF6-3A343FA9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6FB93-7313-482B-A7E4-AA50FEB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1D0EB-36A9-4C5B-838E-77F99887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6AB-A8AE-4DE2-BDF0-8A9576A5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B8A6-6991-4063-8119-8C9CFA6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0875C-F10B-4065-9278-B7AB7DD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32BA1-5733-4359-80BA-F733618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89F0B-57EC-47E1-BC0D-61EE589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F264D-0DD0-48EF-9BA0-5E1589B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D5ADA-1458-4D57-9115-0F9AD5D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640A5-D776-43AF-9E64-6DEE7B7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10501-33A8-4105-8D62-05C5A384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0ADB0-ED47-4B3F-8BD6-D5F6699A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0534D-E130-4DA1-85B5-132E39B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F47-D050-4C90-BCCC-955EF00B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15DA0-FCB9-4EEB-8CDD-8A6D6CF6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0FF06-A212-400C-8859-984E18B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A4BA8-F64E-4549-A361-88BDCCDB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32840-0E6C-47E9-8115-C2B9C6BD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A628-32E8-4B41-9FD5-0485E8E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DFB57-D31D-4A6E-9AF0-325EBE9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1664F-C0AE-48DB-8962-ECD215C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ADFE0-20F7-42E8-B15A-40911EA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343F-AF1D-49E6-B92D-E69ABD5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C5AF3-04CD-4443-A360-87F473E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3F46-96A2-41A2-8FDD-CBAA67E7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D07BC-6517-461D-8F95-065EA285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13F0-829B-4709-AFD4-9A75F357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22624-52AA-4E87-85E1-D02434CA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C63D4-4B0C-4C6C-BEAB-1FA208A1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1C67-C427-4BFA-ABCC-4C416222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C923A-D729-4257-AB5F-DC986C21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E5F5-B57A-44C3-B06A-9AD4A1F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4821E-D184-4E6F-A2AB-608D0237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999D9-CD6F-48E8-A240-5412A4A1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1D673-8C05-4A35-BC56-02BA3C6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308-24F2-4E98-BBEC-D0D72BAC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AB80B-FD7A-421A-BD31-3D33F92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0F586-1781-4313-8AF2-6095AB0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6960C-C146-42FC-A0E0-4A29064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83764-BBF3-4CFF-B201-6E25DE40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E6F7-1EE5-41AC-AC9B-5FFA0639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577B3-99C0-4987-8270-D1F3C330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CA9A9-E9BB-4406-ABA9-5E547A7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CC16F-EFE5-4BC4-A6FC-B9F3A48A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00126-ED0E-4E67-A3BE-B3B893E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C7680-4C5E-485F-8818-FBC8F4D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8B5-BBDD-4108-95A5-762AC57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FE51C-39F2-4130-BCD1-D8B357B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A1991-4C6E-4677-8B38-61C085B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72B2A-E2FF-425B-B58C-0102490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F0BAE-78D2-481B-8639-9A39BA7F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442AE-A2A2-4FB5-BE94-11861C6E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1174F-D4B3-4AFB-976D-52A9EB53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8C8CB-95EA-494C-A37C-43A8F794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5A293-BEE3-42BF-8C9A-DEBCA88C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0106B-49F8-4021-8151-4B09DDC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FB8DB-090F-4232-B8AA-06D5098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802-24B3-406F-9E18-686DF7B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EEDD7-DC39-46CC-8A19-28D05458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B3553-F86C-4779-AC1A-5D49530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96C1F-B879-4F1E-A9D5-EEEEF28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9F0EE-C3E3-4855-A3B7-A5F0B97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1C5EA-4A07-4956-9A6C-BE20BAD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714E2-809E-44DA-9DCE-BD2E432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DE78C-891B-4083-A921-2FB9FF5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72A75-4045-40F8-B94B-192F9C46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62A99-B739-4279-A305-E8B88FD3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1A41D-85E0-404D-84CB-36228499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7483-1331-484E-A52B-59FCCBF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9228E-21E4-4CF9-8292-7D4AE871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39763-E7E7-4479-8260-F7137DA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F96B1-4AF8-4F6B-B4FB-F15F096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45364-2856-4A91-99D6-DD085C7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06B9F-7B3C-48E0-B8C9-CD2E593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8420E-ECE0-41C4-8DAD-16610D0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6E9E7-E3E4-4D60-98E7-ED37217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60910-8878-4432-9C65-4F78209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B7FEE-035F-4A9B-83B9-102454C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2C846-C51B-4763-83B1-60DFE310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B9E-6987-47E2-8E28-AA3587FE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152FE-65CD-489E-9365-367CF4AE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7EE4F-358E-42EB-987D-5077BBE8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D6E9D-7DF4-4EFA-A7C1-8F859FD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4BDEA-CCB0-485E-99B4-E3B9D16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EC5D7-DED6-40C2-9B4B-5F5F8B82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C94D7-182F-4FB4-9CA6-5DF3ECE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2B723-00A1-464B-BC5C-8BBF890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7D9FF-4522-410D-AA90-F6E129D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21005-49B6-446B-9C11-5B0A3E2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14478-ABD6-46DC-A03C-09B30B6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4760-A423-4E90-8114-AC408034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081C3-E1AE-49C5-9BCF-CBD6A610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7CED3-20AC-442D-ABD7-16808916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EA09B-9C20-49DA-84E6-001BA6A9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10218-CE9F-40BF-BC15-74E0D84B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B01AB-C07A-4EF3-9383-C6199CDD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DCB80-65FA-4529-B1BE-78AC0500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C117D-C28B-4409-94F3-BD33972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FCFAE-0E6A-4818-88AD-78F71D31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9BBA5-0994-4A21-8294-4A2534A9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2D4A1-CE36-4D5D-9A96-88C79FE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80B-5C7D-40A9-BD3B-D77033D3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1A6-211F-431E-B49B-503D65F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AD5C4-12C5-41CA-994B-6F9961D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B206D-1079-49E6-B9E7-F6584F6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E87ED-0D0B-44CE-854B-BCDF594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9395B-CA8F-4459-B429-E922279C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6B9D2-E16E-47AF-84C6-300F5204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869C9-42EB-4214-88F6-A878D1A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5AEC2-ECC9-426C-A73A-BE2D8DC2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EFD11-ACB3-441C-A242-A7BA91D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0E1CD-B287-4045-8CF2-B56E2FA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1E4D2-B1C8-4890-9D83-A37CAB2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58A-F6F3-48DA-99DC-3289419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B8BFF-081E-4EDE-88F0-02B643DA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85F9B-D805-48C0-A89C-FAB0A9F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52E02-EF0A-4B4C-8FEA-B184DE7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1A2EF-B8E1-4FF2-B93F-F31C9B0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AD269-765E-45FF-9331-142F394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11FBA-7447-4FC8-A2D2-9D315C3F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337B9-E19B-4174-B5B2-790EB8DA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A1F6B-EAE1-4763-8A1F-BA1E82A6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29A40-4E70-4D10-B3E6-BA5EB23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6A472-52D1-4763-BB71-BEA2B1C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1B1A-E249-45B6-AE3A-E22960B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516C5-CB37-41AF-92A5-4C8A8D8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87A39-6C18-4D7D-A2CA-2442B625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1D893-0DF6-4433-AF39-5ACC8A8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0DA6B-7C75-4CFB-8DB6-FAB5EF9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CFAA2-DBAB-4A3D-96B2-3F2F187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BDFEF-578E-483F-96F5-D8CE40B5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043C5-A458-41BB-8FFD-572623EE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E1C2B-23FB-445A-8070-AEF4CC0D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3EDCC-3B3B-4E59-BD80-C9D891BD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0F59D-87AB-424D-ACE6-633E7B6A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B266-9B86-4881-B051-71B58C4D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20F81-FB08-4081-8EFF-2CB8E90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F728F-4A1B-4CD0-ABD2-9263D6E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B74F8-210A-4251-8FDD-A302504B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5F08E-1957-430D-9F6F-53B3BDEF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67C44-721E-49EB-8060-385AE67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5EE7B-E8C7-41A3-BF46-80E423C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C30EE-33C9-4078-8268-2C34EFC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427CC-6551-47D0-9AFF-36581BA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D015B-DF95-44AB-B21D-45D2EDC7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6050A-E2EC-44F6-83EE-0470B679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655-E255-4A22-9AFD-56656387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858EE-676D-481C-B38C-D9E8572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6A29B-A74A-43E4-A5EE-19530F20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38980-F798-4E7D-B679-10AFB9E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9E839-DA37-4368-A451-8AC6D037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1704B-0CCC-4060-BD6E-0C41CC1C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5E7DB-72A1-4983-B798-2490F84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330D8-AB0D-4EA5-81E1-13F2C515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3C2DE5-64D1-41D5-AF38-544A1B15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F414D-9C75-41F3-BA51-2BA36D7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4C4C4-C71C-4149-BC77-F6394CE0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8A7A-D9A2-4678-BD3F-1B040ED3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54728-0739-4D22-A549-270114C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8001E-7419-4007-8AD5-3E88C761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051D2-751A-4123-9822-3438CEB6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A5278B-8406-49E7-9BBB-8484A85B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83FB44-677A-49A2-8F90-DA76A98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BE0379-BE1F-4F3C-B1E3-67A6FB69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688DB-68CA-464E-A682-F55AC11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981D0-A85C-4B27-82C9-275E9DAE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DEE54-AA23-4B37-85DD-BFE6F01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00F44-93AB-4828-AB4B-87A5DD7F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8404-4909-46F6-AC42-7BA1236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475A99-AC4F-41B5-A0AA-D2A22FF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2AC70-1C75-43C9-8E80-FE72155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D95545-BE3A-4F23-A7A2-ADB4291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B46CA-A80F-44DF-B793-4892120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8132B-C8DA-4717-8FA4-9484317B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90578-C0D7-46F2-BEBD-BD3E31C0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3C056-44BC-4F16-8A54-CDDA1B73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DDC78-24C7-4DAF-9B98-F7C603E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06CD3A-2CA5-43FB-A3A7-B0C6221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5E108-E6DF-464A-843E-EEBA725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4238-17B7-4D15-91F5-83431FF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27AD9-3A45-4315-81A7-40D0784A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74828-84DE-4019-A855-2DD959DE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B06500-1743-44F5-8316-ACC67A41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1BAF35-1BD4-4FFD-8D01-D354FBC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DBE24-FE54-4AC8-AC25-CED9A3ED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C933E-623D-4A63-B7F4-44C40B6C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E99D89-A745-4987-AA47-591A2332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316E8E-EBA4-4BDC-9FA7-A4C68046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D66A7-E8D9-4588-A015-0C1EC8C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E0523A-840E-40C8-9501-4A51D974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22BA-316D-4B6E-8F68-E792C8B1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007F2F-D8E3-43E3-9358-C741C91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E07822-56CE-4A8B-9CCA-C76D6F40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6EA067-E2CB-48C1-856F-FD9F84F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2A9651-1EB7-4B0B-A4A7-F85F2EA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DFCD89-E913-4AEA-B907-C6F7747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83552-D114-41E3-BCF7-90E599E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B85D30-2827-4FA9-A49D-B6B44A9D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063BE4-57DE-4C45-B570-8323528C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675400-AECF-4ED2-9092-7F50E9E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64BE0-ED5F-4FD8-A642-2AD5D300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133A-9267-4A4A-B9E4-9D0A61D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D01A0C-BE02-47F8-8B29-3FFEB0D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CC7C38-8A23-4EA3-A437-BC233EB2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F1C6B-B8AB-4EC0-8977-B56F215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6F55B4-734B-46CB-9BE3-22BF5E9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4F1548-10CC-4865-A900-C75000B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AC2A5-027D-4BFA-B162-3640F26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321CCA-57E2-40ED-9861-CF2FE89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AC1F8A-622C-4854-B42F-B8FDE994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70B927-FEC8-49F9-B423-383B1C1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11EE5-9DEA-4114-8C1D-FC8C3ADB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A6E-F98F-4AF5-A1AE-F062B80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920B-FF9C-4495-8D9E-076CF59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95BE51-B376-4474-A640-3464960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88A2A9-5D60-4683-A7BC-3DF6DC7C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A774D7-3729-448B-A38D-34908FE1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22A3FD-C612-487A-B435-A3E55EC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A59C50-B195-49BD-8784-0F1FBD0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131FA2-DF5C-4BF0-95FA-15CDF56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3489AB-726B-411B-9562-68C412D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C7081D-335F-4706-ABCE-79ED01A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FCC0D-FF75-4A7D-A9FF-FA845BA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B0F953-661D-4E25-92D9-946AC09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9C7C-7351-47B6-89C6-800FCCE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832A3C-52AD-4363-98A8-30632D51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6535A-122A-4F7F-AB5B-9203B8DE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0599CC-1B6F-4E4C-AE34-E5172F82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4032-DEB7-42C8-8B92-BE66CC2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3E6F-10D2-4813-8E95-E384DA1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AFB13-502E-4F88-9E29-29CA046C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0F38-DA7D-40E3-BBA6-A885B40B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0561-A579-4992-8B4A-2BFCC86F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E3EE-1B0E-4A4A-B483-3BB91829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2662-0DE7-42C9-998B-DDBAA3FB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A100-F991-449D-AE8E-BD24C8E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173-5BF1-4400-B46B-FE7F5948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FD70-2C45-4E3B-93FE-2A437590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5E28-4985-4FE0-8651-B884F74C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85CA-2785-4192-8930-C83AED5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AA8E-48CE-4B49-A9FE-FDD94AB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2FE3-0F90-41CB-963E-F61C14F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5CCF-1BF2-4BDA-820A-B5CC08D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3F11-81E0-4937-B66A-8BB567A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828E-F5CE-4EED-98C7-35160EB3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27C9-E60F-4905-AC98-76831943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A04E3-EAC8-4803-8B09-ECED5523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38B-AB0A-46AD-9C9A-86F2ABA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F120-6ED2-497A-8765-EC981DE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34A5-A425-48C4-9C28-C3EA51B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34C4-BA1F-4A74-903E-85E846E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105F-E580-4828-B97C-0248B6B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C7D3-0BA4-4240-A5A1-04CAD58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10A6-EED3-45AA-813E-E801005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D8F9-FBB4-4456-8387-8977161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51D5F-616F-4141-B2D5-D2AFF3A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FE9F-307E-416C-80DA-794967E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DCCB-69BD-41E9-BDBB-703805CA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864-2E4A-4934-BEF1-C683F49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9DE1-6F0A-41C3-A547-36FFC3F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D268-3756-4528-9899-06171CF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9E74-AE40-4E54-95C8-7B291634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7F692-5914-479C-A80E-EABD85E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DEE3-DA6B-4EEF-812B-70304AF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A9A8-740F-4C6E-93FC-8053E5A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BE67-C45E-487D-BBB5-4108D558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2424-1EC4-43D4-BA35-65EAB80B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D91F7-C925-4B33-A456-8375CE9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392B-C12F-45C9-8F1F-E418BAC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4E9-95B0-4370-BF93-D7705FF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C12DA-CBB3-46BE-8F39-5EDB84B7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861E-78E6-46E5-BA04-DF073F6F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1B6D-F7E5-466B-966E-D7DEAB92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F504-1A2C-4CF3-B284-818E2EC4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E9D6-220D-4577-81E3-A8C0A82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A80D-3930-4848-9968-412AB17F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0390-C74A-4F3A-ACF2-96807E29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ADC1-BD7D-4055-894D-595C204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F4C4-0B6F-4DC6-B1CA-3FD76CD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4090-F540-4C93-9C2A-AD31F47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6F8-D8B5-4B9A-92E8-D8994805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8D020-142F-4976-A88C-980E711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8967-C9B3-44A9-A073-76E2049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A966-C3FD-4878-BB2D-A546B9A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FE700-BB4B-4003-83D1-798A37CA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01582-27DC-4659-A851-16FB2B57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A3D1-3F35-4B5F-99FB-7470FA57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AC26A-BDA7-409B-B370-2BCCB71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158F-E854-4BB1-8771-BF34B92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AF91-99E8-4AC0-91A0-E6CC3295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5A8D-9A69-4CB0-BF4B-CA59B67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E42-7BA2-440F-8B20-7EFE2E4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FEDE-F2FA-4F94-B375-15D38A6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8178-021E-433C-8483-AE904B4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E3FCF-A031-4975-8D3F-48511A7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1B75-F60D-40FC-9E3A-7ECB822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7B24-1E5F-4B18-957F-C3B64BDA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8EDE-6D27-4F8C-9BEF-5A1A0276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835C-B913-4AF4-8AD7-8C933270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BE6CE-B45D-4EC6-AED1-11436AB0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1A324-BA5A-49EF-AF53-979EA11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297E-7272-4E3F-9B8D-4FB7CA88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498-F859-4668-AE19-475DCE7384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3F1E-618C-42F2-8A57-8D0509CED8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B57-A144-495C-B838-09DDE82386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EDE-9AB1-4A42-99BA-E7963CF96E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85D-6A90-4E7D-B8A5-7D4EAB46DE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2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CB3-1C56-4542-AC38-CF1C9D7DD6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6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BE1-083B-4B7E-B4D2-0F13D27539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1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1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3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D355-0B7E-49EF-BB2D-70E2B1B6E6A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528-1EFE-4E12-85A4-9E909932569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2C46-F038-4077-920E-11F9641BC89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5F8-05DE-4C93-AFC8-0480069E46C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F05-9468-4441-95C5-C5D31B50662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E93-8C4E-487E-ABA6-152ADB62545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90D6-B969-4F2F-821B-BE21B7330C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6A67-1427-4360-800D-72518C19DEE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A06-37C1-4E12-9AC1-2E762EDED4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D11-B7B3-48E8-B310-0D700917EE2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1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1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4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8C2-1E82-4288-9696-918DD6B13B9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9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9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1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247-3555-47CE-8F25-320B263AAA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010-DB56-4600-BC1E-33FAA52B6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DCD-DB8A-43F1-AD81-BAFB155ED5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AB38-406C-44B4-AF2A-4926D707DC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580-69E7-4685-954D-03489A8B2E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AB6F-BA7E-4802-A209-563BC27CBF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3D5-8D4D-4AB7-AC97-352F9FC1CA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BB0-31E7-4AD8-88ED-6C8CC1F6B9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ЧИНЫ ДОРОЖНО-ТРАНСПОРТНЫХ ПРОИСШЕСТВИЙ И ТРАВМАТИЗМА ЛЮДЕЙ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Глава 2. Безопасность на  дорога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Урок 4. §2.1. Причины дорожно-транспортных происшествий и травматизма люде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профилактики пожаров в повседневной жизни и организации защиты населения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br>
              <a:rPr sz="4800"/>
            </a:br>
            <a:br>
              <a:rPr sz="4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портное средство — э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чник повышенной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609480" y="13712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точник повышенной опас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ая деятельность, осуществление которо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здает повышенную опасность причинения вреда из-за невозможности полного контроля за ней со стороны челове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кже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пользован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портиров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ю предметов, веществ и иных объектов производственного, хозяйственного и иного назначения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ладающих такими же свойств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удебная практи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е Пленума Верховного Суда РФ от 28.04.1994 № 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 судебной практике по делам о возмещении вре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енного повреждением здоровь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ущественная ответствен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вред, причиненный действием таких источников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жна наступа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целенаправленном их примене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ри самопроизвольном проявле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х вредоносных свойств (например, в случае причинения вреда вследствие самопроизвольного движения автомобил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ДТП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кнов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окиды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стоящее транспортное сред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препятст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пешех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велосипеди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гужевой трансп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живо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ДТП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ход трамвая с рельсов (не вызвавшее столкновения или опрокидывани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дение перевозимого груза или отброшенного колесом транспортного средства предмета на человека, животное или на другое транспортное средств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лиц, не являющихся участниками движ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внезапно появившееся препятствие (упавший груз, отделившееся колесо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дение пассажиров с движущегося транспортного средства или в салоне движущегося транспортного средства в результате резкого изменения скорости или траектории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ые причины ДТП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609480" y="1371600"/>
          <a:ext cx="7925040" cy="4784760"/>
        </p:xfrm>
        <a:graphic>
          <a:graphicData uri="http://schemas.openxmlformats.org/drawingml/2006/table">
            <a:tbl>
              <a:tblPr/>
              <a:tblGrid>
                <a:gridCol w="1100160"/>
                <a:gridCol w="330120"/>
                <a:gridCol w="855720"/>
                <a:gridCol w="1600200"/>
                <a:gridCol w="2133720"/>
                <a:gridCol w="1905120"/>
              </a:tblGrid>
              <a:tr h="639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Нарушение ПДД –человеческий фактор более 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Технические прич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рирод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Техногенные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- 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д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a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еор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/н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г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ч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е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етряс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улк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л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идр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од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у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е лав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ро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алы дорожного поло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изационные люки откры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ывы линий электропере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я газопров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ичностные качеств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ичная дисци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р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фессиональная подготов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 П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и навыки управления 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дические знания (ответственность за ДТ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техники в испра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распространенные нарушения ПД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ридическая литература и практика к наиболее распространенным нарушениям, повлекшим  ДТП, относ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автотранспортным средством в нетрезвом состоянии (25%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установленной скорости движения (17%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обгона (почти 15% ДТП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обгона в зоне ограниченной видимости, особенно на подъемах, спусках, в том числе на нерегулируемых перекрестках, когда у водителя, движущегося по второстепенной дороге при перепаде уклона дороги отсутствует достаточная зона видимости и он не имеет возможности видеть проезжую часть перед обгоняемым автомоби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маневрирования, перестроение, поворот или разворот (9%,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блюдение очередности проезда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блюдение безопасной дистанции движения транспортных средств, т.е. такой дистанции, которая позволяла бы, даже при резкой остановке впереди идущей машины избежать столкновения, а также необходимый боковой интервал, обеспечивающий безопасность движения  п. п. 9. 10 ПДД - более 2,5% ДТП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причины - резкое торможение, не подача световых указателей маневра перестроения, поворота, разворота, игнорирование запрещающих знаков, сон за ру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ая Целевая программа «Повышение безопасности дорожного движения в 2006-2012 годах»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записа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 Задач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упреждение опасного поведения на доро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системы подготовки водителей ТС и их допуска к участию в дорожном дви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детского травмат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организации движения транспорта и пешеходов в горо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времени прибытия соответствующих служб на место ДТП и повышение эффективности этих служб по оказанию помощи пострадавшим в ДТП (как одна из мер –совместное дежурство МЧС и ГИБДД МВ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безопасности транспор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у населения страны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общей культуры в области безопас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блюдение основной массой участников дорожного движения безопасных норм поведения и снижение общего количества ДТП, травматизма и гибели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7" name=""/>
          <p:cNvGraphicFramePr/>
          <p:nvPr/>
        </p:nvGraphicFramePr>
        <p:xfrm>
          <a:off x="685800" y="1523880"/>
          <a:ext cx="7848720" cy="1285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Основные Цели Программы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012 г. Сократить по сравнению с 2004г. Количественно-качественные показатели ДТ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личеству погиб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,5 ра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0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личеству пострада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безопасного поведения на дорогах – часть общей культуры в области безопасности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9" name="Рисунок SmartArt 5" descr=""/>
          <p:cNvPicPr/>
          <p:nvPr/>
        </p:nvPicPr>
        <p:blipFill>
          <a:blip r:embed="rId1"/>
          <a:stretch/>
        </p:blipFill>
        <p:spPr>
          <a:xfrm>
            <a:off x="530280" y="1560600"/>
            <a:ext cx="802800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такое культур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 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т глагола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ol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oler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возделывание, позднее — воспитание, образование, развитие, почитание) — понятие, имеющее огромное количество значений в различных областях человеческой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Запис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 основном, под </a:t>
            </a: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ой понимают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человеческую деятельность в её самых разных проявлениях, включая все формы и способы человеческого самовыражения и самопознания, накопление человеком и социумом в целом навыков и ум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ет также проявлением человеческой субъективности и объективности (характера, компетентностей, навыков,умений и зн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ставляет собой совокупность устойчивых форм человеческой деятельности, без которых она не может воспроизводиться, а значит — существ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набор кодов, которые предписывают человеку определенное поведение с присущими ему переживаниями и мыслями, оказывая на него, тем самым, управленческое во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Источник происхождения куль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еловеческая деятельность, познание и творче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 по теме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398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выросло количество автомобилей на дорогах нашей стр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чины обусловили рост дорожно-транспортных происшествий в нашей стр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влияние оказывает «человеческий фактор» на возникновение ДТП, травматизм и гибель людей на дорог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оритетные направления определены в РФ для снижения ДТП и гибели людей на дорог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общей культурой участников дорожно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параграфа 2.1. сформулировать основные направления формирования общей культуры по обеспечению безопасности дорожного движения и записать их в дневник безопасности (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технические предпосылки создания автомоби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ение колеса (движител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ение шасси (повозки, колесницы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ение двиг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аровые автомоби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0" name="Picture 2" descr=""/>
          <p:cNvPicPr/>
          <p:nvPr/>
        </p:nvPicPr>
        <p:blipFill>
          <a:blip r:embed="rId1"/>
          <a:stretch/>
        </p:blipFill>
        <p:spPr>
          <a:xfrm>
            <a:off x="828720" y="1295280"/>
            <a:ext cx="7257960" cy="4724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80" descr="220px-FardierdeCugnot20050111"/>
          <p:cNvPicPr/>
          <p:nvPr/>
        </p:nvPicPr>
        <p:blipFill>
          <a:blip r:embed="rId2"/>
          <a:stretch/>
        </p:blipFill>
        <p:spPr>
          <a:xfrm>
            <a:off x="914400" y="1676520"/>
            <a:ext cx="2793960" cy="154944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182" descr="220px-Trevithick_Road_Loco_01"/>
          <p:cNvPicPr/>
          <p:nvPr/>
        </p:nvPicPr>
        <p:blipFill>
          <a:blip r:embed="rId3"/>
          <a:stretch/>
        </p:blipFill>
        <p:spPr>
          <a:xfrm>
            <a:off x="4800600" y="13716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184" descr="228px-Oliver_Evans_-_Steam_carriage"/>
          <p:cNvPicPr/>
          <p:nvPr/>
        </p:nvPicPr>
        <p:blipFill>
          <a:blip r:embed="rId4"/>
          <a:stretch/>
        </p:blipFill>
        <p:spPr>
          <a:xfrm>
            <a:off x="1689120" y="3657600"/>
            <a:ext cx="556272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обиль Бенца, 1885 год. Первый серийный автомобиль с двигателем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5" name="Picture 16" descr="220px-Benz-1"/>
          <p:cNvPicPr/>
          <p:nvPr/>
        </p:nvPicPr>
        <p:blipFill>
          <a:blip r:embed="rId1"/>
          <a:stretch/>
        </p:blipFill>
        <p:spPr>
          <a:xfrm>
            <a:off x="1828800" y="1398600"/>
            <a:ext cx="5384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0 год, Вена, Австрия: Первый в мире транспорт на бензине. «Первая машина Марку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7" name="Picture 4" descr="220px-MW1_signiert_klein"/>
          <p:cNvPicPr/>
          <p:nvPr/>
        </p:nvPicPr>
        <p:blipFill>
          <a:blip r:embed="rId1"/>
          <a:stretch/>
        </p:blipFill>
        <p:spPr>
          <a:xfrm>
            <a:off x="2514600" y="1335240"/>
            <a:ext cx="3733920" cy="48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машина Маркуса 1888 (Технический музей Вен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9" name="Picture 8" descr="220px-MW2_05_02_24_klein"/>
          <p:cNvPicPr/>
          <p:nvPr/>
        </p:nvPicPr>
        <p:blipFill>
          <a:blip r:embed="rId1"/>
          <a:stretch/>
        </p:blipFill>
        <p:spPr>
          <a:xfrm>
            <a:off x="847800" y="1447920"/>
            <a:ext cx="74642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ификация автомобилей по двигател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1" name="Объект 3"/>
          <p:cNvGrpSpPr/>
          <p:nvPr/>
        </p:nvGrpSpPr>
        <p:grpSpPr>
          <a:xfrm>
            <a:off x="380880" y="2271600"/>
            <a:ext cx="7924680" cy="3726360"/>
            <a:chOff x="380880" y="2271600"/>
            <a:chExt cx="7924680" cy="3726360"/>
          </a:xfrm>
        </p:grpSpPr>
        <p:cxnSp>
          <p:nvCxnSpPr>
            <p:cNvPr id="1592" name="_s1028"/>
            <p:cNvCxnSpPr>
              <a:stCxn id="1593" idx="3"/>
              <a:endCxn id="1594" idx="2"/>
            </p:cNvCxnSpPr>
            <p:nvPr/>
          </p:nvCxnSpPr>
          <p:spPr>
            <a:xfrm flipV="1">
              <a:off x="7091640" y="3945960"/>
              <a:ext cx="306360" cy="181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5" name="_s1029"/>
            <p:cNvCxnSpPr>
              <a:stCxn id="1596" idx="3"/>
              <a:endCxn id="1594" idx="2"/>
            </p:cNvCxnSpPr>
            <p:nvPr/>
          </p:nvCxnSpPr>
          <p:spPr>
            <a:xfrm flipV="1">
              <a:off x="7091640" y="3945600"/>
              <a:ext cx="306360" cy="11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7" name="_s1030"/>
            <p:cNvCxnSpPr>
              <a:stCxn id="1598" idx="3"/>
              <a:endCxn id="1594" idx="2"/>
            </p:cNvCxnSpPr>
            <p:nvPr/>
          </p:nvCxnSpPr>
          <p:spPr>
            <a:xfrm flipV="1">
              <a:off x="7091640" y="3945960"/>
              <a:ext cx="306360" cy="44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9" name="_s1031"/>
            <p:cNvCxnSpPr>
              <a:stCxn id="1600" idx="3"/>
              <a:endCxn id="1601" idx="2"/>
            </p:cNvCxnSpPr>
            <p:nvPr/>
          </p:nvCxnSpPr>
          <p:spPr>
            <a:xfrm flipV="1">
              <a:off x="4622040" y="3945960"/>
              <a:ext cx="306360" cy="181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2" name="_s1032"/>
            <p:cNvCxnSpPr>
              <a:stCxn id="1603" idx="3"/>
              <a:endCxn id="1601" idx="2"/>
            </p:cNvCxnSpPr>
            <p:nvPr/>
          </p:nvCxnSpPr>
          <p:spPr>
            <a:xfrm flipV="1">
              <a:off x="4622040" y="3945600"/>
              <a:ext cx="306360" cy="11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4" name="_s1033"/>
            <p:cNvCxnSpPr>
              <a:stCxn id="1605" idx="3"/>
              <a:endCxn id="1601" idx="2"/>
            </p:cNvCxnSpPr>
            <p:nvPr/>
          </p:nvCxnSpPr>
          <p:spPr>
            <a:xfrm flipV="1">
              <a:off x="4622040" y="3945960"/>
              <a:ext cx="306360" cy="44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6" name="_s1034"/>
            <p:cNvCxnSpPr>
              <a:stCxn id="1594" idx="0"/>
              <a:endCxn id="1607" idx="2"/>
            </p:cNvCxnSpPr>
            <p:nvPr/>
          </p:nvCxnSpPr>
          <p:spPr>
            <a:xfrm flipV="1" rot="16200000">
              <a:off x="6360480" y="2491920"/>
              <a:ext cx="210600" cy="1863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8" name="_s1035"/>
            <p:cNvCxnSpPr>
              <a:stCxn id="1601" idx="0"/>
              <a:endCxn id="1607" idx="2"/>
            </p:cNvCxnSpPr>
            <p:nvPr/>
          </p:nvCxnSpPr>
          <p:spPr>
            <a:xfrm flipH="1" flipV="1" rot="5400000">
              <a:off x="5126400" y="3119760"/>
              <a:ext cx="210600" cy="60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9" name="_s1036"/>
            <p:cNvCxnSpPr>
              <a:stCxn id="1607" idx="0"/>
              <a:endCxn id="1610" idx="2"/>
            </p:cNvCxnSpPr>
            <p:nvPr/>
          </p:nvCxnSpPr>
          <p:spPr>
            <a:xfrm flipV="1" rot="16200000">
              <a:off x="4834080" y="2199600"/>
              <a:ext cx="210600" cy="119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1" name="_s1037"/>
            <p:cNvCxnSpPr>
              <a:stCxn id="1612" idx="0"/>
              <a:endCxn id="1610" idx="2"/>
            </p:cNvCxnSpPr>
            <p:nvPr/>
          </p:nvCxnSpPr>
          <p:spPr>
            <a:xfrm flipH="1" flipV="1" rot="5400000">
              <a:off x="3773520" y="2329560"/>
              <a:ext cx="210600" cy="9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3" name="_s1038"/>
            <p:cNvCxnSpPr>
              <a:stCxn id="1614" idx="0"/>
              <a:endCxn id="1610" idx="2"/>
            </p:cNvCxnSpPr>
            <p:nvPr/>
          </p:nvCxnSpPr>
          <p:spPr>
            <a:xfrm flipH="1" flipV="1" rot="5400000">
              <a:off x="2712240" y="1268280"/>
              <a:ext cx="210600" cy="305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0" name="_s1039"/>
            <p:cNvSpPr/>
            <p:nvPr/>
          </p:nvSpPr>
          <p:spPr>
            <a:xfrm>
              <a:off x="3434040" y="2271600"/>
              <a:ext cx="1818360" cy="41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ип двиг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_s1040"/>
            <p:cNvSpPr/>
            <p:nvPr/>
          </p:nvSpPr>
          <p:spPr>
            <a:xfrm>
              <a:off x="380880" y="2900520"/>
              <a:ext cx="1818360" cy="4183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аро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_s1041"/>
            <p:cNvSpPr/>
            <p:nvPr/>
          </p:nvSpPr>
          <p:spPr>
            <a:xfrm>
              <a:off x="2502720" y="2900520"/>
              <a:ext cx="1818360" cy="4183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лектр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_s1042"/>
            <p:cNvSpPr/>
            <p:nvPr/>
          </p:nvSpPr>
          <p:spPr>
            <a:xfrm>
              <a:off x="4624920" y="2900520"/>
              <a:ext cx="1818000" cy="41832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ВС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внутреннего сгорания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_s1043"/>
            <p:cNvSpPr/>
            <p:nvPr/>
          </p:nvSpPr>
          <p:spPr>
            <a:xfrm>
              <a:off x="4017960" y="3528720"/>
              <a:ext cx="1818000" cy="4172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_s1044"/>
            <p:cNvSpPr/>
            <p:nvPr/>
          </p:nvSpPr>
          <p:spPr>
            <a:xfrm>
              <a:off x="6487560" y="3528720"/>
              <a:ext cx="1818000" cy="4172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ефтепродук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_s1045"/>
            <p:cNvSpPr/>
            <p:nvPr/>
          </p:nvSpPr>
          <p:spPr>
            <a:xfrm>
              <a:off x="2759760" y="4156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одородно-кислородна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мес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_s1046"/>
            <p:cNvSpPr/>
            <p:nvPr/>
          </p:nvSpPr>
          <p:spPr>
            <a:xfrm>
              <a:off x="2759760" y="4840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гольный (коксовый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_s1047"/>
            <p:cNvSpPr/>
            <p:nvPr/>
          </p:nvSpPr>
          <p:spPr>
            <a:xfrm>
              <a:off x="2759760" y="5524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пан, бута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_s1048"/>
            <p:cNvSpPr/>
            <p:nvPr/>
          </p:nvSpPr>
          <p:spPr>
            <a:xfrm>
              <a:off x="5229360" y="4156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Бензи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_s1049"/>
            <p:cNvSpPr/>
            <p:nvPr/>
          </p:nvSpPr>
          <p:spPr>
            <a:xfrm>
              <a:off x="5229360" y="4840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_s1050"/>
            <p:cNvSpPr/>
            <p:nvPr/>
          </p:nvSpPr>
          <p:spPr>
            <a:xfrm>
              <a:off x="5229360" y="5524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изель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топли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«Дорожно-транспортно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шествие» 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ДТ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– событие, возникшее в процессе движения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роге транспортного средства и с его уча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 кото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иб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н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врежд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нспортные средства, сооружения, грузы либо причинен иной материальный уще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огибшие при ДТ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юди, скончавшиеся не только на месте происшествия, но и от полученных травм в течение 7 суток с момента ДТ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не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аждый пострадавший в ДТП, который был госпитализирован или которому назначено амбулаторное лечение. Имеет значение не срок обращения пострадавшего в лечебное учреждение, а наличие прямой причинно-следственной связи между полученными травмами и ДТ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5-09-12T16:31:05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