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1538-72BF-4F7E-9035-E5C47F1FFA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9C8E-1321-4206-AC48-64A0F5878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9E5-4018-483D-98F3-83EBAE2F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FFE-4641-4238-90EA-C63565FD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5D331-8F26-4695-A231-1318CA92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9C531-3B67-458E-9283-27E78E62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3D726-F31B-4B26-9D8D-AC553BF7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20D33-867B-483D-985C-5E929A82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DD032-91EC-4C1E-928C-A2EC9F2A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CB82C-C661-4FE3-ADD2-CE00D5DB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BC773-3EBD-4BF9-A241-E49108F4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981A6-A5C1-4A33-9CF5-9DC0F912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417AC-0E9F-436E-9933-0689DE9C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7E4CE-2CCF-4F95-B48F-A4DD9442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2CC-A94E-42E7-A1F8-5031D95A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E163C-BFA0-478C-BE6D-3B563C24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51A33-A487-4595-9F2F-3F40AA3C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8328F-9E4F-4072-9ECE-A4D13AA3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D2769-A478-496B-A1D0-70347C97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37AB8-19C0-4E24-9263-4AE154A3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87833-BF5B-4D42-A7D9-AECBC5B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80D81-B70F-48A4-9B7B-680AA4B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D6243-FDC2-4E16-9818-943B9C4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10F1D-52F1-4DB6-A41F-1A047006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3C72A-4DEE-467A-9AC5-C9476CA1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C63-6896-4205-9399-BBAEDF94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A5688-FAD8-4E0B-BB9E-E27897E7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F439D-0FA3-4BFE-B01E-F048D8FC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609CE-DC87-4C7C-8852-BEDF1F0B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44400-2FA1-47A8-A601-2BCFE9CF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05C5E-8B64-4ECA-AC3E-6BDD1A52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201C7-720E-4DD4-895D-FB18C4A0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61742-333E-4773-8612-FB20EF07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37BA7-E0BA-419B-AEB2-A243F994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BE18F-E345-4052-8752-B7B4043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C9EA9-D819-44B9-8EF2-9CEE1F67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BF70-23B3-492F-9883-ACD9C8CA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87E24-D22B-4899-9AFC-42484A6D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0A1BF-EE4A-4CA9-895A-BE285190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3E509-07B8-49DA-BB84-53F92105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E1854-1463-4067-B099-1AA3D2FB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7BDA3-16D1-4055-AA71-C11F3BF3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950B4-E09B-49E1-9BEE-E2E3EB9E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9C017-B557-4798-98A9-4FE2D2D2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ABC93-40F8-49DC-A222-80B4BCCF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27C85-E1DB-4603-BEEB-AD166903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AAF41-B046-4242-98BC-36D5DCE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D1E9-709B-4493-BA97-D795AE7A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E5BF4-DC48-4F0F-A0EB-1FD05C05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E5EA5-9EFC-43A4-AEE1-57FD2AE8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0CF27-C973-4A0F-92F6-BAF574E3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9FBF1-BF39-485D-9CEE-96E5ED75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41C97-CD8C-4704-AF2D-1698F1BF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ABC87-C7DA-4D58-AFCD-C8BE8547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67701-0A91-46E2-9F3B-210F9020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1EA1C-1997-4746-8B75-ACC5D3B2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852F0-5E68-4AB3-95BB-51F0AA26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84086-B460-4869-B358-481E98D8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8B6C-FCE2-41B7-B3F6-DFFDD314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07AFA-F3D2-4EC8-89B5-D18D2969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4CF1F-7AAE-4990-8924-E6396589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FB9E3-4DB5-4095-8857-FB857BD2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4F9E2-D90A-4E0E-B1B4-C4558E02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C0E40-07CB-4AD9-A566-C48F2297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B8FC6-F5C6-4618-B88E-5BA69813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B4ECA-5BC6-43C1-A845-FA83287C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8F0D5-B82F-4F58-B80D-A5EA1AA2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F88AC-DDCB-4907-94EC-C7D7D60C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2FE0E-4D76-4011-BA12-92EF7C36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337F-DA57-459A-9C8F-46B4D414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D0069-1AE4-4D7A-BC7A-EE4A3EA2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EA1E9-426D-42D4-9AA8-7DB0388A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701C9-B2AF-4C75-9FC8-5A88E651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4C71F-0412-4CC5-9FF8-54EA3C04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A7D5C-910F-48CC-AA7C-9E27EEC4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BEE8C-06D0-4B1F-9E46-679D2579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EBEC4-47D8-440A-B45A-93B9564A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206B2-DAC9-472C-967B-76D60F71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D9C5D-4913-495C-870D-17D705F2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71462-55F5-4492-9F69-6545469E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B997-BEA0-418F-B54F-88ACADD0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FC9ECA-6268-42F3-A79A-1CA167C8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C3ECD-4B10-4295-AD3C-65925540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19CC1-6BF3-46FD-A675-31B253DA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95579-ABCF-40CE-8080-DC7A7411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CBC08-5C64-40CF-BA62-D56813BA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8576D-BC41-4665-A38F-FE284898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42A13-AAEA-453C-AAA0-4C2CD66F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AE2A3-19C9-4469-85D8-E281ACC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344D7-1301-49AA-BA86-BD690FCB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E45B1-51D7-4842-8C70-EBE8EDC8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2EAF-F0EF-48FF-ABC9-9A7E4E5A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8BA17-A6D4-47C8-87AF-4002E388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98A9C-8696-4A2F-A80C-5ED0F5FE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31198A-5A78-47AF-A1E6-286727CE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DD918-A589-45F2-82BC-12513D56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550D9-55F6-43C4-A341-9F135749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A04D05-1B1D-4007-956F-9EFE0854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9C455-32DC-411A-8C20-958F4F70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BD028-7832-4EC5-8A61-BC5A0E1D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4258E-63C4-4CD3-A761-4DBF1268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DA732-BC52-4FB0-B644-5AF0F886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8EBA-7225-4EB8-94CC-1F4F6159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9FACB-696E-4F45-94F6-29634C21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0E42F-7845-4AFD-9C56-DA09803B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67D35-0638-44E3-ADC1-D4268F77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F29AD-03D1-4399-8C62-5C1DD8D1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544DC-038B-49FA-BAE9-A35FDA46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4BE2C-BC21-4B0B-A94A-7C6B40F1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F8E1D-A950-4B49-8192-520B2A87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D0615-EDF9-4D13-83F7-DA23B724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4E663-CE00-48EE-8DF5-07F1E9A6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FE8E8-73A6-41D2-A67B-E8CB07E2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E6A-CBBC-44DD-926A-3BB8FB15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91A0-D370-4731-AD0A-A6144F5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BEA2F-AEBE-40E4-90E5-0A7C3BBF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25178-3939-49A3-BD8D-0D259F3C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7AF70-54B1-4535-A5FF-A325C987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8FDAD9-F725-41B8-A7C2-F64EAEFF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C1F5D-56F3-449E-B9B0-5131960F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BA7B7-E8E2-4347-A251-DBD45240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F28EB4-DC84-47F1-BF96-41300A4B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AF964-66AA-4902-9DA2-E4DD9E7A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FACC75-F0F8-4E49-AD18-010AE891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DA164-B1C8-4C95-81C9-76303614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97C8-1FF0-4484-A2C0-26FEF672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267920-0DA2-4CA2-94D3-16626A40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BA7B30-6943-4F0E-9CC2-6D505110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8D02B-5DF9-45F4-BD30-B0763BE6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FEC11-D22C-444F-BB6C-99C7FD5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78D9A-7FD2-483C-BC57-F6BBDBCC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BD9839-A53D-4C39-B29D-168E4AC8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49E91-8C97-49FE-8824-AC7281C1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D4914F-79B6-4321-8BF5-A4496DA8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5EA1BF-EB5C-4B48-88E6-53384424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87284-DA3F-4363-AB20-61A8048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3FCC-8E33-4BD5-A0FB-350DE69D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564F3-5C2A-4FD7-91E1-DEFF9A9A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577A83-738C-4599-8EA0-57D37C72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783219-F92E-4BCC-98F1-BFE15F07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4EB676-96FF-4169-BAE2-712E971F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31071B-BDCC-446C-9096-458E6DD1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03BB67-1AB0-45E7-88A9-04C4FE82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80F1C-4473-4078-BDAB-0F42D859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589032-F08D-4C98-AF40-9C64B7C4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F1A85F-E05E-46B1-804A-A96FB61F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A9D036-7C3D-49E8-8E20-0F8128CC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DFDA-DCC7-4517-87AF-D3284FF2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AD5BF-ED64-46E1-A59B-547AC42E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9D4C5-F9A7-4277-916F-33C1DEFD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3EFD15-CB2C-4C1B-8D97-E5BEBFC6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F6171-CAE6-473F-B220-C36083E0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3928DE-0CF0-44B3-B691-9764E64F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F69A9A-FAA8-467C-B8F3-8419DAA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F32EAC-2394-46D5-A9DA-F4323500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CAB4FC-BFB4-4B71-B6B8-9C7078DC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D5FFEE-52D8-41CD-9D27-F6CE5326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130372-0446-43EF-962E-AC7EBEE4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BA50-0805-4F87-A5E0-EE2033B1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AB0377-30EF-4CC0-B702-1862A222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C16B0-B7CC-4F23-B1D4-84FE084D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873D39-65D9-45F2-A313-7F64522B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E63F91-1656-4DCE-AD56-5D39E1E6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5B2FA7-3320-4E2C-9865-6A2676E4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5B85A4-70A3-4F9F-B206-68A460B4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3DCCF0-85A3-4074-9E72-B4009051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F32901-4AE6-4AEF-849E-F3BCEFD6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765098-31BB-4006-AC47-CF119990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183378-DE5E-4479-B6BF-6A61975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041D-EEB6-4BC2-AEF4-BF93620C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DAE364-0D42-4581-9B96-8938B7F9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3D97A-8D3E-4DDF-896A-79B91A81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6B40D5-965D-4EEB-82F6-264DFA48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24DF7E-2D68-4E8B-9068-CFA1C824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EAB7AA-3C2E-4375-8C0B-6AC4EA1D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F86D70-EEEC-4634-947A-65695792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210769-3B39-40C8-81AC-5DA1FC10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DF85A4-0442-4BA5-A23C-F2E27A65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BF4007-F85C-4D27-B608-43F3C084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64E4BF-CDDB-40BF-874C-ECB3C6E9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7442-E2E6-4398-9FDD-564F3282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5E17DB-4925-4A65-AFF1-FC31CFA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7AB5FE-476E-4EC3-A6D8-E85DE7E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6DDC1E-9B42-422C-ACF9-86F24994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F985A0-6894-4719-9C77-883592F8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671C4B-017D-406A-BC7B-ED536614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0DAF49-1AC8-4D50-B99F-021E64CF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9D9397-E060-4DE1-9278-510E6F76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D857B2-DCC7-4412-830E-BD61260C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B4AF5-1852-4BB1-8B7A-C90C3353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BE53AB-5D7C-42AC-91F4-45C4FF93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E487-ADD5-4689-BF4B-3345146D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9CBF99-58B6-459B-807B-C77FB216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7C6A52-55E8-4446-AC5F-1B10C9B3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896D20-D9A8-4748-A1BB-43C5C1C8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E589E7-9257-41D6-8DE6-4F5E173C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EC3FE7-71DB-4BED-A620-DB9A6A15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0FF30B-206D-45C9-97F4-88939268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358573-5486-4A04-8DC8-D5636B31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4659B0-B060-47C0-B409-B5BA1571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7E6054-7F96-42A7-9899-6901A301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508AF0-AACE-48A9-A393-65933BAC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EC1E-4871-4F51-8FAB-F765C39A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E825A5-1A30-4359-BE18-E36B8669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7C5D60-8B3D-48D8-B96C-9CE5BE4F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5221E5-1701-47CC-98CB-837218E0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D0825D-FB5D-48EE-9786-B6FD2E7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933505-78C8-4361-BCAB-EF07C66B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65C88A-361D-48C2-9D47-18E72D54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093E5A-8663-4950-B61B-DF1AEE60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998135-6191-4E50-A6FE-5D8EF5C5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5899CA-E8BE-48B8-81EB-30F8FFF8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4EE06C-2D58-4CE1-A9EA-C14275D6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2C98-6109-4F3E-91CF-3ED98374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A0419F-CDE9-4939-BD13-A20B5F06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FC18D4-2753-4616-BA0C-98C43062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D037C8-A140-42DD-8FC2-01AA4A67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9BB28F-EC6F-47BD-B815-1FE3399D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B0258F-0228-4E45-BBF9-652DA885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3C9C79-4586-4EA7-85FC-1A33A947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24D083-9A8C-4A14-B259-A49BFD0B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61CB76-6B8F-4F19-AA78-7631F97A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A055A6-6099-4F87-95ED-D54C521B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D75DBF-EE44-4B42-AF41-698D9A5D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DD5-142A-41EB-BF75-90C97B8C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33E3-595B-456F-88F1-468BFE8E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72734F-19E5-46F2-AB0C-A757A8F7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FBD8F3-2A32-4316-B33A-F3823B1C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564E54-9FC8-4DFF-B08C-49FACFE4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05981F-9DC3-4B64-B59F-B8B338E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416427-09E5-40A4-9DE3-1BDA8A7B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3AC47F-0126-4B15-860E-4FF219B4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34177B-0F4B-49D7-8646-681B1077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17AB63-3A15-4A5D-B77D-5B6A283C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27DED1-36B7-4B71-9A89-3DED511A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EE7E15-4286-46CC-9442-09F5D67A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DC24-0206-44B0-9F7E-0A11C0A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4C88E9-A4E6-4DF2-8DDE-39D0FD84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EE65FA-E3CE-4D21-9677-B30C3263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B719D3-F4E7-4EFE-BFED-FAA55C46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BDC8-3F81-4561-98B8-49EFE32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9B86-74AA-4D32-AF4D-09AF1F32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FE95-93A1-49AE-868E-35DEE706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8B92-4E70-4155-BB4A-800895F2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9EB0-C28C-4BB0-B308-96A2F104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B7171-26F0-47C2-A31D-B55D1302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7BD19-9F8F-413B-A9F0-329C58C6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37416-3ED0-45DE-A0FB-9895CBE8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271-2EBE-4A21-8298-CCF0D7CF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E1ED-5B93-4BC2-A7F2-B56CC944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1806-B750-4DB4-A370-96B5AF6C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73F89-2D34-4339-BC3D-642EED41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35B9-2666-4377-B2ED-96D9DCB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C0003-EDB7-41F1-A57D-82172683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6E3D3-662D-4AA4-92B8-EA48851D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5AE8A-B8CA-4563-BECD-73C01A45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0486-29D4-43E8-86F5-2056EF4E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3624-EBBA-4CA4-BBFC-55E57F2C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F8FCA-1363-4F46-91BF-BB5A0D3C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465-FFF7-4ED0-96CB-56145E4C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F425A-384F-4316-9D60-A7BF7938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5DCCC-AF6D-447D-9CE1-750F5182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AA8BD-C19F-4F1B-A886-4B80B286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B79EA-A97A-497B-BA9B-E91FD7B2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13FE4-D2C3-491B-B17A-CD825A44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7B16D-A66E-4033-AA74-98EC2651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AA7DD-ABAB-4CF3-B0AE-386B2FE0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84CE-0B64-4EDE-AC0B-1151A921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179FC-C663-45DF-A988-C0ED0AA1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4574-BBEC-4716-9F68-60CE7A9A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A95-AF02-428D-A5B3-B648192F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9139-4513-4888-9969-CF266BCE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5721C-7C1A-497A-BCE3-7426D5BB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9560-B0AE-4995-90AC-0E0B5A0F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AA463-5347-4A28-BB87-0D792CE8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140D-CDDE-4D61-9772-A214EA2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84A5-07E4-4B34-96C2-06740971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4935-3A20-453E-A415-875054E3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54B53-9D51-4A59-8563-D3E0067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79032-528E-4059-97FC-A9BF56D5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920AF-8356-4B7E-80EB-BFCF8E55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175-7ADE-48DF-8A18-8C7278B2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33924-29BC-4F57-8E07-ADB5F1AC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8083A-B78C-4548-B373-3846C19F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C9AD5-C2B0-4FDC-B51D-79A3BFC0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A2B0-6EDA-41E4-8E43-0CEBB06D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B1363-88F0-49E0-84FB-BF400321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1628D-0F84-49DB-AB11-64097E57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F07FA-9595-4615-9EE0-3BBDF027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2B0F6-D2AB-4BD6-AB7F-87C997C7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0C156-60EA-495D-AFDC-4B4291B7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D048B-933A-4B53-90E9-4B893B12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FFF-C504-45DE-AEE0-F9B85113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98FD2-FEF2-4325-B0E3-A358E574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1A403-2A97-4F11-87A3-C8694CB1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85245-4ACB-4015-A7E0-7F69B60C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BCFFE-E1C9-4369-9B85-08E06902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CF515-27AB-4DD5-93BF-0358B87D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D08FE-51E5-40C0-8562-304F1261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7452D-90BD-4D9F-87E4-427BA7B7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A2F60-A193-412A-ADA1-AC97E263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F759-2C1C-485B-8656-6F748EFB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4170A-67E0-4910-AF18-5BC99C2A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613-D83D-445F-B943-06ACBCEA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DB012-7A5B-40BE-AE43-76EB867E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71FF5-F583-4346-8232-AF51F3D8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D503C-95FB-4712-BC2B-BD63B910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D7373-104F-45AF-B9FB-7E80FBDE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88F0D-6820-4FEB-BC7C-575D3C39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2F3F5-B5D1-49D0-AB38-E36780CF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F0CEC-CF56-4E04-A105-797FA130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CDC02-2C5C-43F5-A1E8-1162277A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B73C1-C86F-449F-8839-5ED5F611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392E0-7371-41C6-B8F6-6DAA95F9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8D01-9CED-457E-91B1-A8C66C7ADD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4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1EEB-0F04-4230-B2D3-DCA9456EB7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313D-5DD8-4BD1-8C89-540316E291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3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C10F-32CC-473E-939A-66BEF7C460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7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2D29-B357-45CB-A075-7966EC9988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2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C063-6BE0-44FB-B8FD-95DA00AA5A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6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E8E4-7F11-4C2E-BE01-3366BB9AC9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1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1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3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0C83-4C79-40E1-8E25-1D779A1C00C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CED6-F68B-4F3C-8296-00353E069A9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60C1-9491-4C47-8C74-8431EEEEE20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2EE5-E4FC-4F31-8F8C-670D4131EF5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780D-6D12-4C2D-9431-6B8338E0F75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5CDD-3F45-49CF-A7AA-E309B33A3D9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365B-665C-4BE9-9DF8-491F2C94DA6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7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8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0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6613-7337-491E-9453-23348CC2870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5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6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8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55BE-1A87-48FD-8DA9-AF00263B3A6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33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3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6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D129-F710-4A97-84D6-B5DC361CB05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1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1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4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585F-CA58-4CC0-819B-F1DB49CA3FD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9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9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1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353E-AFB8-41BE-B140-63823A46C46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59E3-D09B-44F3-B293-E3F14ECFEA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7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1E40-3870-48C4-9913-E14269B08B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31B1-04E8-4248-A3D8-4F0FBAB7BF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CC05-3A44-4559-B81A-22DD7FB6C1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0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5C18-AE37-4578-B626-1B1C6E3027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5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8B52-757F-4AA4-B910-6286FCCEEA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9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CE0E-C63D-485A-AD82-A6A9953C27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РИЧИНЫ ДОРОЖНО-ТРАНСПОРТНЫХ ПРОИСШЕСТВИЙ И ТРАВМАТИЗМА ЛЮДЕЙ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редмет: ОБЖ.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ласс: 8.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Раздел 1. Обеспечение личной  безопасности в повседневной жизни.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Глава 2. Безопасность на  дорогах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Урок 4. §2.1. Причины дорожно-транспортных происшествий и травматизма людей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рассмотреть основные вопросы профилактики пожаров в повседневной жизни и организации защиты населения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Разработал: преподаватель-организатор ОБЖ  Филимонов Виктор Алексеевич</a:t>
            </a:r>
            <a:br>
              <a:rPr sz="4800"/>
            </a:br>
            <a:br>
              <a:rPr sz="4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портное средство — эт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чник повышенной 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609480" y="13712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сточник повышенной опас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бая деятельность, осуществление которо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здает повышенную опасность причинения вреда из-за невозможности полного контроля за ней со стороны челове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акже дея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спользованию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нспортировк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ю предметов, веществ и иных объектов производственного, хозяйственного и иного назначения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бладающих такими же свойств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удебная практи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новление Пленума Верховного Суда РФ от 28.04.1994 № 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О судебной практике по делам о возмещении вре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чиненного повреждением здоровь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ущественная ответственнос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вред, причиненный действием таких источников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лжна наступа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целенаправленном их примене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а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при самопроизвольном проявле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х вредоносных свойств (например, в случае причинения вреда вследствие самопроизвольного движения автомобил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фикация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ДТП – </a:t>
            </a:r>
            <a:r>
              <a:rPr b="0" lang="ru-RU" sz="42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кнов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окиды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стоящее транспортное сред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препятств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пешех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велосипедис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гужевой транспор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живот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е ДТП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ход трамвая с рельсов (не вызвавшее столкновения или опрокидывания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дение перевозимого груза или отброшенного колесом транспортного средства предмета на человека, животное или на другое транспортное средств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лиц, не являющихся участниками движ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езд на внезапно появившееся препятствие (упавший груз, отделившееся колесо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дение пассажиров с движущегося транспортного средства или в салоне движущегося транспортного средства в результате резкого изменения скорости или траектории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ые причины ДТП – </a:t>
            </a:r>
            <a:r>
              <a:rPr b="0" lang="ru-RU" sz="42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2" name=""/>
          <p:cNvGraphicFramePr/>
          <p:nvPr/>
        </p:nvGraphicFramePr>
        <p:xfrm>
          <a:off x="609480" y="1371600"/>
          <a:ext cx="7925040" cy="4784760"/>
        </p:xfrm>
        <a:graphic>
          <a:graphicData uri="http://schemas.openxmlformats.org/drawingml/2006/table">
            <a:tbl>
              <a:tblPr/>
              <a:tblGrid>
                <a:gridCol w="1100160"/>
                <a:gridCol w="330120"/>
                <a:gridCol w="855720"/>
                <a:gridCol w="1600200"/>
                <a:gridCol w="2133720"/>
                <a:gridCol w="1905120"/>
              </a:tblGrid>
              <a:tr h="639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Нарушение ПДД –человеческий фактор более 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Технические прич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риродно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Техногенные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ител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- 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ехо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3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до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a"/>
                    </a:solidFill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теорологическ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/н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г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ч 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Геологическ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етряс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улк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л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в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Гидрологическ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од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у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ные лав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род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ж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валы дорожного поло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изационные люки откры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ывы линий электропере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я газопров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047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Личностные качеств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щая 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ичная дисципл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рж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офессиональная подготов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 П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и навыки управления 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идические знания (ответственность за ДТ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техники в исправ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02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распространенные нарушения ПД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ридическая литература и практика к наиболее распространенным нарушениям, повлекшим  ДТП, относ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автотранспортным средством в нетрезвом состоянии (25% ДТП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установленной скорости движения (17% ДТП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е правил обгона (почти 15% ДТП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е правил обгона в зоне ограниченной видимости, особенно на подъемах, спусках, в том числе на нерегулируемых перекрестках, когда у водителя, движущегося по второстепенной дороге при перепаде уклона дороги отсутствует достаточная зона видимости и он не имеет возможности видеть проезжую часть перед обгоняемым автомоби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е правил маневрирования, перестроение, поворот или разворот (9%, ДТП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облюдение очередности проезда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облюдение безопасной дистанции движения транспортных средств, т.е. такой дистанции, которая позволяла бы, даже при резкой остановке впереди идущей машины избежать столкновения, а также необходимый боковой интервал, обеспечивающий безопасность движения  п. п. 9. 10 ПДД - более 2,5% ДТП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ие причины - резкое торможение, не подача световых указателей маневра перестроения, поворота, разворота, игнорирование запрещающих знаков, сон за ру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ая Целевая программа «Повышение безопасности дорожного движения в 2006-2012 годах»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записа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533520" y="14479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новные Задачи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упреждение опасного поведения на дорог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системы подготовки водителей ТС и их допуска к участию в дорожном движ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детского травмат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ние организации движения транспорта и пешеходов в город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времени прибытия соответствующих служб на место ДТП и повышение эффективности этих служб по оказанию помощи пострадавшим в ДТП (как одна из мер –совместное дежурство МЧС и ГИБДД МВ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уровня безопасности транспор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ние у населения страны 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общей культуры в области безопас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облюдение основной массой участников дорожного движения безопасных норм поведения и снижение общего количества ДТП, травматизма и гибели лю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7" name=""/>
          <p:cNvGraphicFramePr/>
          <p:nvPr/>
        </p:nvGraphicFramePr>
        <p:xfrm>
          <a:off x="685800" y="1523880"/>
          <a:ext cx="7848720" cy="1285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Основные Цели Программы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012 г. Сократить по сравнению с 2004г. Количественно-качественные показатели ДТП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оличеству погиб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,5 раз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0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оличеству пострадавш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безопасного поведения на дорогах – часть общей культуры в области безопасности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9" name="Рисунок SmartArt 5" descr=""/>
          <p:cNvPicPr/>
          <p:nvPr/>
        </p:nvPicPr>
        <p:blipFill>
          <a:blip r:embed="rId1"/>
          <a:stretch/>
        </p:blipFill>
        <p:spPr>
          <a:xfrm>
            <a:off x="530280" y="1560600"/>
            <a:ext cx="802800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то такое культура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Культура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 лат.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cultur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т глагола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col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coler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возделывание, позднее — воспитание, образование, развитие, почитание) — понятие, имеющее огромное количество значений в различных областях человеческой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Запис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 основном, под </a:t>
            </a: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культурой понимают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человеческую деятельность в её самых разных проявлениях, включая все формы и способы человеческого самовыражения и самопознания, накопление человеком и социумом в целом навыков и ум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Культура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стает также проявлением человеческой субъективности и объективности (характера, компетентностей, навыков,умений и зн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Куль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ставляет собой совокупность устойчивых форм человеческой деятельности, без которых она не может воспроизводиться, а значит — существ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Культура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набор кодов, которые предписывают человеку определенное поведение с присущими ему переживаниями и мыслями, оказывая на него, тем самым, управленческое воз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Источник происхождения культу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человеческая деятельность, познание и творчест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ы по теме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398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выросло количество автомобилей на дорогах нашей стра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чины обусловили рост дорожно-транспортных происшествий в нашей стра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е влияние оказывает «человеческий фактор» на возникновение ДТП, травматизм и гибель людей на дорог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оритетные направления определены в РФ для снижения ДТП и гибели людей на дорог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ледует понимать под общей культурой участников дорожного дви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омашнее задание – </a:t>
            </a:r>
            <a:r>
              <a:rPr b="0" lang="ru-RU" sz="42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параграфа 2.1. сформулировать основные направления формирования общей культуры по обеспечению безопасности дорожного движения и записать их в дневник безопасности (тетрад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и ход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писочного состава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цел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ушивание ответов нескольких учеников на домашнее задание (по выбору учите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новым матери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ление и комментирование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времени следующе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технические предпосылки создания автомоби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3049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етение колеса (движител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ение шасси (повозки, колесницы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етение двиг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аровые автомоби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0" name="Picture 2" descr=""/>
          <p:cNvPicPr/>
          <p:nvPr/>
        </p:nvPicPr>
        <p:blipFill>
          <a:blip r:embed="rId1"/>
          <a:stretch/>
        </p:blipFill>
        <p:spPr>
          <a:xfrm>
            <a:off x="828720" y="1295280"/>
            <a:ext cx="7257960" cy="472464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180" descr="220px-FardierdeCugnot20050111"/>
          <p:cNvPicPr/>
          <p:nvPr/>
        </p:nvPicPr>
        <p:blipFill>
          <a:blip r:embed="rId2"/>
          <a:stretch/>
        </p:blipFill>
        <p:spPr>
          <a:xfrm>
            <a:off x="914400" y="1676520"/>
            <a:ext cx="2793960" cy="154944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182" descr="220px-Trevithick_Road_Loco_01"/>
          <p:cNvPicPr/>
          <p:nvPr/>
        </p:nvPicPr>
        <p:blipFill>
          <a:blip r:embed="rId3"/>
          <a:stretch/>
        </p:blipFill>
        <p:spPr>
          <a:xfrm>
            <a:off x="4800600" y="137160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184" descr="228px-Oliver_Evans_-_Steam_carriage"/>
          <p:cNvPicPr/>
          <p:nvPr/>
        </p:nvPicPr>
        <p:blipFill>
          <a:blip r:embed="rId4"/>
          <a:stretch/>
        </p:blipFill>
        <p:spPr>
          <a:xfrm>
            <a:off x="1689120" y="3657600"/>
            <a:ext cx="556272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обиль Бенца, 1885 год. Первый серийный автомобиль с двигателем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5" name="Picture 16" descr="220px-Benz-1"/>
          <p:cNvPicPr/>
          <p:nvPr/>
        </p:nvPicPr>
        <p:blipFill>
          <a:blip r:embed="rId1"/>
          <a:stretch/>
        </p:blipFill>
        <p:spPr>
          <a:xfrm>
            <a:off x="1828800" y="1398600"/>
            <a:ext cx="5384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0 год, Вена, Австрия: Первый в мире транспорт на бензине. «Первая машина Маркус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7" name="Picture 4" descr="220px-MW1_signiert_klein"/>
          <p:cNvPicPr/>
          <p:nvPr/>
        </p:nvPicPr>
        <p:blipFill>
          <a:blip r:embed="rId1"/>
          <a:stretch/>
        </p:blipFill>
        <p:spPr>
          <a:xfrm>
            <a:off x="2514600" y="1335240"/>
            <a:ext cx="3733920" cy="48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ая машина Маркуса 1888 (Технический музей Вен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9" name="Picture 8" descr="220px-MW2_05_02_24_klein"/>
          <p:cNvPicPr/>
          <p:nvPr/>
        </p:nvPicPr>
        <p:blipFill>
          <a:blip r:embed="rId1"/>
          <a:stretch/>
        </p:blipFill>
        <p:spPr>
          <a:xfrm>
            <a:off x="847800" y="1447920"/>
            <a:ext cx="74642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ификация автомобилей по двигател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1" name="Объект 3"/>
          <p:cNvGrpSpPr/>
          <p:nvPr/>
        </p:nvGrpSpPr>
        <p:grpSpPr>
          <a:xfrm>
            <a:off x="380880" y="2271600"/>
            <a:ext cx="7924680" cy="3726360"/>
            <a:chOff x="380880" y="2271600"/>
            <a:chExt cx="7924680" cy="3726360"/>
          </a:xfrm>
        </p:grpSpPr>
        <p:cxnSp>
          <p:nvCxnSpPr>
            <p:cNvPr id="1592" name="_s1028"/>
            <p:cNvCxnSpPr>
              <a:stCxn id="1593" idx="3"/>
              <a:endCxn id="1594" idx="2"/>
            </p:cNvCxnSpPr>
            <p:nvPr/>
          </p:nvCxnSpPr>
          <p:spPr>
            <a:xfrm flipV="1">
              <a:off x="7091640" y="3945960"/>
              <a:ext cx="306360" cy="1814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5" name="_s1029"/>
            <p:cNvCxnSpPr>
              <a:stCxn id="1596" idx="3"/>
              <a:endCxn id="1594" idx="2"/>
            </p:cNvCxnSpPr>
            <p:nvPr/>
          </p:nvCxnSpPr>
          <p:spPr>
            <a:xfrm flipV="1">
              <a:off x="7091640" y="3945600"/>
              <a:ext cx="306360" cy="113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7" name="_s1030"/>
            <p:cNvCxnSpPr>
              <a:stCxn id="1598" idx="3"/>
              <a:endCxn id="1594" idx="2"/>
            </p:cNvCxnSpPr>
            <p:nvPr/>
          </p:nvCxnSpPr>
          <p:spPr>
            <a:xfrm flipV="1">
              <a:off x="7091640" y="3945960"/>
              <a:ext cx="306360" cy="44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9" name="_s1031"/>
            <p:cNvCxnSpPr>
              <a:stCxn id="1600" idx="3"/>
              <a:endCxn id="1601" idx="2"/>
            </p:cNvCxnSpPr>
            <p:nvPr/>
          </p:nvCxnSpPr>
          <p:spPr>
            <a:xfrm flipV="1">
              <a:off x="4622040" y="3945960"/>
              <a:ext cx="306360" cy="1814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2" name="_s1032"/>
            <p:cNvCxnSpPr>
              <a:stCxn id="1603" idx="3"/>
              <a:endCxn id="1601" idx="2"/>
            </p:cNvCxnSpPr>
            <p:nvPr/>
          </p:nvCxnSpPr>
          <p:spPr>
            <a:xfrm flipV="1">
              <a:off x="4622040" y="3945600"/>
              <a:ext cx="306360" cy="113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4" name="_s1033"/>
            <p:cNvCxnSpPr>
              <a:stCxn id="1605" idx="3"/>
              <a:endCxn id="1601" idx="2"/>
            </p:cNvCxnSpPr>
            <p:nvPr/>
          </p:nvCxnSpPr>
          <p:spPr>
            <a:xfrm flipV="1">
              <a:off x="4622040" y="3945960"/>
              <a:ext cx="306360" cy="44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6" name="_s1034"/>
            <p:cNvCxnSpPr>
              <a:stCxn id="1594" idx="0"/>
              <a:endCxn id="1607" idx="2"/>
            </p:cNvCxnSpPr>
            <p:nvPr/>
          </p:nvCxnSpPr>
          <p:spPr>
            <a:xfrm flipV="1" rot="16200000">
              <a:off x="6360480" y="2491920"/>
              <a:ext cx="210600" cy="1863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8" name="_s1035"/>
            <p:cNvCxnSpPr>
              <a:stCxn id="1601" idx="0"/>
              <a:endCxn id="1607" idx="2"/>
            </p:cNvCxnSpPr>
            <p:nvPr/>
          </p:nvCxnSpPr>
          <p:spPr>
            <a:xfrm flipH="1" flipV="1" rot="5400000">
              <a:off x="5126400" y="3119760"/>
              <a:ext cx="210600" cy="607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9" name="_s1036"/>
            <p:cNvCxnSpPr>
              <a:stCxn id="1607" idx="0"/>
              <a:endCxn id="1610" idx="2"/>
            </p:cNvCxnSpPr>
            <p:nvPr/>
          </p:nvCxnSpPr>
          <p:spPr>
            <a:xfrm flipV="1" rot="16200000">
              <a:off x="4834080" y="2199600"/>
              <a:ext cx="210600" cy="1191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1" name="_s1037"/>
            <p:cNvCxnSpPr>
              <a:stCxn id="1612" idx="0"/>
              <a:endCxn id="1610" idx="2"/>
            </p:cNvCxnSpPr>
            <p:nvPr/>
          </p:nvCxnSpPr>
          <p:spPr>
            <a:xfrm flipH="1" flipV="1" rot="5400000">
              <a:off x="3773520" y="2329560"/>
              <a:ext cx="210600" cy="9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3" name="_s1038"/>
            <p:cNvCxnSpPr>
              <a:stCxn id="1614" idx="0"/>
              <a:endCxn id="1610" idx="2"/>
            </p:cNvCxnSpPr>
            <p:nvPr/>
          </p:nvCxnSpPr>
          <p:spPr>
            <a:xfrm flipH="1" flipV="1" rot="5400000">
              <a:off x="2712240" y="1268280"/>
              <a:ext cx="210600" cy="3053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0" name="_s1039"/>
            <p:cNvSpPr/>
            <p:nvPr/>
          </p:nvSpPr>
          <p:spPr>
            <a:xfrm>
              <a:off x="3434040" y="2271600"/>
              <a:ext cx="1818360" cy="41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ип двигат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_s1040"/>
            <p:cNvSpPr/>
            <p:nvPr/>
          </p:nvSpPr>
          <p:spPr>
            <a:xfrm>
              <a:off x="380880" y="2900520"/>
              <a:ext cx="1818360" cy="4183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аро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_s1041"/>
            <p:cNvSpPr/>
            <p:nvPr/>
          </p:nvSpPr>
          <p:spPr>
            <a:xfrm>
              <a:off x="2502720" y="2900520"/>
              <a:ext cx="1818360" cy="41832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Электр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_s1042"/>
            <p:cNvSpPr/>
            <p:nvPr/>
          </p:nvSpPr>
          <p:spPr>
            <a:xfrm>
              <a:off x="4624920" y="2900520"/>
              <a:ext cx="1818000" cy="41832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ВС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внутреннего сгорания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_s1043"/>
            <p:cNvSpPr/>
            <p:nvPr/>
          </p:nvSpPr>
          <p:spPr>
            <a:xfrm>
              <a:off x="4017960" y="3528720"/>
              <a:ext cx="1818000" cy="4172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Га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_s1044"/>
            <p:cNvSpPr/>
            <p:nvPr/>
          </p:nvSpPr>
          <p:spPr>
            <a:xfrm>
              <a:off x="6487560" y="3528720"/>
              <a:ext cx="1818000" cy="41724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ефтепродукт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_s1045"/>
            <p:cNvSpPr/>
            <p:nvPr/>
          </p:nvSpPr>
          <p:spPr>
            <a:xfrm>
              <a:off x="2759760" y="4156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одородно-кислородная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мес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_s1046"/>
            <p:cNvSpPr/>
            <p:nvPr/>
          </p:nvSpPr>
          <p:spPr>
            <a:xfrm>
              <a:off x="2759760" y="4840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Угольный (коксовый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га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_s1047"/>
            <p:cNvSpPr/>
            <p:nvPr/>
          </p:nvSpPr>
          <p:spPr>
            <a:xfrm>
              <a:off x="2759760" y="5524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пан, бута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_s1048"/>
            <p:cNvSpPr/>
            <p:nvPr/>
          </p:nvSpPr>
          <p:spPr>
            <a:xfrm>
              <a:off x="5229360" y="4156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Бензи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_s1049"/>
            <p:cNvSpPr/>
            <p:nvPr/>
          </p:nvSpPr>
          <p:spPr>
            <a:xfrm>
              <a:off x="5229360" y="4840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_s1050"/>
            <p:cNvSpPr/>
            <p:nvPr/>
          </p:nvSpPr>
          <p:spPr>
            <a:xfrm>
              <a:off x="5229360" y="5524200"/>
              <a:ext cx="1862280" cy="473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изель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топлив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 «Дорожно-транспортно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сшествие» 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писа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ДТП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– событие, возникшее в процессе движения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роге транспортного средства и с его участи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 кото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иб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н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д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врежд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анспортные средства, сооружения, грузы либо причинен иной материальный уще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огибшие при ДТ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люди, скончавшиеся не только на месте происшествия, но и от полученных травм в течение 7 суток с момента ДТ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не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каждый пострадавший в ДТП, который был госпитализирован или которому назначено амбулаторное лечение. Имеет значение не срок обращения пострадавшего в лечебное учреждение, а наличие прямой причинно-следственной связи между полученными травмами и ДТ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15-09-12T16:31:05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