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080A-D370-4D00-8B4E-47409CFF63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17B1-B809-4E4B-8AA4-0A3CC1244D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106-A253-40B0-B72C-47567D27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E9F4-805D-48F0-A7BE-AC2F7C10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BF204-6366-4318-ABE1-DB924E33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A2B47-5D04-4041-BA42-DD18DAC9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A9277-5F72-4768-939F-C17131D8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05293-7117-4B1E-AF67-6F776E46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1EB40-F962-440B-8F11-EBA01594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E23EB-4FEB-4FDC-B765-217F35F0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82A52-A992-4794-87C4-655785ED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BE759-49A1-48F9-BDDF-CE5FE3FC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C5AB4-CC0B-4E7C-98CA-85EE5799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21150-8C6C-42C2-8B88-5EDF226B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0FF-A6D4-47E2-9ECF-E10D3BF9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D6387-4318-4219-88D5-08343A97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65DAD-E57A-46B0-B2F8-E99E015D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CDDFC-64FD-4199-837A-8E7CE24A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0C2AC-6D59-4AF0-9239-53255B46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884E5-8CA8-499C-8AAA-F2CED348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6A99F-3309-4281-8FBC-2490CB11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A75A5-3D76-47ED-9434-B067020A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72DD5-0138-4816-84E1-6AFA9794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9047A-8FAE-498E-BEC0-BB54316E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8114D-992F-4EC0-B1C3-AE7E5E55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053-B5AD-4761-A0E1-1C4834E1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E5B1C-EDC8-4E83-A0FC-3C9B3915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F0DA4-E0D6-4AAC-B372-321D1623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5EE5D-F420-4A08-9998-C8CD4409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DBB55-483E-411F-BE39-8AE84767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FCCE9-4132-4B70-8C2A-67AD5A72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4C0D5-DFC3-47FC-ADFF-4B134D9B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F366C-4CF6-4ECC-8644-DA195C21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35E5C-9112-4E50-AE4F-64FBBD7B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9182D-03B3-444F-9CB4-20C67FE4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53F03-772F-4EC4-A2E9-B674D300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A261-2B52-4DA7-AE07-C0E69E84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00716-2CEE-429C-B1EE-F10EE9EF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338BC-35F6-403A-B09B-9CB7021A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3B7B3-55D1-4E62-887E-7500C8DB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31F44-DCA5-4BCB-A9AD-9446A40A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C47EA-A5E0-4926-8CB7-45F19A50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7F813-A745-4868-8F0C-34CEA335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98165-4F99-4EFA-B45D-B37189B7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CAB85-7B62-4DD8-812F-9F67E723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05902-F433-45EE-BDC2-CB1D0AF7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30C19-C9B6-44D0-8E71-2E6A966F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D5FE-FBE3-48CB-9320-50856378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700AF-C72F-4E2C-A261-ABC0C679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74A02-15B1-4512-9569-B06CC156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3F1F1-E745-4095-A58B-96736133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59418-4BBD-4224-94AC-CDDE4EB5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92C03-1BCC-479D-8D6E-DE98ADEC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FB4EE-78B7-4ADF-A2A6-F7966999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80E73-4621-4A70-A475-940C137A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C5D6C-A512-4167-B9DA-5CAC3AA7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09997-843B-4044-8C96-7EDA053D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0AD8E-CFE1-40BA-87ED-C703F69A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32B7-DD45-4444-983D-9E07B62A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7062D-CB4F-4D16-9673-E0CFB5BD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8F3A8-16C5-4BAD-AD27-0F88E6F4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0C0FE-ECF3-4DF0-A3BD-59970DED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351A6-DD49-45DB-879B-24463C22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94CBD-B883-494A-B49D-7E36E932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059A2-C9BF-4200-8AF3-F93C6E52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43354-B975-436A-8F0F-7462663E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515BBA-554D-4507-9BC3-DEC32BFE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54166-8CA6-4543-AE9E-EF8AC2B7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B57F1-91E0-4197-BA6E-85E210C0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1664-54BD-441E-82C1-29AAF4BE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5D877-8AC9-4ED2-8345-E94420C0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FBA00-8315-404C-8653-D89B9A31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8F56C-DAD3-49E9-87B0-AE2A6DDF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87741-E219-4175-A785-60081917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5F137-82A8-4845-A977-248B57AE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2CD13-02EA-4D36-8114-9EF18CD8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2FE10-CF0F-4965-9F37-32257D5E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66325-9DFC-4EDC-9370-4F9481C2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9EB56-09E4-4B34-B088-CAF625BE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3E459-99B7-495F-A689-9A406CEA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C114-057E-4384-8C5F-026FB321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D9A4FD-82C5-433C-AD96-5CCD627F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A2A86-1619-483A-9BCB-96EFB538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FD1473-870B-4EB5-9EB9-CD89F650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D9735C-8940-4365-8A93-71532790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EAE9A1-566D-48E0-B2C4-11CC5AAE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72F224-651D-409F-8D33-3698D8FA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8C8417-16EC-4C78-97FE-ADB2622C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200CDC-9013-4F95-9772-D8594E46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EEFC5-0FB0-4AB0-A4F2-44BEA93B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37ED86-B0A9-48E6-B6A7-B69D9CED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D700-E0C4-46D2-9F75-55E11BEC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E6B58-0319-460B-9E2A-72CEC828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27E41-4D13-4782-BE5A-CE2C8A52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3D1447-1849-48D0-844D-06ADDB7F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CAC81-B25F-4391-BA7D-C3DD0D7E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DB4A4F-48AF-49F6-A9CD-DFB64178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24229-201F-49CD-993A-378916E3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93E3B2-5F5D-4468-B73A-A699B76C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08FCD-38E5-4E4D-84B8-281D1F9E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965752-C5B6-42B8-938E-0C3C6FB5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4BF24-B744-447D-96CB-A252E8F7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B389-09CC-4CA6-819E-C1884159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907F56-3FC6-4B2B-8F5F-772F4933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EB13E-1551-4BBE-8FFB-D4744438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82CDF-3D9C-4BD7-858D-439E3A36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A16D2E-EDEB-4EA1-9DCC-B6845786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445D9C-21D4-40D6-8703-51AC1985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CB2144-695C-4955-B42F-31A099E4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F06225-7CE5-4B1C-887F-C53C86C6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5575FE-2758-432F-9663-E5FDF1ED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96E552-8452-49E4-940C-38979A33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C4999-DAB0-43F7-99C2-5EA88DEC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62A-D775-4583-89D2-74F8E639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8F2F-F347-44F4-B465-D1994A34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51A11-0E8C-4346-859F-BAD6269A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8FEB96-4280-4F28-BDB6-3965B5B8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09C3B9-DC2E-4A14-85C5-766F12D4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9CEF1F-3116-4E50-BDBD-CCF1BCDA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3BF262-5F10-41DC-85A7-4E427A7C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200B4A-0710-4B8C-BE32-ADA20622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2FB11E-1896-4586-B82D-9575E12A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3E9DD6-0851-4255-AC59-6EFBDD8C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EF569-9523-46A8-BF7D-E5FC451A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5A6D33-70DE-4147-9651-76081BAD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39EE-FD74-4EE5-AD1C-0E1B243D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FC16EF-F911-4E9D-B27F-BDFD7121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3F201A-D5AD-42F3-A8A7-9C177A1C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439FC7-478B-4DDB-9CBF-F4EEAB07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042FA5-EC5B-48B1-814C-DF561E57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F5795A-F5BA-4C74-8B44-524221DB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6E1F47-356B-4F6F-84F7-EC8FE56D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CEF56B-63BE-48D4-AE1F-A28EEC1B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3DB2FD-D44B-4A4D-B89D-4590961D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FAB398-5CC8-4739-BDF9-B0CBC889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8CFB10-77D1-4D38-B1F9-DD9BD5D7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DB0D-9C38-4500-84A7-4A0942BF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59AAAA-EA4F-4635-AFBB-0F5423A0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D437EA-739E-4415-81C3-37939B7D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EB689E-4E03-4AFA-8C9E-3C3FBC7B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C64276-A1B8-4D06-B140-09A81210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35084B-D849-4143-B7A8-8A85DF93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51EB0-5F47-4873-958A-732273E6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4855D0-EFB9-46E9-87D7-447F77EA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08BE48-574A-45F3-9BA3-55E599E5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663F6C-484E-47DE-B656-F614F78E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50D0F5-171E-4134-9132-3706B3E7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07A7-7F54-4C2E-B1F6-7818E150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B11C13-46B9-47B2-98F7-AB6623F4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5A5DF7-0AF3-49A1-BDD6-A77010AB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F03433-77F2-47D9-850D-7E324FD7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A041D8-E107-42A0-89DF-183E4F34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1751B7-72B7-4598-9E68-E7AFD463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F9095C-DFDD-42D2-B454-CFAB52F3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36B833-05DC-4B75-A08A-ADD0D5EA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E79599-5DD8-4EC6-8FC5-EDA64635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C5660-B992-4CAA-920E-9552D1C1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74CDF0-3C18-4E4C-874E-16D07587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98FC-6329-4CDC-8C27-96929BB0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9A4CC7-ECE2-4730-8F88-30DB6C3F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7A6917-468E-4C70-8763-53EDB1A3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44172E-9027-445C-80A7-DBB3D014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081102-A69C-4656-9CDA-D1808A07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B8493D-721C-458E-92E5-AFBB2620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C5E5F3-D18C-4FA3-8E40-7CD8F978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94F0F5-3576-4325-A642-77220B40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0EF3A7-3EC3-4281-AD0F-963E5F8F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199CCD-0565-47A0-82CE-A2F02634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585E45-0200-4552-8BFD-DDFD34C5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1A773-1B29-4336-A5CA-82C8EA79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F01FC4-7CF0-428C-9BC5-F8B88034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638C6E-E577-4A7B-8E27-33FAFCB8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6838EE-032C-4763-96DB-948DD2DA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49BACE-CCD9-4B7B-BC61-4B130D25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C6BD9C-B978-4F6F-B548-591BAB37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9DC3F8-3BE7-47C3-91E1-1FB28546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BA17C4-20ED-4263-B9D7-D2531775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0709CC-A809-40A7-98DB-1865F251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BEBDBF-CFF3-472B-8C40-17E0CD15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6C025E-3D7F-4A5E-A28F-23FE6E15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45AD8-90A0-4352-BC84-15EA8D25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6612C8-F30A-4F86-97EF-BA761CAC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E4745F-745D-42DB-948B-2C4B7A50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36BBF2-39C0-4724-85BF-FD070231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CAAAD3-FCB4-4E37-A570-C0CD5437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062D29-6139-4B73-B281-63A7B30C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3CD118-C789-4DC1-B373-2B0E5C2C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C51617-F6A5-4474-B6E6-0AB9EE6D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D0341F-8610-4EDF-9C96-CC58DC0F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483FEA-D759-405D-93BD-B220F416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D0E636-A744-4AEA-A14A-A57EEEA0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141C6-F0B4-44FC-BE9D-364079CF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14A834-C699-44FC-B393-65E0B32D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2EC489-E440-41F3-A7FA-08D894C4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FEF84C-86C3-4667-A012-44707369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D862EC-D2FE-4BAE-A2AF-E6AEBDE9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72F93D-7CED-43AD-8BA0-37C2A3BA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01A584-1C4D-4D45-94CD-8D83E26D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4F0A3F-0ACC-49EE-999A-4B983DFA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AC9065-29B0-4A09-A79E-DBB5AA2B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5A725A-937C-4177-A9EF-2B2D0A15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4B5AE9-4E2F-428D-8229-9409663A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8F7D9-74F4-47E1-B4C5-17AC4F49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52B64F-F8AE-4040-97A0-0DFE78AB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22FF15-79E4-4CB9-8282-9F380D75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738E99-D5A1-4E81-BC6C-3BC42D66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132A5F-97D2-4035-991D-1019B4A3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6EDA78-C3B3-4C42-91B7-DC370ACC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AEE556-2B26-46F6-942F-123E6B01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073949-D673-424E-BE07-1525AEBC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963A5C-05BA-48B2-8950-FFA82172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552BBD-48EA-4FC2-AA46-F6C363E3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2469BE-8199-4968-B3E8-AD268493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8C0EE-8265-4E0F-AD47-D8D7AB08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611BA5-15D3-433E-AD3D-C890221B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93E475-FE71-406F-A33B-63D75945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507AA1-9466-4340-A791-11DB3038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88373C-AA28-45AC-9DFA-EBF5DCA0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290871-A1FB-4B15-9939-FC412E4D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90A3B0-3D2A-48B7-8766-46755AB2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C65811-158C-467C-9C3C-02E64F9B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6AC557-D005-434A-9101-B2000B82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663531-AEA0-4A7D-8FB2-EE5471F4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85939A-B998-43F9-BDB0-AB2C68EA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84A-0D44-4DC4-82CC-7800D9E3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86D1-2BB3-42C4-A6DE-123C47FD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671F85-BA49-4F17-BDB7-45D72958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F9FE7A-8555-4F8F-9057-5ADFB341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063DE6-56E4-4A1B-AB67-34FE3CDF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A242CE-1878-46D9-80B1-9794FB58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5EE349-E2E4-42C0-9E3C-1C83FCBF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10BC1C-193A-432F-82F4-82435E4C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78F2C9-2FA4-4027-9AD9-66B80058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E0B07E-5B43-4883-BA1B-BAC844D1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F0F5A0-6671-4D79-992A-DBA7BE11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2E3B6C-84BE-4B33-A237-4623EAFD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73C5C-3088-413F-8943-78CB3605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64CCFC-FAC7-49BE-8F83-8C9AEB6E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9E36D5-FF36-4E9E-A6E0-09DCD988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BFEBDD-2FE2-41B3-A26E-55085921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4AF61-D8F8-4CD2-9A21-C8B9D4D0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25B0B-AB7A-46B2-9614-8F9E8A2F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03D0-A5FA-4AA2-A196-DBFEFBD0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FB28A-B3F0-4DF7-8F7F-ABD662B4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39E6D-584F-4B60-83CD-64A2D88D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423F0-B09C-4859-B56C-E3251AC8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68F98-F013-4983-AA13-82DFB723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3A3D1-2D5C-4052-8760-B920C53C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D86-BC88-40B3-8E86-7746223A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5C8F9-2AE5-4494-AE98-AB1CD63E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B6C70-25F6-4C81-AD07-C7671292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EC97C-FAB0-4215-89C1-930B5917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93DDB-A46E-4D83-88D3-5D4AEBB1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0A00E-2919-47F5-BE1A-5B275C7D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52B9C-3AD4-4275-9712-51246623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337E2-35D4-4D8B-98F1-BC568569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248E9-3A4F-470C-8D72-28B1F586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B1820-970E-475D-9373-1CB08434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0D32B-6E9B-4B0B-A1B4-6E114154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8D8-7AA8-47A9-AEF8-1C8FA4CA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6DCA5-9CFF-46D4-89B5-71F6F262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2EB1C-B89A-4072-950A-15DFF685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F8718-01E1-4DB9-8037-B28C317F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01531-9461-4925-AD5A-6D190744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A2106-D036-4A3E-8219-EEB271E5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7049D-E38B-42C1-809B-5488DB9F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249CD-B249-49C9-A1CF-E49C18B6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DDFBB-E6EB-4B45-9B22-E132ACFC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A9619-AE1E-417D-988D-1C09F2E9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39AEC-60A6-4539-A272-ECEA4423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CB7-0849-4E43-83E9-C40F20F9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F808E-948E-41A1-8D43-837876FE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05B9A-8C7C-40E5-B78F-D95BAF30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78595-423E-4356-9D6D-D31534D9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9A5DF-32DD-4457-BF14-3E3831C9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D7A3B-CB2A-42DD-8EB5-B9DB3C1D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4CD7D-1637-4297-8928-AF0A7FBE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5BC93-CEAB-4FB5-A55C-54AFF35E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89595-B415-412A-848A-7D2E122C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6DD24-42BF-40AB-AB8A-B8D9BDB4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8D344-5801-4195-B866-5EFB30F2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6DA4-9558-4EAC-A77C-D093EE5D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511E5-41EF-4794-8082-F8970C24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27D0B-8DF5-4F54-A4B7-68A82DEC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A3C7C-7667-4EE1-9372-C0B68415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033DA-1FD7-4A5F-A157-847D37DA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1E421-88D0-4D67-815E-DA8A37C7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B45F8-7673-4588-AEA7-F30CA7E7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75244-FEE4-4146-9DD8-4C8AB992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361FD-8240-4753-AE7B-C286FCCB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B8BA1-3541-4CD7-8EAE-7DD392EE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64B74-DFF8-4593-A779-099361EC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099-DA60-4031-AD1E-CC95B09B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986B8-B7C0-4BB4-9345-E6815355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34E34-1F7E-42BA-80C9-A037F04B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7CA3F-A207-46B6-8218-A8A9075D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32FDF-0334-4BCF-B601-A3ED7E45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B688B-70F0-45C4-BE04-E6AABDD2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E6BCC-6A15-45B3-A744-7FFA9278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C093C-64FA-4D15-976D-0FD07A02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224AB-9B5D-49A3-A517-17136879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00ADB-4324-410E-820B-263A6A54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B9D21-60D8-433B-AD2E-5A3A8B11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36C-788C-42D7-BACE-B6D93C7B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F1D50-A7AC-496F-AD86-FDF795D0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764F3-A077-418F-9F40-73D51714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7CAD9-71CA-4F0E-96DD-79F90D42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91758-7011-4E83-91A6-04CECA04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A0530-E0A1-4801-8CE5-709139DB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6DDB1-4A25-44F8-AFC3-06748130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C3A04-AA03-4575-986A-546813C1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98530-2E20-4398-B08F-8925BE70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1ED6C-B05A-4CE3-B54E-5A3723FB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B199D-BA17-430A-88F0-41A4D413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F70C-3E5C-4D62-A7AC-05A3C6F6FF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4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64D4-75FC-41CF-9A8A-ED4DA1477E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8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7D81-82C5-4153-B3AB-17356AEE8E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3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F3E9-9F8B-489F-9591-D56456116C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7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C9F5-E217-46A1-B3E1-FD026D8AD7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2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7D42-9746-4F9A-B509-C3F5155AC1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6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F750-4752-4B2B-B02A-A7B4D05C9D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1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1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3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C9C9-96A3-4086-9E9D-E7051B322CA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8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9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1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33F5-8EE4-419C-AA31-B2A9F8759CB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6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7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9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EF2F-57E7-471D-8338-A35E1F4EF75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218F-F186-47E4-B7F5-A327A2FC820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EA0B-1C21-4D38-A7A7-70453511323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2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2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5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AEB6-91FB-4CD4-B33B-EB9D7D4AD60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0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0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2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F0C1-B5DD-43A6-AB69-C3B23FAC036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7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8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0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D75B-9BD5-4C0D-8B6F-FCA321A2AAD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5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6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8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CADB-3869-48D8-AE42-249E7F106C8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33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33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6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B0FE-A548-43A1-937D-2B01F62BE96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41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41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4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0953-D361-46D4-9B1A-1865E474F9F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49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49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1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C491-7C87-41C5-ADA9-1ED7F61FFD4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2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7F12-9AD0-4AA7-9DAC-18E689CF41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7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C36C-02FB-49ED-905E-AEA6786381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1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91D5-E209-481A-92E5-D130BD5B22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6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24C4-BE48-4E3C-BBE5-946FE47A13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0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FA20-F6BE-49AF-8D34-10C920BBD5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5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8346-15A1-42F3-A852-6587DB2E93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9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D04F-ED90-4C20-B721-4AE70442F2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Организация дорожного движения, обязанности пешеходов и пассажиров</a:t>
            </a:r>
            <a:br>
              <a:rPr sz="3200"/>
            </a:br>
            <a:br>
              <a:rPr sz="36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редмет: ОБЖ. 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Класс: 8. 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Раздел 1. Обеспечение личной  безопасности в повседневной жизни. 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Глава 2. Безопасность на дорогах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Урок 5. §2.2. Организация дорожного движения, обязанности пешеходов и пассажиров. 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рассмотреть основные вопросы профилактики пожаров в повседневной жизни и организации защиты населения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Разработал: преподаватель-организатор ОБЖ  Филимонов Виктор Алексеевич</a:t>
            </a:r>
            <a:br>
              <a:rPr sz="4800"/>
            </a:br>
            <a:br>
              <a:rPr sz="4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Прямоугольник 1"/>
          <p:cNvSpPr/>
          <p:nvPr/>
        </p:nvSpPr>
        <p:spPr>
          <a:xfrm>
            <a:off x="482760" y="1371600"/>
            <a:ext cx="8051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Записать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Дорога» — обустроенная или приспособленная и используемая для движения транспортных средств полоса земли либо поверхность искусственного сооружения. Дорога включает в себя одну или несколько проезжих частей, а также трамвайные пути, тротуары, обочины и разделительные полосы при их налич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6" name="Picture 2" descr=""/>
          <p:cNvPicPr/>
          <p:nvPr/>
        </p:nvPicPr>
        <p:blipFill>
          <a:blip r:embed="rId1"/>
          <a:stretch/>
        </p:blipFill>
        <p:spPr>
          <a:xfrm>
            <a:off x="635040" y="2349360"/>
            <a:ext cx="3886200" cy="1778040"/>
          </a:xfrm>
          <a:prstGeom prst="rect">
            <a:avLst/>
          </a:prstGeom>
          <a:ln w="0">
            <a:noFill/>
          </a:ln>
        </p:spPr>
      </p:pic>
      <p:pic>
        <p:nvPicPr>
          <p:cNvPr id="1577" name="Picture 3" descr=""/>
          <p:cNvPicPr/>
          <p:nvPr/>
        </p:nvPicPr>
        <p:blipFill>
          <a:blip r:embed="rId2"/>
          <a:stretch/>
        </p:blipFill>
        <p:spPr>
          <a:xfrm>
            <a:off x="4660920" y="2362320"/>
            <a:ext cx="3873600" cy="1752480"/>
          </a:xfrm>
          <a:prstGeom prst="rect">
            <a:avLst/>
          </a:prstGeom>
          <a:ln w="0">
            <a:noFill/>
          </a:ln>
        </p:spPr>
      </p:pic>
      <p:pic>
        <p:nvPicPr>
          <p:cNvPr id="1578" name="Picture 4" descr=""/>
          <p:cNvPicPr/>
          <p:nvPr/>
        </p:nvPicPr>
        <p:blipFill>
          <a:blip r:embed="rId3"/>
          <a:stretch/>
        </p:blipFill>
        <p:spPr>
          <a:xfrm>
            <a:off x="622440" y="4156200"/>
            <a:ext cx="3886200" cy="1790640"/>
          </a:xfrm>
          <a:prstGeom prst="rect">
            <a:avLst/>
          </a:prstGeom>
          <a:ln w="0">
            <a:noFill/>
          </a:ln>
        </p:spPr>
      </p:pic>
      <p:pic>
        <p:nvPicPr>
          <p:cNvPr id="1579" name="Picture 5" descr=""/>
          <p:cNvPicPr/>
          <p:nvPr/>
        </p:nvPicPr>
        <p:blipFill>
          <a:blip r:embed="rId4"/>
          <a:stretch/>
        </p:blipFill>
        <p:spPr>
          <a:xfrm>
            <a:off x="4660920" y="4156200"/>
            <a:ext cx="3873600" cy="1766880"/>
          </a:xfrm>
          <a:prstGeom prst="rect">
            <a:avLst/>
          </a:prstGeom>
          <a:ln w="0">
            <a:noFill/>
          </a:ln>
        </p:spPr>
      </p:pic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Организация дорожного движени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1. Определение и виды доро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р</dc:creator>
  <dc:description/>
  <dc:language>en-US</dc:language>
  <cp:lastModifiedBy>user</cp:lastModifiedBy>
  <dcterms:modified xsi:type="dcterms:W3CDTF">2017-09-19T10:19:45Z</dcterms:modified>
  <cp:revision>1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