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F3F2-A4DD-4B15-BE48-C87A2F0F3D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B25C-61F8-4263-A865-C8422524C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B8F-9881-4478-8170-09F140D9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C3E-973E-401A-9222-BC0B4233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C4B16-A3D2-4559-8AEC-FACD11E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8940-76F5-4F96-B70B-29071348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81FDD-BDF9-47E8-9215-AA8314B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D7EDD-6022-4CF6-AF4B-6FB8FAE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A86F8-938B-47DB-8C05-0906BDD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87F6-2633-41B8-9D23-9E3C7D4F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15E8A-95A3-4196-9489-772B3AB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65F13-04BF-4D96-8097-61F0267E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0AD76-F61C-42C6-A7FF-8A60A899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F5982-BDB5-462E-BC25-A0713F92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512-6D70-4E3E-8847-F2CA4862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3201A-9CC5-4374-81E2-C37197FB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5F2BA-5BD9-4EEC-ADBE-97A0437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888C-88AD-467E-A7D2-33F0ED29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0E36B-459F-417B-993C-6944866E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92539-DFD0-46FA-9766-B8C2F1B9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847F4-935C-49FD-8AE0-C5EA35D8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4C729-1204-4365-9981-3C324B26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82432-FEE6-4F2B-BD00-5D93091D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21D64-7F47-46C6-8E1A-CB0442CB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991AD-7B98-49E6-8FF6-645632D9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81E-989E-4DBF-A009-6AEB8DD2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E9A9D-13F4-4576-82D1-3C33D661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37BA9-B03D-45E5-A0F1-73E4241E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BB5E8-2DAC-4270-8277-90428BF9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A4F65-7361-4430-9F5E-F8D0BAF9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9A5F4-3A94-48DB-BDBD-2E40E8D4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45552-A5D5-40BB-B10A-A0165E56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7AC50-9393-4AC2-B27A-9019F25C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2DCA2-0524-48B1-A5A7-738CBE3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EDF42-B6E4-436F-94F6-AE2E0837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776C9-9134-4E93-8EE8-25170D74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FD16-FCFC-4658-A76C-ECCA580A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96B89-956F-4F45-B075-A9FDF06B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9F17F-F620-461E-9892-6C1D12D1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33D3-C3F6-43CF-8822-300311A9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F56B6-C9B4-4EEC-BC20-004288AA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E2C73-9CD5-4071-B039-C73E5213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E4A39-7660-4963-AD50-A22CE19C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2F0F7-D6EC-4BD0-9732-DEDB088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6C63E-3D69-4E63-9E1E-0917E196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F10BA-B278-4817-8B47-38AD6FD6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6D520-F6DB-4316-91BF-5BF5CC9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1869-654E-4C78-A134-894CEF5B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04DC7-FD90-4275-949F-00349EDD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6494D-2685-4B8C-AFE3-7DE85B6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EA1DC-9B09-482A-B70D-B8456BE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35CC5-0EAC-47BB-9380-C8B4B7FF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9CCEF-B10C-460C-8791-57E9748C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C358D-80A2-4246-B953-E00C2DA8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D9692-9FDC-4D0C-8115-8A8E30DD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DFE87-BEC0-4914-88FC-303F0432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84438-6A5B-4FF6-90B2-CCB853C1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61CE8-5A84-4D90-B3C8-811F09D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E024-8B3F-475C-98EF-CEC442EE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8A638-C003-4633-A0F6-F57F4AA6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B91A7-A7D6-4E2E-A913-75D2827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EA51E-988B-48E1-9EE0-2B2A0C1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9AB0F-31E0-4582-99F3-0467F0B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5B3D2-3BEF-462B-B72D-485BF4FA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4C594-B36C-4879-9E5A-1C02CF08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60218-70EE-47FD-A01F-7F7949FE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7FB76-B09F-441D-9755-0FC7B182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920A5-2E3E-46FA-AB70-118FE978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6CAD8-A679-49C4-8B13-ECEBBD0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55DD-B4BB-41B5-B87B-AEB4CB4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5EB5E-EEB7-4636-8417-734FDF1F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6F867-BC63-44E8-A444-DC9D8492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D6430-CED7-433E-8949-AF2D3A6D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11F2B-B8C4-47D4-8434-D754443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BB8C4-9C1F-46AF-99CE-311894E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4669C-FEBF-47C0-9930-0B5DE5E9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10536-AB46-43BF-BE6B-1FA1A0F8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89C1C-FE6E-44BF-868B-7809B896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205E7-3F91-442E-A321-5AD600BE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BF5A-C86A-4D12-98D5-487063B3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E86D-8DD2-4745-96F7-209A3E60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96A-88D4-4EF2-9FF9-3F4087B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77C-EFFF-4D1F-8567-52177D23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30DD-E935-4E90-B729-0DFD1324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B5F0-2A83-4A04-AE9A-5BBF8AFE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11ED-A6AC-43A2-91A6-AD597E03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F776-574C-4D5A-BDAD-725EF861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D0EE-13AA-4636-BEC4-DB543075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4B7E-51E3-4FF5-A789-739F6FF5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B037-F5CD-49C7-A491-1D273243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90A8-A264-4A23-AE0B-25FE549C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8C09-BF8F-4242-B712-BB39785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BD0D-02C6-4DBE-917E-7B30BB6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46C-3167-4E2D-8FB5-7682957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EA92-10FD-4ABC-A21E-7470E91E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DACD-924F-4F1D-8E58-A7EE761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79E4-24B2-4832-9C2C-FEFC0C29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7D24-5162-46DF-BE6D-5EFDEF5E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F86D-7B3A-4FAD-9096-38C57FB9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0EB1-78D0-49A6-B14E-02B14676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6C5E-006F-4745-B349-CF87B260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772C-1E43-44AC-874E-457CF688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4FABD-8FA7-4156-A630-DC4FB6D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CE34-FE79-425D-A199-68988598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0AF-88FA-419F-B09F-EF89D46E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8C1F-F072-422D-A9E2-A5CE4EAD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3A56-B07C-4A66-97ED-6D1F2C0B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C234-9BFB-46B5-BEF4-7096AD32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A4AA-B6FD-4561-AA7E-F188496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2902-FA21-4A43-8986-991005C3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D28E-CE51-4169-B960-017926E8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6E40-EB6D-4309-9463-D7E2179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6DCF-0C7D-41D5-92FA-2559D033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5B36-A08D-4FDA-907A-A940E112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AC52-1776-47F0-8B07-FEB73DFA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4D9-A716-4F00-A2A0-F027A114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ADD6-07EF-44EE-BE2D-83615C10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D833-16AA-482B-B3D9-26CC4649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2BF8-2987-4EC6-B47B-B1B512F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4561-8047-4522-8D2C-2D63256F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56D4-3209-4045-A134-170603C9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6B0E-A7B5-4E44-8BDF-AC94A62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BCA46-B2AF-4369-9089-779BB415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0C878-4975-4665-8241-02303D56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006F-B448-4CB1-B558-FB1A0E7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9D1D-2561-4CF8-9B5A-FA84798F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D16-0D7E-419F-9DCB-FD252F10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E069-8876-4A75-9C11-69A1727B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4EA85-F725-4623-A88C-589EB037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8CE5-933F-454C-B090-AA734319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5E840-D06E-40E9-8497-E2204F7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CE177-82DF-4644-B8D8-5F51EB94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6DC3-19CB-43E3-8562-DD9F77C8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B04C5-54EE-4CAC-BDF5-C0EE70F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FE8D9-7847-4B53-81B6-5FD83211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7B94-9A24-4D44-831C-1D3E96C7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BF2A-9ADF-46C3-9F53-E3B21E6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82F-3880-4070-B22F-E9FD52B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7376A-AF8E-47D4-8E2C-C9464426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06AEB-1FC0-46F5-946D-91BFD514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FB70-F2BC-4EAA-8366-5F4224F6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1293D-B5DC-47E3-9354-6E05B930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0030-CB17-4C16-B85D-37528AC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F468-7C07-4F14-9C46-F4A06D46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7BD6-6423-468E-B293-621BCD5B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4F3D9-3119-4B67-85AB-105DB86D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AE35-D852-4936-9076-3DAD5109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998EE-7D05-4E0B-BA91-D03FC20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6E3-16AA-4CC5-B2AE-40327A3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87AB0-E673-42F5-A4F1-F7F90C1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2E3D-5AB7-4CF5-98CB-1C49B0F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2854-FC0D-47D3-89B1-F29132F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3B20-4346-4C56-BB72-458F5351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53D67-9370-4E9B-870D-775A842B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E5250-246D-4D6B-BF63-63C9EA12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0F0B5-6314-4883-97A1-C87DDE4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9B0C9-6B91-4E42-AB47-BE4104E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A99A-6248-487E-8307-C3FC902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72651-11DB-4873-84FC-C93DDBE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561-97D6-4C94-B06B-7E71AFE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7486A-8A49-45D9-B4F4-872C4057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92A64-5A39-47D1-8E64-3DCABD33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BC302-C2CB-4533-B368-E439DC8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8646-4F93-467D-A070-D1EC41E4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B46F9-A4EC-43D4-8CB1-DD83F8D6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4817-5B54-4DEA-8822-E3981D00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9328-A113-4E6E-84C7-7D985FFA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9D90D-4CD7-4541-8385-75B761DD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B8021-0BFE-4FBD-A835-2AACF184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06042-FA17-4B77-897F-1F02ACC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FDE-68E1-48EF-BE5B-6AA7699744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B8D4-38ED-443E-93F5-B780CEAAB4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2FFB-B4F3-49FD-9B6E-93B0D48321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065-D16C-45E8-A243-6AB971343D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2D11-72F2-447E-B3B9-4E0FAE36AF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8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FA09-0839-4B16-B042-92252DC61F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CD7E-E80E-46FF-A4AE-667C6D90BF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1BF-6373-4C45-A147-DE1C45A60B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AC7-37EE-4EB8-983B-94B0B25F70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20E8-AB25-47A9-82EA-98E0ABD107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990B-2D81-495E-A009-6F53578790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4EEC-BE7A-4A7C-B2E7-AD2D47F0A3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D857-1361-4005-B2F3-1D2CA4B063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8A26-7D4D-40BF-B3D7-442E7C1B73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Организация дорожного движе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2. Элементы доро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09120" y="144792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зжая часть и троту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647960" y="144792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ч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09120" y="3581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мвайные пу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47960" y="3581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зж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4800600" y="1751040"/>
            <a:ext cx="3638520" cy="1609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457440" cy="1633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3581280" cy="1609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8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63852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рганизация дорожного движ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3. Некоторые понятия о дороге и ее элемент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орожная размет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эффективных средств организации дорожного движения. Нанесенные по проезжей части линии разметки обеспечивают более стройное движение транспортных средств и пешеходов и помогают водителям лучше ориентироваться в местах остановок для пропуска транспортных средств через перекресток и в других действиях, необходимых для выполнения требований правил дорож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азметка проезжей част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строгом соответствии с Государственным стандартом и выполняется специальными красками, термопластиками или другими материалами, обеспечивающими ее хорошую вид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оезжая часть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иц и дорог размечается белым цветом, за исключением линий, обозначающих зоны запрещения остановок и стоянки транспортных средств, а также зоны остановок транспортных средств общего пользования и стоянок такси, которые должны иметь желтый ц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тка может применяться самостоятельно, а также в сочетании с дорожными знаками или светофо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доль проезжей част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 белую линию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осевая ли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она может быть сплошной или прерывистой. Сплошную линию пересекать нельзя, а прерывистую – 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севая ли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яет встречные потоки транспорт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ешеходный переход -Участок, по которому пешеходам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ешается переходить дорогу, обозначается широкими белыми линиями, параллельными оси проезжей части. Это обозначенный пешеходный переход типа «зебра». Он хорошо виден водителям и пешехо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Островок безопаснос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есто, где пешеходы могут, если они не успели перейти улицу, обождать, пока транспортные средства освободят проезжую часть или остановятся. Водителям запрещается заезжать на «островок безопас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адочная площад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участок, выделенный на проезжей части сплошной линией для людей, ожидающих трамвай, троллейбус или автобус. Транспортным средствам запрещается заезжать на посадочную площад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топ-ли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казывает место остановки транспортных средств при сигналах светофора, указаниях регулировщика или дорожного знака «Движение без остановки запреще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Организация дорожного движе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4. Дорожная разме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лошная продольная линия осевая и для обозначения края проезжей части дор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военная сплошная продольная осевая линия осев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делительная пол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аждение проезжей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886200" cy="1600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733920" cy="16002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"/>
          <p:cNvPicPr/>
          <p:nvPr/>
        </p:nvPicPr>
        <p:blipFill>
          <a:blip r:embed="rId3"/>
          <a:stretch/>
        </p:blipFill>
        <p:spPr>
          <a:xfrm>
            <a:off x="596880" y="4191120"/>
            <a:ext cx="3886200" cy="17780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4"/>
          <a:stretch/>
        </p:blipFill>
        <p:spPr>
          <a:xfrm>
            <a:off x="4711680" y="4191120"/>
            <a:ext cx="374652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Организация дорожного движе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5. Типы перекрест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Организация дорожного движения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6. Дорожные знак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записать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го более 200 зна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уппы дорожных зна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р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щ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исы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х предпи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7-09-19T10:23:11Z</dcterms:modified>
  <cp:revision>1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