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89E-01F1-416F-8A9A-A03612D8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FB6-DB21-4B57-AF52-D092FC34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53432-2880-4B36-A7F0-DB9E7268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0D93E-5867-4274-A4C1-23CA4B1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75375-308D-432B-8188-70E0ED88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73B2F-3D50-4A0E-B6B4-7FDCC19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BB708-F928-4B28-96CD-7728C8F7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6739A-2404-4049-8CFE-49F279A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02E1C-50D2-4ABB-9ED4-295C3F68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C1D59-C926-45AF-9D29-D744FF2A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3A171-1964-42A7-AB62-CC8A7A58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F487-BA60-492B-A092-4CE2AE2E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7C2-3EA6-405B-B45C-D074B593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8A3ED-B0F8-4341-8EBB-F8E08EAA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08E31-EBC5-45AA-82F8-F2CF394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61D8D-B320-46D1-B004-FBA7DE5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E159F-98E4-4F0B-B670-B448026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52D99-372F-4D29-A2B7-EEDB786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1C962-BC11-4EBD-A94F-579C4B0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F00B1-19FB-496E-A662-C10B120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F63EB-B1A9-4CCE-97C3-EAB5F38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02FCF-F902-4C52-BBEE-388413A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A39AB-6DCD-4E4D-9BA5-DE49EBF2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421-9D6E-4F78-AF85-93B24D8A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F7026-B21A-4F4E-8399-9AA4D9F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CA38-7D78-43AA-86B8-E365E512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DB08E-CF14-48FB-9835-FA3A64AE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CA7BF-D1A2-4ACE-9ACB-67A765E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DEE95-EEB4-4F36-8642-706A6D6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A528B-661C-4D2D-B40F-718876C0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EDBAA-AC5E-4C05-94F9-CC057FF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E587-9617-4C0C-9CF1-9F7E636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8D836-B14F-4F59-9291-C5EAB79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15632-6C1B-4DE5-A957-B6F9770A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CD3-CA55-43FD-AA8B-E967090E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ADE0A-C8C5-4DF9-95A6-2F5BFBF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15B32-D737-4DA9-BD93-4BE32B5D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6269-4FC6-4B7B-8E39-7AC3F96A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7FD8E-816C-40EA-AD17-7226859B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B7BEC-2D54-4097-8464-89913478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67A6C-6536-40E8-816E-DCCE9DD4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84F82-810B-4DFB-A9C8-8E09BEFE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42428-993A-42D6-89FA-58CCB4A2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F6476-3928-4DC8-91D1-AAA81FC1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A6B47-D9C2-40FC-8B13-D17AC02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4FE3-615A-498C-A982-4C2D40B4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8D814-51AB-4903-919C-53C9F65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38C8D-6644-4813-84E9-EA9D5F5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F2EC-ED99-4B88-99F3-A80CDF41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655C9-C019-4D5D-9887-17757596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649E0-1315-4D1D-B3A8-DF710EA0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A42BD-FE93-4C39-9694-3249C68E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713A9-7B2E-48E7-A561-6F74D60C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F4D03-133A-4214-8E53-AC7FA840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2C4B9-9728-49F6-B49C-C53B5347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99BD1-71C5-4828-AC94-23C56DE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9ED2-E0A8-4206-A368-966417F0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ECA88-0D77-4271-AC66-6959A35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3C0F4-10E4-49A9-8624-69F8BC1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0AA9E-8C6C-4552-AF8F-2F10341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EE3D8-5CED-4022-A3F1-EE48952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D4F49-EC3A-4D0B-A68D-FD234276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43CE4-657E-41C2-B163-FCB21135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C8B6E-E983-43C7-B43C-76CB8506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CE570-A553-42A7-8D8F-86F60B18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3BAB2-DC69-4FE1-BFA0-7B66416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172D4-6A15-46D8-B11B-7A489CEE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3005-C1C1-4B72-8D13-11D9B89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7D3D2-7A5B-4C3C-B729-F9A5ED18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DF9B7-0C6C-4ED8-87D6-E88786B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57C36-324C-469E-9661-05860856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5B658-0AA3-42B7-8748-DC95A92F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097FB-5E96-4A42-8FBA-1A95FDEC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B8C90-699E-4428-9615-78961FBB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27363-369F-4231-9CB4-B1136D5C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DC4EF-FF9E-49FB-A1B4-271E124A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BA45A-4211-49B5-8978-E74B9946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93A2-6C69-4D59-BE67-8CDCC220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13E-8CAE-4B90-B0E0-053B3DD9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64BD-EB52-452A-A17A-B16AAAA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22F-1A8B-4988-939F-AEA4431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492C-E92E-4FEA-AB47-F714AAA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5E2-F26A-418D-A0EA-582D0C6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422F-B8C0-4680-9436-7768FF53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FAA4-B260-46E3-B9BE-4948F8BC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17AB-CDA4-41FC-880A-612D628A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65AF-6856-4D19-BDCF-FE4C4BF5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A621-A478-4C99-B0AF-EEDB808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59A9-4857-4833-B704-6A7BE9A6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78DD-BCC2-44BE-BEF2-D1F7BB1B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0009-94C0-4D49-A816-DBA8746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ACD-2992-453B-8F4C-D1E8536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DE5F-4F00-4C95-928B-76CCD6DA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FA70-7AE6-427E-BFF7-783C502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CEBA-0435-484B-84A6-C686DF86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37F8-D68C-4C7D-9841-344E28F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2FC8-9DEC-4F12-8E90-ECAFBB4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AF82-D300-49DB-9F8B-8FF14B27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E130-89EF-4B74-A172-82C7AA83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5FA1-1433-45C0-83E1-86F962BF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BDC3-2A69-456B-B7E4-24F34FE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8FF6-A877-446D-86D4-F305D2E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D8F-16FE-4643-A881-2DB9DF0C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5531-923C-47EE-BCE5-E530227A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5022-7FF3-4AFB-995A-8881B88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8B5C-4D6E-4685-A1D4-CAED678A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5B2D-A235-435C-AD10-815F89A7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35003-34C4-427E-9F97-D296BEF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CC7B-3CFA-4B6B-946C-457F032C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D8DA-8BFC-43A8-AF4C-3373221A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9068-FD03-485F-978A-79DA81E6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A89F-3C20-4B5E-90FC-90AB051E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E98D-DC93-4660-AC14-B94258A2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BFE-90FC-4833-9A92-B842AA1F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5C88-2365-4ED0-A5F5-4FC9E8C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9302-0FDC-4376-BFE7-BABF5AA8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6190-8775-418A-95A3-75EEBAE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22FB-6839-421C-9B3D-A3FB277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8A0D-8623-4962-ABA2-ACA5F88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A32B5-56CA-4CC7-821B-9D8CF954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8CB02-D9D4-480F-B3B1-8182CC3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0C3D-B7B0-49FD-B8A7-7F75CE8B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F5CD-09F8-4FE4-943F-AEE7238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721F-BB77-4921-841F-1D9B9280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D29-F20D-4B62-832A-E3AEB97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5681-7EE3-454E-99AF-4D21AA9E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BCF6-E73E-40DD-A6EF-0E244070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781A-5FB5-40E5-AC7E-84FB5BB5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DAF6-7503-4BB3-9687-4F61729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21E2-F309-4705-A5AB-76D7FB9D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9CB0-A680-4333-8B26-60567333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3F38-1F14-4F4B-9DF9-7BDE68F0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8F62-1597-4168-AC49-39F8ACC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DF70-07B5-4C5F-98D5-1C4BE04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373F-EED3-460E-B8F5-57E450E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A54-54D5-4D16-83CE-C252F70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7724-B24A-4AEF-9DE8-9DD22956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941F-F6F9-4748-BB55-98C98847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C9F6-A842-4B9D-BE90-23786ADB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DBF8-57D0-478A-B4C4-00F551E5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A549-81A4-4C4E-B04A-B7B4AF49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C85A5-3ECA-4A10-9301-CFC2E40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4AF2-D666-4560-85A5-6A1D7BCC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766F5-8EAE-4782-AFD4-FCCE1D9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2CAE-7FD1-4419-A2E5-253EBFA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D1AF-8389-420E-B739-CE631C25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F7A-44C8-4DDC-85E5-AE00ABD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BB71-C1DC-480D-901A-40B1BA0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2FC3-CDF9-46AD-A4ED-20064E5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CCB1D-DB45-4004-B1FB-86862CDF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3BE5-B726-447D-9DA3-47104FC4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9313-1CFF-4D20-8A20-9B574275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A189-AEC0-4C23-94AB-C525429B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89E70-A36F-410A-A101-03B1AC9B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090E-376B-4B5D-A591-39C9EF5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2FC1-1055-447A-B557-2C0DED21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CAB5A-AFA9-457C-B8A5-6DD0608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6A1-3944-4239-AFFF-67F4C77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8E0D1-6B67-4198-A04B-25F15DA4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766C-AE9C-4D5C-994C-5F46FD0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1743-1AC1-4604-AC49-014ED06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3EA0-7B6B-4D89-AE27-C845CB7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C193A-E42D-4446-8249-0E3A52F8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0E24-D72F-4413-836C-E372698C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9AF4-4C5D-447A-AB80-E40A03BF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E9881-EB65-4A38-9211-5F6E27BB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B6177-107D-4216-B0C8-54DE3C1C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5C224-B9AC-4D17-A4B0-D03575FA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56F8-772F-464E-8049-B36F7C45D7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E28-38D6-456F-A69C-2BD77AA6A5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DA5-12F6-47EE-B204-F050E5FEE6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9C34-63AA-4584-9E2E-9A13D5361F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422B-E812-4F41-8105-A34D29A9FA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8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89F0-B8FF-4DAB-BB27-D25EB2F34B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E71-B579-4430-BE28-A7E22CBDFB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F419-E66E-41A0-BA9C-F5F496450D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9D58-C53D-4C2C-9139-22CCCD599C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F8DF-9110-4E76-A3EF-566BFED209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6F3-EE30-4A14-A364-71227B280D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986B-04D7-4448-9F16-7D7386C846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CED1-4C93-4BA0-A4B0-3090EAEBC4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79C-4270-43B0-8431-2A40B27E20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Основные обязанности пешеход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1. Правила движения пешеход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записать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ешеходы должны двигать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ротуарам, пешеходным дорожкам, а при их отсутствии – по обочи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отсутствии тротуаров, пешеходных дорожек, обочин или при невозможности движения по ни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2860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велосипедной дорож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2860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 за другом по краю проезжей ча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2860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рогах с разделительной полосой – по внешнему краю проезжей ча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городной дороге – навстречу движению транспортных средст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2860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 исключением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2860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шеходы в инвалидных колясках без двигателя, а также ведущие рядом с собой велосипед, мопед или мотоцикл должны следовать по ходу движени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я: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- 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Правил дорожного движения выберите дорожные знаки, которые регулируют движение пешеходов на дороге. Занесите в дневник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Правил дорожного движения выберите сигналы светофора, которыми должен руководствоваться пешеход при переходе дороги. Занесите в дневник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Основные обязанности пешеход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. Правила пересечения пешеходами проезжей част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.1. Места пересечения проезжей части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а пересечения проезжей части доро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пешеходным перехода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де они ест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тсутствии пешеходных переходов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 перекрестк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669999"/>
              </a:buClr>
              <a:buSzPct val="4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линии тротуар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669999"/>
              </a:buClr>
              <a:buSzPct val="4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линии обочи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тсутствии пешеходного перехода или перекрест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если дорога хорошо просматривается в обе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71720">
              <a:spcBef>
                <a:spcPts val="349"/>
              </a:spcBef>
              <a:buClr>
                <a:srgbClr val="66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 участке без разделительной полосы и огражд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669999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прямым углом к краю проезжей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Основные обязанности пешеход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. Правила пересечения пешеходами проезжей част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.2. Порядок пересечения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  Регулируем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ерекрестках движение пешеходов может регулировать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щиком 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уководствоваться только его сигналами!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шеходным светофор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м светофором  (при отсутствии пешеходного светофора и регулиров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 . Нерегулируемые перекрестки и пешеходные перех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выходом на проезжую часть 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ть расстояние до приближающихся транспортных средств (ТС должны успеть остановиться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диться, что переход будет безопасе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Вне пешеходных пере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особо внимательны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ыходить на проезжую ча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какого-нибудь препятствия (стоящего у тротуара автомобиля и др.), мешающего обзору проезжей час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бедившис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 отсутств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ающихся транспортных средст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Всегда и вез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йдя на проезжую часть - Не задерживаться и не останавливаться, если это не связано с обеспечением безопасности движ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иближении автомобиля с включенным синим проблесковым маячком и специальным звуковым сигналом ОБЯЗАТЕЛЬ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ржаться от перехода проезжей час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хождении уже на проезжей части – незамедлительно освободить ее, усту3пив дорогу такому автомобил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Основные обязанности пешеход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. Правила пересечения пешеходами проезжей част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.3. Сигналы регулировщика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20560" y="1371240"/>
            <a:ext cx="397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уки регулировщика вытянуты в стороны или опущены, то со стороны левого и правого боков пешеходам разрешено переходить проезжую часть, а со стороны груди и спины – 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96520" y="4992480"/>
            <a:ext cx="7785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гулировщик поднял руку вверх, то переходить дорогу вообще запрещено.  Пешеходы должны освободить проезжую часть, то есть закончить переход дороги, а если это невозможно, то остановиться на линии, разделяющей транспортные потоки противоположных напра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482720" y="1371240"/>
            <a:ext cx="38862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равая рука регулировщика вытянута вперед, то пешеходам разрешено переходить дорогу только за спиной регулировщ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962160" cy="2401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7954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Основные обязанности пешеход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3. Общие (основные) требования безопасности для пешеходов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ешеход должен соблюдать следующие основные требования безопас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ыходе из дома обратить внимание – не приближается ли к нему автомобиль, мотоцикл, мопед, велосипед или другое транспортное сред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у дома стоит автомобиль растут деревья или есть другие предметы, препятствующие обзору дороги – прежде чем выйти на проезжую часть:, осмотреться, нет ли за препятствием движущего транспортного средства (посмотри налево, посмотри на право…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движении по тротуару всегда придерживаться правой стороны, чтобы не мешать встречному движению пешеходов и не создавать помехи для дв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ходя по тротуару мимо ворот или выезда из гаража, обратить внимание – не выезжает ли маш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ясь перейти дорогу – осмотреть проезжую часть (посмотри налево, посмотри направо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бязанности пассажи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1. Правила безопасного поведения в общественном и личном транспор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соответствии с требованиями ПДД пассажиры обяз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ездке на ТС, оборудованном ремнями безопасности - быть пристегнутыми и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 поездке на мотоцикле – быть в застегнутом мотошл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общественном транспор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адка на ТС производится после его полной остановки через передние двер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йдя в салон, необходимо осмотреться, выбрать удобное место, где вам не будут меша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еть, где расположены запасные и аварийные вы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нет свободных мест для сидения – нужно постараться встать в центре прохода, держась рукой за поручень или за специальные подвес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ельз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ять у двери, а тем более опираться на нее – она может случайно откры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вигаться по салону общественного  транспорта можно только при полной его останов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 помнить, что в общественном транспорте нельзя отвлекать водителя от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бязанности пассажи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2. Правила поведения в трамвае, автобусе и троллейбу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жидать автобус, троллейбус и трамвай только на посадочной площадке, а там, где ее нет, - на тротуаре или обочине дорог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посадке в трамвай, если трамвайные пути расположены посередине улицы, пересечь проезжую часть дороги, чтобы подойти к остановке трамвая. Перед переходом надо осмотреть обе стороны дороги и, убедившись, что транспортные средства притормаживают и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пускают вас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направиться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 остановившемус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мваю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адку осуществлять через передние двери, а высадку – через двери с надписью «Выход»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высадке из общественного транспорта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и переходе проезжей части дороги необходимо быть особенно внимательным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учитывая интенсивное движение транспор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выходе из автобуса, если необходимо перейти проезжую часть, безопаснее всего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дойти по тротуару до ближайшего пешеходного переход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загородной дороге, где обозначения пешеходного перехода нет –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дождать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огда автобус отъеде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осмотреть дорогу и, убедившись в возможности безопасного перехода, перейти 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бязанности пассажи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2. Правила поведения в метрополит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4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пасные зоны метрополите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Турникет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урникет можно проходить только после загорания зеленого сиг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Эскала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скалаторе необходимо стоять только справа, лицом по направлению движения, держась за поручень, проходить с левой сторо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жать по эскалатор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ться на его ступен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иваться при сходе с эскалато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латфор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ожидания поезда, посадки в него и высадки из него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 заходите за ограничительную лини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 спускайтесь на пути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обходимо поднять с путей оброненную вещь – обратитесь к дежурному по стан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агон поез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 подходите к вагону до полной остановки поез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ходите в вагон быстро, но без су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йтесь занять место в средней части ваг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 становитесь непосредственно у дверей, не опирайтесь на ни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задерживайте открытие и закрытие дверей на останов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возникновения опасности для жизни людей и угрозы безопасности движения через переговорное устройство сообщите об этом машинисту поез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а дорожного движения написаны «кровью жертв и пострадавших в ДТП» в целях обеспечения безопасности дорожного движения, спасения жизней и сохранения здоровья его участников, сохранности материальных сре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дорожного движения в первую очередь зависит от его участ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ать Правила дорожного движения в условиях все возрастающего потока автомобилей на дорогах стало намного важнее и сложнее, чем раньше. У многих участников дорожного движения не хватает для этого выдержки, самодисциплины и общей культуры в области безопас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человек независимо от социального положения и возраста может оказаться и оказывается на дороге в качестве пешехода или пассажира транспортного сред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 всегда соблюдать меры безопасности и обязанности пешехода и пассажира всех видах пассажирского транспор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чества, присущие надежному водителю, должны формироваться с дет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культура безопас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я, необходимые водителю и пешех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ния выполнять обязанности водителя и пеше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и в выполнении этих обязан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7-09-19T10:24:5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