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7A52-2F7D-4291-8B08-F35A23FB1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D105-4102-48A4-898A-EAF5CC7A8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89C4-9CD9-4B13-A711-EAF8D72EE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382B-5879-4ED4-8021-325B3EDC0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68C54-5B51-4A7F-9BFE-2147869C7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E1F3A-1D6B-44B6-A98E-73C899D11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7250A-30C8-48CB-92A8-A956C6ADC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A5AD7-FC13-49DA-ABD5-E2A46725F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CEF81-5A54-4743-9911-8D8212B6C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FDECA-0A52-4842-A9A5-2142FD256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3D916-29B0-493A-BBFC-56307CB6E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BE8C-9A2B-4FF3-9A76-1DAE52A3C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5C9F4-8A3F-4810-9C8E-520181371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12BC7-254A-4031-BE7A-A45EB64E2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B3FBB-3D3C-4CBB-BED1-600D927E5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1A432-52CA-4AFB-ADFA-06BDEE9B4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5E1E0-E3B8-42D3-8480-646A335CD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319D2E-0694-4EF6-B727-C3610CB8D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DEB8FC-56A4-4A6F-9681-093D00088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275564-D15E-4267-B9BE-DAB1D89BE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26065E-AAF6-41B5-BB19-9D8EF1512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3C89EA-EC63-4F6E-BE45-203809D2C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C64B-D97F-43D0-80A8-AD1B43A2D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51C65F-1295-4E15-BE2F-9F397B040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5A0660-BE7F-4924-8598-2145F3947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311987-CF11-4789-AE80-84EE8665B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1BE814-4E3C-4D6A-A03A-1D3D9C606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E0D923-A11B-49BB-8EF7-FE60A6ECE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7D48DC-4FDA-4D0E-A3F3-E615A317B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08078F-46CD-456A-9796-3A9D28AB5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5A3061-0DF2-412E-A797-07CAA0BB2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F4E3AC-19C5-41C2-AC63-D7D059A00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F661A5-F4B7-4FE0-90FA-27D522F03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54AB-8B0A-4AFF-BC8F-BAD4CA4B7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29FD0C-50D2-456E-99CE-4DF85E423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B20338-AEDC-4D1E-B7E4-09045BD02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C16583-D7B5-4B4D-BB03-F8212E540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16E714-0B21-4839-A656-82F25961A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DEE2D2-F5E2-47F8-A38A-B33032A87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065B9F-6ECF-43A9-AA31-FA41EEF8E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D607A9-625D-4896-91CB-7C000C217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305F0C-5AB0-40D4-B7C8-18E17B7CC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827159-E67F-4E88-B90C-14CA559CE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EA7015-EA23-407F-A4F1-9691C008A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8281-6D76-4F4C-8CF2-74B14B878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235C7F-4C04-420B-8329-B280F1370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E1684E-E966-4D61-949E-B42664750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EED0E8-7C47-4F1C-B6A8-56F69CBB9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973181-E67F-4D73-B64F-C20C2E634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82D37A-12A8-43D2-8704-B875BD810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32177F-04DF-46C9-AAFC-58803177E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571BCB-45D2-4565-B222-E9CBE77E1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C01859-2C80-40CD-84D8-95901AB72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40C05C-93CA-49C9-A6FF-88843A59B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C3F620-F110-41E1-8922-5C93F1665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6E51-5E35-45F1-83A7-876D36DE5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5797DE-9A27-444E-B4E3-9A6743BDF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5C2587-CA91-45EC-8A44-0A9FA1D20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C96D5B-F5C0-4A12-AAAC-B22B0C0FC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1EFCF2-3570-4294-B863-F5BD4F4A1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C61E05-F175-4263-9FB9-B71D9A7F3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AD16E3-8158-4BE6-8F07-F8B99C473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6EEA04-953A-47F1-88EF-C0BC9EA9A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F5DB9F-6909-41A9-8957-C02511D7D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151A61-A679-4BF7-8167-AD543C3AA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B70F9A-D54C-47E9-ADD0-268A65C51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939C-F7FA-4E84-9110-4AB6BEA78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5C3F34-A9D1-4AEA-9D64-5F9AAF942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40F6AB-654A-443B-A8E3-6E2B64D6D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286A7B-6604-4271-8AB5-AAD04D299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2068-D8FF-4214-8939-466AF730F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9A54-54AD-47DD-B0E6-974A3EE50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0717B-78B9-467F-8B55-4B8B78A3FC9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10691-B43B-47AD-93AA-36C146BC4F45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9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79DE8-3703-4B7E-B013-529FC237A6D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3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44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45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47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48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D3364-BFE1-468D-BB73-134590DFBE8D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3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4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95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97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98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783CC-1C70-4899-BF50-214ADDFCFD66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Freeform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Freeform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sldNum" idx="18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44362-009B-468C-8702-A203CD2F158D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7;&#1074;&#1077;&#1090;&#1086;&#1074;&#1086;&#1079;&#1074;&#1088;&#1072;&#1097;&#1072;&#1090;&#1077;&#1083;&#1100;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dic.academic.ru/dic.nsf/ruwiki/9156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4;&#1087;&#1100;&#1103;&#1085;&#1077;&#1085;&#1080;&#1077;" TargetMode="External"/><Relationship Id="rId2" Type="http://schemas.openxmlformats.org/officeDocument/2006/relationships/hyperlink" Target="http://ru.wikipedia.org/wiki/&#1040;&#1083;&#1082;&#1086;&#1075;&#1086;&#1083;&#1100;&#1085;&#1099;&#1077;_&#1085;&#1072;&#1087;&#1080;&#1090;&#1082;&#1080;" TargetMode="External"/><Relationship Id="rId3" Type="http://schemas.openxmlformats.org/officeDocument/2006/relationships/hyperlink" Target="http://ru.wikipedia.org/wiki/&#1053;&#1072;&#1088;&#1082;&#1086;&#1090;&#1080;&#1082;" TargetMode="External"/><Relationship Id="rId4" Type="http://schemas.openxmlformats.org/officeDocument/2006/relationships/hyperlink" Target="http://ru.wikipedia.org/wiki/&#1041;&#1086;&#1083;&#1077;&#1079;&#1085;&#1100;" TargetMode="External"/><Relationship Id="rId5" Type="http://schemas.openxmlformats.org/officeDocument/2006/relationships/hyperlink" Target="http://ru.wikipedia.org/wiki/&#1059;&#1090;&#1086;&#1084;&#1083;&#1077;&#1085;&#1080;&#1077;" TargetMode="External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Rectangle 2" descr=""/>
          <p:cNvPicPr/>
          <p:nvPr/>
        </p:nvPicPr>
        <p:blipFill>
          <a:blip r:embed="rId1"/>
          <a:stretch/>
        </p:blipFill>
        <p:spPr>
          <a:xfrm>
            <a:off x="152280" y="262080"/>
            <a:ext cx="8783640" cy="63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Задание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09480" y="1412640"/>
            <a:ext cx="792504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 Правил дорожного движения (ПДД) и материалов урока выберите и запомните основные положения того, что запрещено водителю велосипеда и водителю любого транспортного сред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утем самостоятельной тренировки разучить знаки (сигналы) водителя велосипеда, предупреждающие о его маневрах на дороге в готовности на оценку продемонстрировать их практически с объяснени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Организация и ход занят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609480" y="1412640"/>
            <a:ext cx="792504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09040" indent="-5090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0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класс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61920" indent="-5090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7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етств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61920" indent="-5090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7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ка списочного состава класс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0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общение темы и цели уро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0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уализация знани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0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ка домашнего зада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61920" indent="-5090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7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слушивание ответов нескольких учеников на домашнее задание (по выбору учителя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над новым материал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ончание урок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61920" indent="-5090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ашнее зад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61920" indent="-5090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тавление и комментирование оцен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61920" indent="-5090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ы на вопро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61920" indent="-5090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общение темы и времени следующего заня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Велосипед – это…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3300"/>
                </a:solidFill>
                <a:uFillTx/>
                <a:latin typeface="Arial"/>
              </a:rPr>
              <a:t>Велосипед – это транспортное средство, имеющее два и более колеса и приводимое в движение мускульной силой челове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правлять велосипедом при движении по дорогам ПДД разрешается лицам не моложе 14 лет, а мопедом – не моложе 16 л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елосипедист является водителем транспортного средства, поэтому к нему предъявляются такие же требования, как и к любому водителю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Arial"/>
              </a:rPr>
              <a:t>Технические требования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09480" y="1341360"/>
            <a:ext cx="7925040" cy="46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лосипед должен иметь исправны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рмоз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ул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вуковой сигнал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ыть оборудован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Сперед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996666"/>
                </a:solidFill>
                <a:uFillTx/>
                <a:latin typeface="Arial"/>
                <a:hlinkClick r:id="rId1"/>
              </a:rPr>
              <a:t>световозвращателе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фонарём или фарой белого цвета, которые должны быть зажжены во время движения постоянн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Сзади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— световозвращателем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фонарём красного цве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С каждой боковой сторон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— световозвращателем оранжевого или красного цвета. (ПДД 2.3.1 и «Основные положения по допуску транспортных средств к эксплуатации…», п. 6.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личие зеркала на руле правилами не требуется, но при движении по автомобильным дорогам крайне рекомендуе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Культура водителя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казатели культуры водителя в области безопасности дорожного движения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ответствие состояния здоровья водителя и его работоспособности физическим и психологическим нагрузкам, возникающим при управлении транспортным средством в условиях современных дорог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лубокие знания ПДД, их осознанное соблюдение и умение применять в различных ситуациях, возникающих на дороге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стоянное совершенствование профессиональных качеств в управлении транспортным средством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оспитание в себе чувства высокой ответственности за безопасность других участников дорожного движения (пешеходов и пассажиров), соблюдение их прав в области безопасности жизнедеятельн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Основные обязанности велосипедистов на дороге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09480" y="1341000"/>
            <a:ext cx="79250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вигаться должны только по крайней правой полосе в один ряд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регулируемых перекрёстках велосипедисты должны подчиняться сигналам специальных велосипедных </a:t>
            </a:r>
            <a:r>
              <a:rPr b="0" lang="ru-RU" sz="1600" spc="-1" strike="noStrike" u="sng">
                <a:solidFill>
                  <a:srgbClr val="996666"/>
                </a:solidFill>
                <a:uFillTx/>
                <a:latin typeface="Arial"/>
                <a:hlinkClick r:id="rId1"/>
              </a:rPr>
              <a:t>светофоров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(ПДД 6.5), а при их отсутствии — сигналам обычных транспортных светофоров (не пешеходных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ля облегчения обгона другими ТС занимать ряд возможно правее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пуска­ется движение по обочине, если это не создает помех пешеходам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ля того, чтобы велосипедисту повернуть налево или развернуться на дорогах с трамвайным движением или же на дорогах с двумя или более полосами для движения в данном направлении, ему необходимо сойти с велосипеда и стать пешеходом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нерегулируемом пересечении велосипедной дорожки с дорогой, располо­женном вне перекрестка, водители велосипедов и мопедов должны уступить дорогу транспортным средствам, движущимся по этой дороге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лонны велосипедистов при движении по проезжей части должны быть разделены на группы по 10 велосипедистов, расстояние между группами должно составлять 80—100 м. (ПДД 24.2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Водителям велосипеда и мопеда запрещается: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136000" cy="46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34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вигаться при неисправности тормозной системы или рулевого управления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34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Ездить, не держась за руль хотя бы одной рукой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34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еревозить пассажиров, кроме ребёнка в возрасте до 7 лет, на дополнительном сиденье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34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еревозить груз, который выступает более чем на 0,5 м за габариты, или груз, мешающий управлению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34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вигаться по дороге при наличии рядом велосипедной дорожки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34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ворачивать налево или разворачиваться на дорогах с трамвайным движением и на дорогах, имеющих более одной полосы для движения в данном направлени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34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учаться езде на велосипеде на улицах города и автомобильных дорогах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34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уксировка велосипедов и мопедов, а также велосипедами и мопедами, кроме буксировки прицепа, предназначенного для эксплуатации с велосипедом или мопедом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34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вигаться по дороге в тёмное время суток (и/или в условиях недостаточной видимости) без включенного переднего белого фонаря («Основные положения по допуску транспортных средств к эксплуатации…», п. 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34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Ездить по тротуарам и пешеходным дорожкам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роме нескольких  исключений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 проезжей части можно ехать, если ширина велосипеда или груза превышает 1 мет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 проезжей части можно ехать, если движение осуществляется в колонна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 тротуару или пешеходной дорожке можно ехать, если Вы сопровождаете велосипедиста возрастом до 7 лет или перевозите ребенка в возрасте до 7 ле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Всем водителям запрещается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Кроме этого, водителям велосипеда, как и водителям других транспортных средств, запрещается (ПДД 2.7)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правлять транспортным средством в состоянии </a:t>
            </a:r>
            <a:r>
              <a:rPr b="0" lang="ru-RU" sz="1400" spc="-1" strike="noStrike" u="sng">
                <a:solidFill>
                  <a:srgbClr val="996666"/>
                </a:solidFill>
                <a:uFillTx/>
                <a:latin typeface="Arial"/>
                <a:hlinkClick r:id="rId1"/>
              </a:rPr>
              <a:t>опьянения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1400" spc="-1" strike="noStrike" u="sng">
                <a:solidFill>
                  <a:srgbClr val="996666"/>
                </a:solidFill>
                <a:uFillTx/>
                <a:latin typeface="Arial"/>
                <a:hlinkClick r:id="rId2"/>
              </a:rPr>
              <a:t>алкогольного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400" spc="-1" strike="noStrike" u="sng">
                <a:solidFill>
                  <a:srgbClr val="996666"/>
                </a:solidFill>
                <a:uFillTx/>
                <a:latin typeface="Arial"/>
                <a:hlinkClick r:id="rId3"/>
              </a:rPr>
              <a:t>наркотического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ли иного), под воздействием лекарственных препаратов, ухудшающих реакцию и внимание, в </a:t>
            </a:r>
            <a:r>
              <a:rPr b="0" lang="ru-RU" sz="1400" spc="-1" strike="noStrike" u="sng">
                <a:solidFill>
                  <a:srgbClr val="996666"/>
                </a:solidFill>
                <a:uFillTx/>
                <a:latin typeface="Arial"/>
                <a:hlinkClick r:id="rId4"/>
              </a:rPr>
              <a:t>болезненном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0" lang="ru-RU" sz="1400" spc="-1" strike="noStrike" u="sng">
                <a:solidFill>
                  <a:srgbClr val="996666"/>
                </a:solidFill>
                <a:uFillTx/>
                <a:latin typeface="Arial"/>
                <a:hlinkClick r:id="rId5"/>
              </a:rPr>
              <a:t>утомленном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состоянии, ставящем под угрозу безопасность движения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ередавать управление велосипедом лицам, находящимся в состоянии опьянения, под воздействием лекарственных препаратов, в болезненном или утомленном состоянии, а также не достигшим 14 лет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ересекать организованные (в том числе и пешие) колонны и занимать место в них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потреблять одурманивающие вещества после дорожно-транспортного происшествия, к которому он причастен, либо после того, как транспортное средство было остановлено по требованию сотрудника полиции, до проведения освидетельствования с целью установления состояния опьянения или до принятия решения об освобождении от проведения такого освидетельствования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правлять транспортным средством с нарушением режима труда и отдыха, установленного уполномоченным федеральным органом исполнительной власти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льзоваться во время движения телефоном, не оборудованным техническим устройством, позволяющим вести переговоры без использования рук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ffffff"/>
                </a:solidFill>
                <a:latin typeface="Arial"/>
              </a:rPr>
              <a:t>Специальные знаки (рукой) при движении на велосипеде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Для обозначения маневра Правилами предусмотрены следующие знаки (сигналы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Поворот или перестроение направо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тянутая правая рука, либо вытянутая и согнутая в локте лева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Поворот или перестроение налево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тянутая левая рука, либо вытянутая и согнутая в локте права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днако не рекомендуется пользоваться альтернативными способами (там, где согнутая рука) - водители могут и не поня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Остановка: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днятая вверх рука (любая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При езде в группе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спользуется еще один знак, предназначенный не для автомобилистов, а для велотуристов, едущих за вам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Ямы справа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пущенная вниз правая ру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Ямы слева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пущенная вниз левая ру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21T16:21:12Z</dcterms:created>
  <dc:creator>Victor</dc:creator>
  <dc:description/>
  <dc:language>en-US</dc:language>
  <cp:lastModifiedBy>user</cp:lastModifiedBy>
  <dcterms:modified xsi:type="dcterms:W3CDTF">2017-09-19T11:07:49Z</dcterms:modified>
  <cp:revision>48</cp:revision>
  <dc:subject/>
  <dc:title>Противопожарная безопасность</dc:title>
</cp:coreProperties>
</file>