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12B-709B-4976-99FC-5A3149CD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6B4-FE92-4A1F-A5F1-6BB45B4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5F6-F849-443E-86A4-FCD15262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00C-FD06-4250-AD5A-625F7BF0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292-6B61-43B2-8962-643D9FF7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2A99-240D-4627-AD9F-586C743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616C-3DF3-4E0F-8E20-C66AD87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39F9-EEEC-400B-8F45-2E52737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23B0-529E-4218-8D1B-1A37B65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1D55-E519-4EFF-9A52-EE61762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918A-88A1-47E7-813B-69887852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50A-2C74-4CC0-B48C-B5CF8F9D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2D4-C261-40C0-82BA-F225704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AE05-0277-4691-9247-5BFA213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468-8ACC-4A4E-AB15-2F3FB1E9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7FD-6219-4E94-9B57-3BF88491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AC68-8AE7-421B-8713-EC81818B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E9BE-4AA7-4609-97AE-A54CFA8D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65E9-E9C5-4E26-8631-C201ED2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B667-D2AC-40DF-898B-A8506B5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8E1E-5DA8-42EC-BFBE-28B6A1EB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199F-5E76-4919-95B7-40B162A5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2A4-5C25-49B9-A7B9-D32A5971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E7FD-D98E-4DD6-90B9-10587D1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0E93-114E-4EE8-898F-3659776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D120-DD27-4655-9700-3103097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770B-D696-48AD-AAE6-A409435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8FEC-67C9-4358-AABF-56A7428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6333-4983-417B-ADB2-600252DE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9775-393F-4D63-8C20-B249BADA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ECB4-9850-4FEF-8F4F-E5EC36FC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AE80-CF3E-42E6-A532-B0B2F9B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199D-1CAA-4F84-BB0B-4CBC9EC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DDA-43B9-415B-A776-C92E3C8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DCCA-4C4D-4083-80A5-99659CC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D943-46A6-48DD-8924-1D1DCE10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E759-8F3A-46EE-81F0-89FEFE3C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33EF-2093-499C-B0A1-93A8AC8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84A7-00FF-40F2-86E7-0DA9865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D7E2-6A0A-4B82-9E96-B0E987B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0E77-7B62-4C40-A3B5-7BCE385D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02EB-79B2-4C46-9407-E4916342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357B-E314-4AEB-B578-9E27FD42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23CE-3F8D-4AF8-B20C-0F9567EF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4C7-D608-48CE-B532-4872ADDF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95CF-373C-4616-90B9-43013FE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F038-B456-48C6-92A7-58D8544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842A-D90C-4E1E-B15C-64E03F2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C7FA-5F43-4810-9BE6-335B0C5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1490-2B1A-40CE-AB3F-DA6BBABE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0571-C8E9-48E6-B43B-44819CA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47AC-8610-49DB-BC09-EF6DB736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FEDD-D6F7-4D04-91C2-525E58F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8901-0C19-404D-82C9-589D528A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273D-4410-4D7C-B205-3CA51B3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CF7-FD9F-4C42-9413-2422AA0C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90A0-09D5-420C-882F-C1024991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AC82-9F4B-4A09-91EE-86C6EF9D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5E9D-9F66-4BD2-B6E8-A2BE179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E6CE-4481-458F-BA11-3585F0C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A703-9663-4FEC-9C40-8F58F5B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F43F-0B69-4AEC-901A-EFA4B46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8385A-EBB8-4769-B1D7-2EDE601A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007D-1EC8-4839-8AE5-42E40CD8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648A-7A5D-43D0-97E2-C6CD763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2A77-8C76-49A3-927F-7177488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D0F-1C8E-40B5-A634-7021274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774B-F9FA-4E99-93BC-A8DEB68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4343-6BAF-4F82-B1D0-0E602894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DBB0-4421-401C-88FB-685B1A5B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613-AF97-4CED-889A-664BCC1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C41-0845-4934-B8F1-25F464F7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DD7-8F6D-49B0-9B41-98C4C37EAF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2F25-7A19-4F65-855E-D2298A9CFA6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9357-04A0-4D03-AD10-BFB8A4035B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B542-44B5-4A48-9154-DF9B0B5DB37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1DA3-A9EB-40FF-A6E4-9A72D360E1F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6FF-069F-4829-9E70-A60E134CB2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077;&#1090;&#1086;&#1074;&#1086;&#1079;&#1074;&#1088;&#1072;&#1097;&#1072;&#1090;&#1077;&#1083;&#110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915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100;&#1103;&#1085;&#1077;&#1085;&#1080;&#1077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3;&#1072;&#1088;&#1082;&#1086;&#1090;&#1080;&#1082;" TargetMode="External"/><Relationship Id="rId4" Type="http://schemas.openxmlformats.org/officeDocument/2006/relationships/hyperlink" Target="http://ru.wikipedia.org/wiki/&#1041;&#1086;&#1083;&#1077;&#1079;&#1085;&#1100;" TargetMode="External"/><Relationship Id="rId5" Type="http://schemas.openxmlformats.org/officeDocument/2006/relationships/hyperlink" Target="http://ru.wikipedia.org/wiki/&#1059;&#1090;&#1086;&#1084;&#1083;&#1077;&#1085;&#1080;&#1077;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78364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авил дорожного движения (ПДД) и материалов урока выберите и запомните основные положения того, что запрещено водителю велосипеда и водителю любого транспортного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самостоятельной тренировки разучить знаки (сигналы) водителя велосипеда, предупреждающие о его маневрах на дороге в готовности на оценку продемонстрировать их практически с объяс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елосипед – это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елосипед – это транспортное средство, имеющее два и более колеса и приводимое в движение мускульной сило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ять велосипедом при движении по дорогам ПДД разрешается лицам не моложе 14 лет, а мопедом – не моложе 1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осипедист является водителем транспортного средства, поэтому к нему предъявляются такие же требования, как и к любому водител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хнические треб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осипед должен иметь испра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мо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й сиг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оборудов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пере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световозвращ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арём или фарой белого цвета, которые должны быть зажжены во время движения постоя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зад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световозвращател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арём красного ц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каждой боковой стор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световозвращателем оранжевого или красного цвета. (ПДД 2.3.1 и «Основные положения по допуску транспортных средств к эксплуатации…», п. 6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еркала на руле правилами не требуется, но при движении по автомобильным дорогам крайне рекоменд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ультура водител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и культуры водителя в области безопасности дорожного движ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ие состояния здоровья водителя и его работоспособности физическим и психологическим нагрузкам, возникающим при управлении транспортным средством в условиях современных доро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убокие знания ПДД, их осознанное соблюдение и умение применять в различных ситуациях, возникающих на доро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ое совершенствование профессиональных качеств в управлении транспортным средств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в себе чувства высокой ответственности за безопасность других участников дорожного движения (пешеходов и пассажиров), соблюдение их прав в области безопасности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обязанности велосипедистов на дорог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925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гаться должны только по крайней правой полосе в один ря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улируемых перекрёстках велосипедисты должны подчиняться сигналам специальных велосипедны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светоф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ДД 6.5), а при их отсутствии — сигналам обычных транспортных светофоров (не пешеходных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легчения обгона другими ТС занимать ряд возможно праве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а­ется движение по обочине, если это не создает помех пешеход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того, чтобы велосипедисту повернуть налево или развернуться на дорогах с трамвайным движением или же на дорогах с двумя или более полосами для движения в данном направлении, ему необходимо сойти с велосипеда и стать пешехо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ерегулируемом пересечении велосипедной дорожки с дорогой, располо­женном вне перекрестка, водители велосипедов и мопедов должны уступить дорогу транспортным средствам, движущимся по этой дорог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ны велосипедистов при движении по проезжей части должны быть разделены на группы по 10 велосипедистов, расстояние между группами должно составлять 80—100 м. (ПДД 24.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одителям велосипеда и мопеда запрещае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ри неисправности тормозной системы или рулевого управл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здить, не держась за руль хотя бы одной ру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зить пассажиров, кроме ребёнка в возрасте до 7 лет, на дополнительном сидень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зить груз, который выступает более чем на 0,5 м за габариты, или груз, мешающий управлению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о дороге при наличии рядом велосипедной дорожк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аться езде на велосипеде на улицах города и автомобильных дорог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ксировка велосипедов и мопедов, а также велосипедами и мопедами, кроме буксировки прицепа, предназначенного для эксплуатации с велосипедом или мопед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о дороге в тёмное время суток (и/или в условиях недостаточной видимости) без включенного переднего белого фонаря («Основные положения по допуску транспортных средств к эксплуатации…», п. 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здить по тротуарам и пешеходным дорожк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нескольких  исключ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езжей части можно ехать, если ширина велосипеда или груза превышает 1 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езжей части можно ехать, если движение осуществляется в колон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тротуару или пешеходной дорожке можно ехать, если Вы сопровождаете велосипедиста возрастом до 7 лет или перевозите ребенка в возрасте до 7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сем водителям запрещаетс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роме этого, водителям велосипеда, как и водителям других транспортных средств, запрещается (ПДД 2.7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ять транспортным средством в состоянии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опьян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алког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наркотическ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иного), под воздействием лекарственных препаратов, ухудшающих реакцию и внимание, в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болезнен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утомлен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стоянии, ставящем под угрозу безопасность движ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вать управление велосипедом лицам, находящимся в состоянии опьянения, под воздействием лекарственных препаратов, в болезненном или утомленном состоянии, а также не достигшим 14 ле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секать организованные (в том числе и пешие) колонны и занимать место в н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ять одурманивающие вещества после дорожно-транспортного происшествия, к которому он причастен, либо после того, как транспортное средство было остановлено по требованию сотрудника полиции, до проведения освидетельствования с целью установления состояния опьянения или до принятия решения об освобождении от проведения такого освидетельств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ять транспортным средством с нарушением режима труда и отдыха, установленного уполномоченным федеральным органом исполнительной вла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оваться во время движения телефоном, не оборудованным техническим устройством, позволяющим вести переговоры без использования ру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Специальные знаки (рукой) при движении на велосипед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ля обозначения маневра Правилами предусмотрены следующие знаки (сигнал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орот или перестроение напра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ая правая рука, либо вытянутая и согнутая в локте ле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орот или перестроение налев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ая левая рука, либо вытянутая и согнутая в локте пра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ко не рекомендуется пользоваться альтернативными способами (там, где согнутая рука) - водители могут и не по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овка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ятая вверх рука (люб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 езде в групп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еще один знак, предназначенный не для автомобилистов, а для велотуристов, едущих за в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мы спра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ущенная вниз правая р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мы сле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ущенная вниз левая р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16:21:12Z</dcterms:created>
  <dc:creator>Victor</dc:creator>
  <dc:description/>
  <dc:language>en-US</dc:language>
  <cp:lastModifiedBy>user</cp:lastModifiedBy>
  <dcterms:modified xsi:type="dcterms:W3CDTF">2017-09-19T11:07:49Z</dcterms:modified>
  <cp:revision>48</cp:revision>
  <dc:subject/>
  <dc:title>Противопожарная безопасность</dc:title>
</cp:coreProperties>
</file>