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DD5-54CC-4A6D-B645-740630F5F9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65C-E6D5-48BA-B8CD-D2226FF68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347-C6CB-491D-9BC7-3992EB9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2F3-1AD2-4A1F-979D-4F52C45B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660DB-7E57-49C3-ADB4-72364638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63D9C-CA52-4FBA-B227-63B4C03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AC7EA-103C-4B51-B4BD-17E4FAD9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FEFD-F6C0-47AE-B68E-D67ED20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7F0FB-B471-4CA7-922C-7AA55E8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29E56-1AF7-43AF-9FA5-9134325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51C6E-3B67-4531-8492-AB9C391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746BE-17E2-4559-A702-18F75834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C61C8-BF70-4530-B770-492B1AD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1C97-A51D-4983-97A4-234041CB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9BC-49F0-4B0F-9C16-0C8D5EA0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4E0A4-0211-4BF1-8490-AAB03D71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65412-3A48-48CE-B30A-8C161EB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1B1D3-70EA-4325-8D9D-750137A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C2D13-DED1-4042-B01C-417D8E6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BC83C-D6CD-4237-A8CB-8393ECC9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625FE-C943-4063-A101-7FF6670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CD18D-B5DA-4899-BA18-4442ABBF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A8F45-0524-4CCA-9A3E-C578939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4DD6-9A35-48D8-8CBD-9DD1092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BAD4-864F-4FEC-8A2C-7CE5FA24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4F1-C0B8-4C24-BB32-B7ABA989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66D24-0BA0-4CF2-8691-AC132BE2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E3825-6C75-400C-8AC4-ED7DB902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276B6-937F-4314-B66A-D4228F1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6AFB3-E9AB-4BD8-8B33-DEC2C75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8695-4CC7-424B-8F44-FAFCA34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564B-ACD0-434A-96A4-322D6E99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1FDF9-E327-4106-8D43-62B86F3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2776-CB09-468D-9F36-64F8A03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5E24-A393-43C9-ADC4-F2BFBF8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67D95-93CE-4662-B1D0-63C6E7D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D99A-7BEC-4016-AF16-2AFDDF13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E18D-822D-44DE-A7F7-12DC9E5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9616-2AA9-47E4-A193-59E7583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62EC-BED3-43D5-9944-C2C93393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FF096-90B0-48A8-82B7-35C3654B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D8263-737D-47FC-BF2E-1A09931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C4385-230C-41D1-B8EC-EE8E716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995D9-7E7D-4F1A-9FB1-C972BAC3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993DD-18C6-4222-A387-562C857D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BE9B-5155-42CC-9E4F-1BCA354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C4D2E-1313-4C5A-8313-1DBCA9E2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BC35-525D-4E41-92E7-EED48CF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C6E2F-AEFF-40AE-9BB7-243B4F1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19570-1610-427B-8720-35EF934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353A9-5552-4885-8591-62554E2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A0A99-F0D2-469B-8CF7-FFA255E5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F973C-6ECC-4E47-9388-07F6F2C2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15F1F-B590-4E4D-911F-ADFE5269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7CC72-CB77-45C6-89E9-887F6BA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EDC94-6CA8-44D0-9BD1-BE5B79C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6DE2B-05E2-4620-AB1E-55F9A6A3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F6E4B-E12B-43EE-A54F-64A4EC8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2320-BAF6-48CE-AB59-CAFA390C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AB3B4-5881-4291-9827-6EE34EDC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20726-8371-4DDF-AA64-7F845C8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1B108-5B82-4FE2-9EB5-265BCC4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E3AB5-452A-466E-B21A-C32BD93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0000F-CA1F-430A-A0E9-B3A65E0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FA785-934F-4B17-B345-BFA3ADC4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23CFC-026E-4792-9321-88C8CEA3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233F3-674D-40CD-9171-5E00E419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062F8-5B53-49A9-B148-C54178F2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29BB4-957C-40D8-9AF5-E32DE07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3BEC-71CD-4283-B61C-12733FA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2E644-EB9E-4980-9040-6B97C998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160DD-EC56-4A5A-A474-327589C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2FF66-B1EF-4108-8BEF-B6D03B56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2EBB6-73CA-44B4-A47D-E920979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8A02E-EC74-445B-88BA-8D395EA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9C23-EB32-4420-A76F-CC2C4BC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B1C9A-FE6C-4AC4-BA75-0744D819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228F7-E63D-45DE-AAF8-59428E53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193C9-A127-4CE3-AC83-F32458F4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0F1FB-8158-4D78-8050-96E2669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C6E-F359-4C82-87C7-B9FFCD0A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C76F0-2033-4DC3-A398-94E29AE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33CD9-171C-4941-B698-68CFDB24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2366E-82C6-4E0E-AC1E-2D3BE005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F3311-C223-4D4A-974E-A2BFEB7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256AE-892F-4255-B5E4-3C5437B0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BFF05-9561-460E-8DE8-39996A6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CF359-8BF7-4177-BC3C-C21BE16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831E9-BAED-4E09-9C2E-B3FDC35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84753-1D7C-4F68-AB35-F1BB69D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EB5BB-3672-45C9-AECB-E60480B8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60A-AC53-4203-8967-77C89AB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0D36F-10D5-4B57-BCCD-5AF041AF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6CD31-C7EC-4F33-AEA9-1640B98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D2A69-0BEA-4668-B67F-EB30CD5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B8836-DE4F-40D1-83D4-7E804F2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50CA3-A7D3-41FD-A42D-871CC6E4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1EA72-5C0B-4118-8D5C-0501CD9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06D02-FF9D-4AA1-96D5-009D23E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C7E09-03B0-4051-A602-3B2C253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56869-73DC-491F-8BBB-386E927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D7738-AF13-4A4E-B6DD-0E881A2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9888-D50F-41EA-B56D-B267218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38383-C391-42BF-AFD5-D81770C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5140A-9551-4F08-8451-298460C1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CDEB4-4EE5-42D0-87C0-D5359DE4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CDAB6-654B-4234-A330-04BF54DF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58D80-EC6F-4338-A887-442D99A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60F82-12F0-4BC7-B5B0-28CCA97B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35E98-9466-4971-8BCE-E5BF5F2B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65048-7B0B-4CA1-B21F-BCBA741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F1F92-7287-44B5-B13A-3C27F8B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8A3EF-6396-4661-BF86-6D9CAD2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F7E-DAC4-4180-ADBE-AA45D21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C582-4E1F-4C88-8820-08CE547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873C7-3D75-4884-A170-90B2CCA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20301-A5C5-448B-A711-D9F0F97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2061B-20BF-47C5-BD92-7DA4ECB8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8BE02-09D2-47F2-BCF4-3C0B985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DD8C9-776B-4232-BCBE-A47C5235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65427-2E30-41C6-B2B3-1CAEF7E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381EC-18A3-417C-9361-2D84032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669D7-3E41-4CFB-969A-5DA383F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66E3B-D266-44DB-9E5B-34B1CC4C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83AAB-F38E-4AE3-A4B9-115184F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62C-A610-4085-BF4E-85EB49C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8646D-5A03-4953-80F9-2FDC52C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727BC-CDD6-4262-BBDF-0D7AE43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11544-6F50-4100-8346-04C6B71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C5973-5DE5-451B-A954-4DAD5E86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8F64B-233C-4D5C-BFF2-38E23A9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A0A9F-1064-42CB-BB09-F146DD19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5F4C8-DE1D-42B9-B7C5-B8C86F6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B4400-4221-4A2B-A675-16F33054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45127-BB53-4FBB-972A-14AF8DBE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F6332-5194-491C-9FDF-BDDD0F3D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E889-0563-45D1-8FF4-FEB6E68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21AB2-139D-47A9-9FF8-A571BAD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635BB-F501-4A81-8E81-0C325EA1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0B274-C6AE-471C-8DF9-536210E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8D4FE-327F-45B3-B84E-586DDFD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2F9CD-701C-458F-9520-846FE4E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B0A75-D1CB-49E6-94F9-B1BEDFA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56D6B-DDF7-4515-8399-EAA3CB2A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980F2-469C-40CB-BC4E-3CD7F187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2AC2B-9E43-49DA-A3D9-7C2EEA2D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08BAE-D460-4205-A262-586766F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999F-2CE5-4602-BB1D-DEB49CDA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CA0C9-C061-4F1D-8D98-9C06D8EE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31967-05D5-45E3-9A6B-6F3D35B5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22475-E38A-49A3-A2C8-170CFD12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8C8F6-031C-46A6-A9AA-D4D9B527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960EE-830E-4477-B912-659BA34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E264D-0891-4D99-A64B-BAABBF6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BFF3A-DE88-4309-8096-E12B7F5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094E1-3F98-4B40-A742-8ECE2D7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7CB4E-DF4D-4A5B-BBD0-AA09382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61F9E-7D0D-4890-9910-C3ECACA2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F333-1DB2-4B20-9143-B5AEF08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59F40-D43E-4C7D-8054-B5149CA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C7239-7642-4FA2-8676-8C1FBE87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8ED53-3199-40C6-BADF-2D58570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0CA27-A118-42FE-A4DC-93D28D2F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91FCE-C888-4CB3-9F1B-E39D579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CE82A-DD44-4F2E-B23D-CC4C949A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77212-B75A-4956-965D-3C59B666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2D2AA-D470-43BF-8FE4-DA5203B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7AE33-314C-4165-A604-C1A6F1B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FE851-062D-469E-B1A6-C81969B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DE9B-ED2E-4EBF-9E13-6CA8ADCB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DB473-1E3D-4503-807D-B54AC69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71759-FE90-4BB6-8E08-A30739DF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19B124-BB63-4457-8BD1-819CA06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28D01-37E7-414E-8A5C-84C91A7F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C09C2-34F2-49EC-BCEC-90342CAF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99E9B-8E84-48C4-AB95-7DC3FB0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80734-1FFD-4D86-AEA7-F283244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6EBA9-0C0B-484C-90F5-2F29E26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A64FE-EE41-462C-BA05-15AB8C38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6EC60-BD52-4952-912A-9493E25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46C4-56A8-496A-9703-41EE74D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06B1E8-493B-4446-9E2A-2BEB70F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2BEB2-7863-40B1-8EE1-5329F40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F07F5F-B4B2-457D-BC14-EBB8FE8A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81FB1-B6A8-4895-BFF8-4FA4FC1E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51B1AB-5E52-43A4-8D51-2EEA1C29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B5A91-94FD-4D0C-BE3F-D4B6B46B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7319E9-6C16-44A0-8CF4-37F3EE8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0C3EB-C189-42FB-B1BE-93B4024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2BF87-64C0-4265-AB34-B8FCCD5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180B6-3302-4AC5-93A7-4397376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682F-C1F9-4550-BC63-F81EA6F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B7E0F5-0DCE-4A6D-ACA0-34F0B59A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5BE3AD-917D-43EB-8D8A-46624BA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7711AB-A145-43AE-9D1E-1C5B21C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CA7F8-4FD4-4A9D-802C-A8654B0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689FE-A6F3-4411-BD77-90593AA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C8A48-BD12-40D3-8822-94996FA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F664DE-7A96-4D7F-A522-D98DBB13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94116A-4FAC-4F13-B166-3847BB7D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32386-8DB8-4E11-BED7-1D4C7176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020A2-CB31-4EE2-BC47-88BFCA30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7B5A-5CE1-4E24-8FFF-62819909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860EC-458D-4033-8514-78A27239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FCDF29-59C9-40A0-B66B-4F9CC4D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09BB1-A80E-4938-8E9C-39FF8F0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03C86-D40E-4AED-A71D-DD6FFAD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8EB59-A0AA-45CE-A204-F58531E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57CA7-EC8E-4FD6-8AE0-C14ABA1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9E8A8F-A1E8-4312-86F1-E204645C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8DA6E4-2B08-44B3-8F00-2595F7A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ED9E09-A091-4EC4-88C6-1D845999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DEA0-2246-4C78-89A5-58F1F84C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D70-228D-4E41-BA7E-F89968C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D519-C5BB-407F-8B94-C1E7CD71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0106-1550-45EE-B8E1-2E9875D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69B6-D35B-4C97-8208-8A8A58E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B161-044D-4B64-856B-1DF4424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7BF9-3214-4A78-8A4F-8E3F9C8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C97B-27D3-45B7-8486-B785DE96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3092-C0E5-4634-B80F-1C9A13B0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668D-F612-42CD-97EB-D5740CF0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3D30-DBE8-4134-A995-5DFDEFE1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BDFC-46B0-44B6-8C7B-3AC400CE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7F3-33CC-4870-B0DB-47D4391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6B71-8AF1-48A7-B34F-1E94F5B6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5E79-7337-45A2-9E2B-6E1DD8C4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B78A-EE65-4009-A447-766FB319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55AB-2FF8-498E-990D-D25E683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71AB-76CD-4673-9A73-52383A1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BFDE-61DB-4661-8266-72F63C4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E8CD-7071-47C7-88A9-28EA0C2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BD31-CE26-4E3E-97DD-3747C053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EEE2-4864-4BFD-AEA7-DCF9D78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5159-44B0-4572-97AE-C16FF575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0BC-C15D-461B-9681-1D7303E0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3F4A-5246-45DA-AA91-A8BEFD6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9514-EA34-4026-8E88-46A0C018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7A48-144F-48CE-89B1-BC4F71F6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A553-668C-4CE6-92CB-3CDC7913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8A5E-DC8F-4695-BEBE-F8E24BE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FE28A-C7C8-4A0B-AE43-262C335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CDFF-959B-40CB-8709-0479CBE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8147B-E8C2-4201-9310-9A79551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6739-DD21-4138-BE34-8982DBF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9B36-9641-4023-95C5-9D2AE9ED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0D3-B055-4BA6-833A-7419DA5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BBA5-3E76-4E7D-A790-6ED50BB7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C8EA-9574-4A58-8808-C575900F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6D9E-8088-44E0-BBB1-30C95B7E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0341-C653-410F-B22F-16EE9FA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7A63-1894-4CDA-B6FB-077255B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8637-534F-40B1-A8BE-E12D1EA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845D-C216-4D64-B33A-49E7C01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846E-C89F-4418-B10F-4AA21AA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029C-D843-471B-90FA-D5FCDA6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8AE3-EC7F-47A5-8967-E8F4AC4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AD1-8C4F-47B7-97CA-8E4BCC7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EBBF-C34C-4BA3-B801-CEBA6CC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34AA-C7AD-45FD-859B-0189694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E746-0265-4AA9-9470-A16CC764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53F5-3D54-47A9-8C73-6B3FAB16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7EFB-0D4D-4CF2-BFF7-1F555D37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765D-5B6E-444C-B78C-53FF0EC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3051-CC03-4A26-ACD0-AA1C0F02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7301-C7C5-44CB-9744-9BFF7198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B8C7-1CB2-4AB5-805E-A9BC52F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7D720-1CBE-42CB-859F-C32236C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F9E-8E68-445A-9BAD-B965354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39F0-4822-4E29-80A7-49EB620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E3A9-2CF5-49A0-8988-ADF3275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550E-C9BC-4BB0-AB10-308457C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85F9-B256-49D2-A764-106CA236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04C0-053D-4321-9278-22BA5818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25C5-E79F-4ECF-AF2E-A0512363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A5E7E-BA8B-4198-BC51-A73093FD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91CD8-89F2-49F4-BA98-3917D541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FF45F-BF91-4BD9-A928-572E0072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DC11-2EF6-4788-842F-42F7E6D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B15-E9F5-4AB3-B34B-3B43A473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9FBB-0473-41F9-B2B6-607E64B7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1E46F-C42F-40C1-9146-89D9902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00450-E0F9-4335-8D51-D5436A1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9846-1C2F-42D2-8A6A-A6BDF5AE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803E-E769-4324-B098-0DEAB77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DEC8E-BABA-4A04-966B-CDC58FF5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C05CD-1F39-4640-B786-0CD34D2C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0EE6-7DE7-4F0E-9C08-CC11D4B5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E516F-BE24-4068-A422-CFA474DE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05F67-2C7B-48E0-AD86-5067BCF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AA6-79A6-4645-A18B-D7523D0353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F59-0310-4D2A-902D-4D9C64B3FF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10E9-7A49-45EE-AE50-BD1B3D55CB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6A15-8E7E-4975-AC6B-DA813CB7B4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7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732A-E54B-4F85-82EE-642BBA665C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66A7-CF47-431E-A222-0D59B861A59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083F-4061-4A8D-BD34-2593B96C8B0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4E4-D16C-43A6-A4A9-B4AF27FD9A1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530-4959-4C33-A019-4A61DD06EAD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848-B1D2-4826-8450-CAC6275D1F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1FAA-2EC6-4416-A33B-12D7E2A477B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E16-82EE-4586-9420-A9BD52400FF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403-1E72-45E2-8A7B-4CDC29627D4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725-9039-46B4-913B-C96C9E5048B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B6A8-FDB6-4526-BEB0-CA6E144BE71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96A4-543F-4D71-9D9D-FA78ECF91A0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908-20BE-4ED2-95AA-9B5CB190CF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D31D-0ADA-4AC5-BFDA-6E477D9A7D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E400-49EE-4003-AA6A-3BCC46C469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6A8-F5DE-42FC-95DC-3D1A82409C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E1D-8866-47A7-A4FB-E67BF3BDE2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0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639-3F83-428C-A246-E6A4774B3D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5AE-0D5E-44AA-91FB-0E06A31A74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9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83C-1C39-4A4F-8F08-01241DC281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БЕЗОПАСНЫЙ ОТДЫХ НА ВОДОЕМАХ </a:t>
            </a:r>
            <a:br>
              <a:rPr sz="32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редмет: ОБЖ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ласс: 8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здел 1. Обеспечение личной  безопасности в повседневной жизни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лава 3. Безопасность на водоемах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Урок 8. Безопасный отдых на водоемах.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рассмотреть основные вопросы безопасного отдыха на водоемах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азработал: преподаватель-организатор ОБЖ  Филимонов Виктор Алексеевич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8. Самопомощь на вод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8.1. Самопомощь при возникновении су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 возникновении предпосылок к несчастному случа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сегда сохранять спокойствие, не панико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При судороге мышц в воде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ки или ног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одолжать плыть на спи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ьцев руки (ощущение стягивания пальце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стро с силой сжать кисть в кула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делать резкое отбрасывающе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икроножной мышц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гнувшись, двумя руками обхватить сто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силой потянуть ее к себ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шцы бед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ватить рукой ногу с наружной стороны ниже голени у лодыжки (за подъе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нув ногу в колене, потянуть ее назад к спи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Главное правило – работа сведенной судорогой мышцы ускоряет исчезновения судорог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доемах необходимо соблюдать общепринятые меря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ение мер предосторожности – главное условие безопасности на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купании нужно быть дисциплинированным, не допускать шал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аться безопасно только в отведенных и оборудованных для этого ме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аться нужно в воде допустимой темп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да – стих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не прощает ошибок челове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для контрол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сех ли водоемах можно купа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меры безопасности следует соблюдать при купании в незнакомом водоем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 каких сооружений запрещено купа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материалы урока, презентаций, учебника и личный опыт сформулируйте основные правила поведения на воде во время купания в различных водоемах, запишите в дневник безопасности (тетрадь), в готовности представить его для 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нализ происшествий на воде в РФ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происшествий на воде в 2012 и 2013 годах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8" name="Object 4"/>
          <p:cNvGraphicFramePr/>
          <p:nvPr/>
        </p:nvGraphicFramePr>
        <p:xfrm>
          <a:off x="685800" y="152388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1. В чем опасность водоем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аще всего несчастные случаи на воде связаны с купанием в случайных, не приспособленных для этого местах, при переправах по льду через замерзшие водоемы, катаниях на лодках и других плав средствах и пр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вышенную опасность для человека представляют реки, озера, пруды, карьеры, строительные котлованы и траншеи, заполненные водой. Ч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утые, обрывистые, сыпучие, заболоченные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язкое 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илие водорос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лубокие места, обрывы и ямы на дне водоема в неожиданных местах и вблизи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льное теч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довор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ойное 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зкая температура воды, особенно у дна водоема со стоящей вод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зкая температура воды вблизи подводных род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ряги, мусор и другие посторонние предм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дводные водозабо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а сброса сточных вод, отходов производства (особенно химического) и канал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допои,  броды и лежбища домашних и диких живот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а стирки белья насе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котомогильники вблизи водое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меи, пиявки, насекомые, хищные и ядовитые рыбы и молюски  (медузы и т.п.), живот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2. Последствия нарушений требований безопасности на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езультатом нарушений требований безопасности на воде могут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оп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зические травмы (ушибы, растяжения, вывихи, переломы, укус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доро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имические ожо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рав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фекционные кожные и внутренние заболе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удные заболе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болевания уха, гл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кусы различных земных и водных су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резы растительност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сихические травмы пострадавших, их родных и близких, очевидцев и свидетелей происшествий на во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3. Выбор водоема для ку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купаться в водоемах со знаком «Купание запрещен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 незнакомом водоеме тщательно обследов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ре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 должен быть песча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уск к воде удобный, полог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кваторию, примыкающую к берегу (обязательно и на знакомом водоем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торчат ли из воды коря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ли на дне топля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о должно быть с постепенным уклоном, без ям, водорослей, острых камней, стекла и других опасных предм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а должна быть спокойной – в неспокойной воде могут оказаться подводные ямы, ключи (родники), густые водоросли, ому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Правила поведения во время ку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зависимо от водоема (море, река, озеро, пруд) и места купания (пляж, бассейн, незнакомый водоем) необходимо знать и соблюдать общие правила поведения на воде во время куп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паться лучше утром или вечером – солнце греет, но нет опасности перегрева и ож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а воды – не ниже 18 градусов по Цельс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а воздуха – 20 – 25 гра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купания зависит 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– не ниже 18 гра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пературы в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град. – 6 – 8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 град. – 10 – 12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 град. – 15 – 20 мин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егорически нельзя купаться до озноба - при переохлаждении возника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сылки несчастного случ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доро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новка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60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еря созн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Правила поведения во время купания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дол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входить в воду после длительного пребывания на солнце – периферические сосуды сильно расширены для теплоотдачи и при быстром охлаждении в воде наступает резкое рефлекторное сокращение мышц, что влечет за собой остановку дых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аплывать далеко – можно не рассчитать своих сил и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ть отдыхать на воде – лежа на спине поддерживать себя на плаву легкими надавливающими на воду движениями ладоней рук и работой но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аться, чтобы в органы дыхания через рот или нос не попала во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аплывать в область сильного течения (на стремнин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дплывать к водоворот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дплывать к водоросл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олнении водной поверх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ох производить в промежутках между вол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я против волн – спокойно подниматься на крутую волну и скатываться с н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олна с гребнем (стеной) – лучше нырять через волну немного ниже е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опасно прыгать особенно головой в воду с пристаней и плавучих средств (кораблей, лодок, плотов и т.п.) – под водой могут быть сваи, рельсы, камни, топляки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заплывать за ограничительные знаки – они показывают акваторию с проверенным  дном, определенной глубины, без водоворо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до плавать далеко от берега или переплывать водоем на сп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езопасный отдых на водоема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5. Это должен знать каж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тегорически запрещается купаться в зоне водозаборных станций, плотин, пристаней, причалов и других гидротехнических соору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одплывать к проходящим судам, яхтам, катерам и др. плав. Средств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близи них создаются водовороты, волны и те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ывущего может затянуть под судно, особенно если оно идет против те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 и не следует плавать в открытом водоеме на надувных предметах– камерах, матрацах и т.п. так как эти предметы могу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отнесены ветром, волной или течением на большое расстояние от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захлестнуты волн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кользнуть из-под плов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рыть пловца с голов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особо осторожным при купании с маской, трубкой и ласт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ть надо только вдоль бере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вать надо только под наблюдением штатных или добровольных спасателей – чтобы они могли вовремя прийти на помощь в случае необходи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лавать трубкой при сильном волн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а безопасности на воде – дисциплина и организован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алостях не переходить известных границ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ы допустимы только на небольшой глуб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ьзя подавать ложных сигналов бедствия, например: «Тону, на помощь!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терять из виду товарищей, приходить им на помощ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оставлять у воды без присмотра младших братьев и сестер – ЭТО ОПАСНО ДЛЯ НИ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Безопасный отдых на водоем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2.6. Государственная инспекция по маломерным судам в составе Главного управления МЧС России по Калининградской области призывает население соблюдать правила охраны жизни людей на воде!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е, что на водных акваториях запрещено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упаться в местах, где выставлены щиты (аншлаги) с предупреждающими надписям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плывать за буйки, обозначающие границы плавания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плывать к моторным, парусным судам, весельным лодкам и другим плавсредствам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ыгать в воду с катеров, лодок, причалов, а также сооружений, не приспособленных для этих целей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грязнять и засорять водоемы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упаться в состоянии алкогольного опьянения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лавать на досках, бревнах, лежаках, автомобильных камерах, надувных матрацах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водить с собой собак и других животных в места массового отдыха населения на вод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17-09-19T11:31:43Z</dcterms:modified>
  <cp:revision>1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