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7B3-DFE9-4B03-9DA3-BADCE5FAA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80EC-DEB6-4A0C-A07B-3FA27410F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61D-44F3-4704-8E0C-16283E75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FE6-04A6-4F56-BD3D-0E33CCD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EAB5-B255-4EAB-B936-42E0EBD7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4EF4B-940C-4374-A985-344F134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09CCF-6B50-4A13-9878-476FF48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CBD4-6792-4CD8-984D-0274F6C4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64BD-F132-4F4C-9B67-86BE3F4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F6CA5-936F-4EEE-88FE-23BBC4B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7BB05-E413-4372-9A0B-0053814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FC123-C3B3-4EFD-96DB-31440464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8B7A5-0024-4295-8274-7B6BE72F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4BA15-C4DA-4AD9-A6B1-4B3CD898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2DE-EAD2-4F0F-8DFF-02D716A0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D6ABA-4C75-4338-87B8-B895816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5B7F0-1F31-43A6-A38D-D7A6228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7C796-BF51-4468-B55E-22700DF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5C1EE-280D-4921-89F0-FFE90BD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D2E7-7AEC-41ED-8BD4-C98120B3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9B18B-5C0B-4AE1-B261-BBA4A91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5ABD9-9ED3-4BEE-8A62-637A986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AD2F3-01A0-4077-9440-1C1A086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7AC6F-08D6-4C25-AAF6-A403BDA2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5B560-C9C9-41D6-808B-BB932FB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7DA-173B-4E23-BB37-3A7BA9DA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86932-0821-4CC2-8DAC-248E8291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2EF5-541E-4908-979C-21F55B5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D426F-DF34-4013-B011-8876F22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7199-BE3E-4ABA-BA08-9DC94594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52DBA-008F-40A2-A67A-1CD0E75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59EDA-D887-45D6-B2A7-D8AEAFD4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7B623-BFEF-4073-9220-11E29ED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06E92-03E3-47C7-871B-615D475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110A1-8322-4EE8-BCC0-5FBE01E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3AD1C-3273-46FC-8EF5-4C2DE7C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9267-D5A7-4293-810D-121BD4CF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7F6D-158A-4CB9-8116-B926D11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2E35-C65F-4AEC-9FA9-1CA7F06D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F25C8-93BE-4EF4-BE4B-3D503052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A3B54-0B57-4436-9EBC-0706B15C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E4CF2-C9E7-48A8-B65D-F96A71E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F2A9D-87EB-4DEB-9CF1-C75BE2E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5C89-449E-41D1-A9F1-7AAD60FE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FEC31-0358-43C2-9EA6-A0597FF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C9CB8-20EF-4629-B659-C2AE57BC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B9425-8614-4C4A-B2BE-222A889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0237-CBE2-48DB-81C1-C496BB2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84E72-ABC2-4444-8DB7-EF50655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0089A-0FBD-4E27-AF2C-9B0AD61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6F272-59CC-4BBE-A6E9-91606B1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A240-657B-4A40-BC6C-E9339232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42AB4-78AF-487F-9111-F18A54BE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EFB71-456C-4DDB-9E03-F782DB04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6BBC5-E291-4868-8278-B765FE9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11D04-1DF8-454C-AEFC-20946B13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685C5-2DA8-4AB4-AF0C-B90FEC2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91BC8-C5F3-4A2D-8866-A8C76E4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1618-0CDF-4CEE-8A56-60DA9A6E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5A671-C309-4EE2-BB28-789D8D4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221B6-40B4-41CB-A857-3AAA9D5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4A85D-B805-48AE-9695-CE82753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E7F77-B7EC-4637-8AEE-2A75241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982D5-C8F4-493A-A8F2-8A03741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60AD7-6947-4F6B-9751-4F8D4D30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D10EE-D056-48D5-A8C5-BFF63EAB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9E370-8190-47EB-82AB-9506DBE6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CE1AF-00F7-4E25-B1A3-FCC1B570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9530B-B1AA-4AC4-9F24-6AF8077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5DC-B5AA-4D45-8212-4CB100B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B61BB-A8AA-48B4-9D29-F617A8C8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00D87-C444-4D7A-916A-93B0F98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0DF32-371A-4D0D-AAFA-AA505C2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D4AFC-1B02-42F4-BAC4-C017BE3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02884-109D-4004-8F4D-0CD77D7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8CEF3-16F4-4E26-81E0-D1CAA03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CEDB5-455B-4780-8143-84ED9DC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E2DA0-D865-45F6-87C3-25574757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3D97B-0B9D-4D55-9327-8FF7AE56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A69C9-184A-4445-8F09-04B99201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D16-DF7C-46DD-977C-A29AF7BE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C8CEB-7BAB-451B-8E7F-FE4A536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50035-1089-44CD-B768-EC48B54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AC5D0-81A2-49F4-866F-DB36F73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FBBB4-FD36-4794-A7F4-83BB171A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7ED02-4E8C-4992-8F20-EE9897D0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50893-F2C4-4C52-9DF2-F7C193D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81070-1845-4FC9-B3CF-64A4ECB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CC481-A59E-493F-B0E2-0189B0F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44BBD-F097-4538-B8D2-AA3A122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9FFEF-1A3E-4BF6-AA94-2AC66F7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849D-0F24-4E38-A0D6-5E42ED56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30F5D-0406-423C-B681-41E2D1F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11601-A627-4CE7-8301-3A53528D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28FB5-67BA-422D-8F5B-9BA947F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2C01E-89CD-4E86-8DBA-4FD67257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E0BD7-DF2E-4F45-A30F-BF74BB6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4B0B9-D831-4CD7-95C2-9AF1805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B5EBD-B7D1-4C8B-9154-98A142E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F066C-6B60-410E-B534-37F9466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90838-7BBF-4D0C-9536-C3ECFB1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FE0F1-D65B-4245-A142-183D9CC4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6B5-DFC6-4C19-A62F-6E6DBFE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B7A56-2587-461A-82BE-A251581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80A63-7275-4F98-A6CF-8E91857A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A17D2-80CF-4FBD-B4FE-34814BC6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2C988-68F2-4B72-A625-D9CF051B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FC036-95CD-4B0A-AEDA-F23A2BF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56D17-F44B-4140-B835-574690EF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43659-6FE9-4D9B-86DF-45C9715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E3A1A-B905-48E8-B7B8-A9FD5303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ED7CB-D7AD-4002-9BAE-5FAA279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26D3F-0169-414A-ABD5-32E76F7A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B35-738B-49D4-AC99-FBFC4B26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F33C-4FFD-4EA1-82BC-297EE08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85395-AD0A-4689-8072-9DECAA1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82923-81ED-4D94-B2B4-7DB4F0B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3EF33-B288-4B44-BF40-ACBDC90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498F2-8FEB-4C6D-8361-02630821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36DFC-D807-416F-9356-E03425DC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63A15-F9D9-497D-93AA-39B28AA6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D7959-41DA-4019-B48C-39649E3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AEC5C-7CA3-4E95-86ED-DABE89E0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A880A-A7F5-4C93-801C-83705F8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DC08B-3104-40D4-82ED-28D7811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80AF-D411-42E9-9A7C-FA5F33B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0F752-1FDF-471E-B456-863CF50A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B586E-1D1E-4CC2-B975-299EBC69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05B65-4390-4EE4-99FC-39157CA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BDB1F-20C2-4DD5-9B21-249C502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46493-7162-4BB6-8B63-5480876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90C53-242F-470B-A015-EC3A7197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02FD5-E2EE-441A-A010-63E8846D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9514E-B5BB-4584-A6B5-079CD8D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D19C0-FAC1-46EC-B0A8-0FB6453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3CB27-3143-4AD5-805B-6BE0041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CA3-88E3-4580-8059-2DCEC10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8DA4A-30FF-46BF-969E-7B6BF6A5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44757-3EF7-4851-8F5E-BEE4571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C86E3-B51C-4070-88C3-7B4B49E3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58180-04FC-4104-8EC9-68FC305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B1F18-D964-49F7-9B97-F66DF8F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B7C9A-EED3-46C3-9117-3ECAC03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81DE4-041D-471C-980E-C91C98B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84EF1-DA70-4AC6-A610-21AE8847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88342-6947-44FE-BC91-D5398BC4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81A47-DDAA-40DB-9339-5EB2D13E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79F-7A2B-4F90-912C-CF3E1CCF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33FBF-AC01-4BDB-AA25-BBD787B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9CEBC-005E-4BF8-AF1B-E8186D5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AD039-F256-4590-B18B-8350740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9E8E8-224B-4A6E-80F3-2433240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50829-0F45-41A4-8920-533B64B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C8710-09A5-4E80-B9AA-125B258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59C01-3888-4880-BC9B-E07A2E2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39DD5-DE11-4FB6-8BFE-CEA359B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C3593-F0D6-4D95-B6D4-E17F175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E0580-343D-45F8-A43D-308A7999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D856-C798-4ECF-8349-3434BCDF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65BF6-1DFA-48B8-8268-E7FC80DE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486A5-BFAB-4CB6-AECE-8B2CBBA6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FD73A-FD51-484C-9B31-61F0C788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6DE7C-4228-4558-BBE4-CF208EC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C9A10-8B91-4424-B751-99EDEAF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85B2E-7B05-43B2-97B9-9F4A63C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FBF68-4942-43F4-88BF-8661280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9C271-127C-41CC-A0D2-9B5293F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7649C-5816-4E19-903F-EAEA52A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FD16E-724A-420F-9433-D5B8885A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0478-03AB-40F4-AE91-6D47D431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99EC2-F751-47CC-905C-2107589D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50212-09A2-4FCC-BC0F-D5C6966B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133A7-7900-4618-9146-C85E86CE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D56FA2-F671-4D59-AFF3-571B0F67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63EFD-40FC-493D-9E37-00A89BF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13A13D-C45A-46AA-86A4-01990D8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2A448-F632-4E1C-9AE8-5114C829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5B3928-47CF-45FA-A950-8EA9FCD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7C5DB8-280B-4EA1-A35D-5E834F7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F88EB6-0DDB-4A63-93EF-D560248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F9F3-BF8E-4E4F-AD5E-55EA1B4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53B4B-0ED4-4F0C-967E-55D716C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7392F-2D32-4427-986F-6854319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B225E-042B-4BDC-AE7B-F4C2E1C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3AB89-858E-4CC1-85D1-4D8680C4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98116A-739D-49B0-8A20-41C1F2A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526628-5448-4A35-9B9B-6ED1B5DB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EE298-D34F-4A8A-AB32-411999B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ADF1B-C75D-49F8-B44A-341AB5B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8D6FD9-B1E2-4562-8E16-E55E9120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18657-F9C6-41FC-A075-C8C1367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48EB-088D-4787-ABC0-59AA5726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0327B-DA34-4F0A-84EC-A5CB8A81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05DCC-85E0-4401-96D8-CCB183B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490FB5-A2B1-45B1-9CA5-510CB07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9EA48-B6F9-4EB5-8036-8F8C5E4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90811F-EE71-4137-90D8-EADB654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48C7DF-F320-4ECC-A9F3-F81DE549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61F39-955E-4F23-A15B-B426DD3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60060-D33D-4E15-AC9E-D70225DD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D31FAA-2D79-4B79-8651-7B35E82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AC8713-6DD6-489B-92DC-86EE01E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A90D-2D77-4FBF-81D7-0A676AD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9493AB-A66D-48F0-97EF-47CCDF7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5E1E5-E3CA-44BB-917B-C9183819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EAA70A-6841-49D0-BD9A-8E6294D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80B214-ACE1-4C22-810B-343018F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86292-892C-4029-AC7A-3991934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C51F5-22C6-40FC-8F83-CFE8299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2F0260-F405-4931-86CA-357D63A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A4CBEC-1761-4D68-853F-21A5E9A8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3B9BF-07A9-46A9-9550-78A07055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B81A-F9DF-4DC8-A3FC-A75B7D5A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7A5-DC61-4D8A-8D07-3D9D6C6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79BA-7855-4305-86FE-3266148E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FF85-0637-4FBE-AB66-968C967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5520-1B44-4394-A503-D575D05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035D-8B50-4791-9D77-FCA66C1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5352-F997-48ED-BE93-39E6E0C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59F1-462D-467B-B1A5-E775418B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9EC2-A76D-49F4-8EDA-A063776E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B78B-637E-4002-AB2C-578EF465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B651-F64B-432C-84DB-A75ADDF2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994D-30E1-48AA-9DE1-1A6F2F5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5F4-7B1A-47EA-AB95-8180C2B4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D3EB-8709-4EA6-9267-9C5D00A5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CA3D-CAE8-4A66-A65B-765A515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AA96-C069-4153-815E-E65B5AE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A0D2-1A8C-435B-89AD-F56245E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7252-10A8-4994-8801-1117319C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27EE-DE0E-4659-BBDE-62C2A4A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F916-86CD-45B6-884C-7ADA8646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822D-E6C0-4220-A4B7-B1F58F57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77B9-825E-4E8F-B009-2C51EB4B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0EA1-C4F8-48CF-A6E2-679C6078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C65-2287-41D8-AE87-A5AA1EAA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3FA8-E871-40B7-BD45-54921E6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EA556-6BE2-42E2-9F96-7ADE088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24AD-07D4-48F2-B050-F9C0FF8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1F09-7019-4BD0-A1E8-CFA321C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96F97-91F8-4660-9105-05782F29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26E9-C4A9-455C-9192-5B6E86F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6DEB-4B50-4A1B-A474-C4F7BA5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6332-F444-467A-AFF5-3E1AF76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0320-C6FA-40A4-A875-41A2EA7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5502-FDF0-4149-9A4E-E3158B0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CC0-9C9B-4D8E-AF42-8520DA1C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B57C-FEFC-497D-9E6E-04674148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AFB7-B7AF-40A7-9D78-4FFB2C35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FAEE-4467-483E-BA58-DC3C3E9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D42E1-7232-4D0D-94A6-B09DC06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AC2BB-9D68-4CCD-87CD-D309BDB5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E08C-D5E6-46F9-9F22-033414D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EC02-6CAC-4BB0-9AD6-1FF9FE2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84D5-9175-414E-A8FB-B43395B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9F025-2431-4905-8050-ED1BF57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F7F1-7F1D-4454-A2F5-DBEAB35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0DA-3B0F-4C59-8B13-16110D1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50A1-077A-4D9A-872A-60091D2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A8A1-B02B-4ADB-A112-433A9E09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B7F1-F6E9-4B12-978F-94542DD8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90EA-E21B-4569-9683-67E4E1D7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6322-99C7-42D4-BCE2-F4DDECA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D57C2-4646-45DD-BBBD-519D018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2D50-ACBC-456D-8EFB-83477D47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29FA-1F6B-4F81-85C8-625C9DF9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3964-AE16-40C9-8BD6-0A830D5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82E5-89F0-4ECE-89B3-0CA840D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6E0-3EF3-4104-AD91-A0948AE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F520-B0CB-40CC-BCAF-8453826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3128-7213-4F41-8204-0EBB188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09DE-693D-4C7A-83C1-5A4260D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9416-76EC-4C05-A184-5383004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4C50-61DD-4B22-8AE1-A433875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1D53-AE6C-4627-9B80-5D2B66F7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EE24-C076-47E6-8CBA-BDB771C4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3B74-C76A-42D1-B5AD-CD8B6B1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4A33-A4D1-4622-BEAF-36808AA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9E6BC-3975-4402-B95E-0AF1784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4B9-FC43-4B5A-98AA-644F78B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AF3F-601C-49DF-A17E-39A215F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E88BA-80FA-40EA-9032-1F6A0FD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1F5D-EFE2-42A8-9DFA-4133C92B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42F9-2CC3-4337-A40E-85475D0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A61D4-ABEE-4BB4-9ED5-B546C94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980D-EF0C-4CEC-AA3E-ACFD63A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363C-8E83-4E29-99E7-3A05FFAD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0947A-D850-4D5A-BD6E-F79A04C2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A823C-9821-45B1-8619-93A5237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4F5A-FAAB-4DC6-95E8-2071C38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B4D-E315-47D5-B7FB-90CB962EEB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B0C-333C-4382-A301-4535A8162E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95C-7E45-47BD-A84F-A8824AE85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52D-DCAA-4264-AD0F-BFD936DF53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D15-40C5-436A-B842-92035B78FE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BA70-9237-42E4-976F-AE32069580B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B812-69A5-4399-97EB-D84B40499FC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BD4-5030-40DC-90E0-416FEF53776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6764-1142-4A1D-9232-C855DA7B86D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DBB-FBDC-4DDF-AA4E-56B6C8B438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4AD-1DF2-4293-9A5E-3BA1D836053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2A10-2EB4-43CE-A9D8-7D87C503416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C37-B71B-4845-ABE7-F82D36614D3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FDB-F852-4EFF-80D4-BFD386AAE70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41D2-5004-40F2-82E5-61CB4A4762A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72D2-B26E-4661-95ED-AE9C268D212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F54-9F5E-4D8B-B41A-4C5FEC67A54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98D1-7FA4-4F63-8635-605E780A94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0D5-6887-4FB3-B603-2BC6AAF16A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67F-2C61-4808-82F9-A00F66DFB5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F372-DD0E-47DE-92C7-F63DFFC55B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AF8-2C4C-44A6-A290-62E4BCB11F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3DC-858D-48C3-B952-51F07AE5D6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304-2E99-4E53-9F31-F7D40B3083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БЕЗОПАСНЫЙ ОТДЫХ НА ВОДОЕМАХ </a:t>
            </a:r>
            <a:br>
              <a:rPr sz="32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лава 3. Безопасность на водоемах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Урок 8. Безопасный отдых на водоемах.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безопасного отдыха на водоемах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8. Самопомощь на вод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8.1. Самопомощь при возникновении су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 возникновении предпосылок к несчастному случа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сегда сохранять спокойствие, не панико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При судороге мышц в воде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ки или ног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одолжать плыть на спи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ьцев руки (ощущение стягивания пальце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стро с силой сжать кисть в кула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делать резкое отбрасывающе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икроножной мышц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гнувшись, двумя руками обхватить сто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силой потянуть ее к себ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шцы бед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ватить рукой ногу с наружной стороны ниже голени у лодыжки (за подъе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нув ногу в колене, потянуть ее назад к спи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Главное правило – работа сведенной судорогой мышцы ускоряет исчезновения судорог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доемах необходимо соблюдать общепринятые меря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ение мер предосторожности – главное условие безопасности на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купании нужно быть дисциплинированным, не допускать шал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аться безопасно только в отведенных и оборудованных для этого ме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аться нужно в воде допустимой темп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да – стих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не прощает ошибок челове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для контрол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сех ли водоемах можно купа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меры безопасности следует соблюдать при купании в незнакомом водоем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 каких сооружений запрещено купа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материалы урока, презентаций, учебника и личный опыт сформулируйте основные правила поведения на воде во время купания в различных водоемах, запишите в дневник безопасности (тетрадь), в готовности представить его для 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нализ происшествий на воде в РФ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происшествий на воде в 2012 и 2013 годах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8" name="Object 4"/>
          <p:cNvGraphicFramePr/>
          <p:nvPr/>
        </p:nvGraphicFramePr>
        <p:xfrm>
          <a:off x="685800" y="152388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1. В чем опасность водоем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аще всего несчастные случаи на воде связаны с купанием в случайных, не приспособленных для этого местах, при переправах по льду через замерзшие водоемы, катаниях на лодках и других плав средствах и пр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вышенную опасность для человека представляют реки, озера, пруды, карьеры, строительные котлованы и траншеи, заполненные водой. Ч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утые, обрывистые, сыпучие, заболоченные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язкое 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илие водорос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лубокие места, обрывы и ямы на дне водоема в неожиданных местах и вблизи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льное теч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довор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ойное 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зкая температура воды, особенно у дна водоема со стоящей вод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зкая температура воды вблизи подводных род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ряги, мусор и другие посторонние предм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дводные водозабо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а сброса сточных вод, отходов производства (особенно химического) и канал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допои,  броды и лежбища домашних и диких живот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а стирки белья насе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котомогильники вблизи водое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меи, пиявки, насекомые, хищные и ядовитые рыбы и молюски  (медузы и т.п.), живот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2. Последствия нарушений требований безопасности на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езультатом нарушений требований безопасности на воде могут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оп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зические травмы (ушибы, растяжения, вывихи, переломы, укус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доро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имические ожо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рав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фекционные кожные и внутренние заболе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удные заболе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болевания уха, гл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кусы различных земных и водных су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резы растительност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сихические травмы пострадавших, их родных и близких, очевидцев и свидетелей происшествий на во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3. Выбор водоема для ку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купаться в водоемах со знаком «Купание запрещен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 незнакомом водоеме тщательно обследов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ре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 должен быть песча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уск к воде удобный, полог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кваторию, примыкающую к берегу (обязательно и на знакомом водоем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торчат ли из воды коря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ли на дне топля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о должно быть с постепенным уклоном, без ям, водорослей, острых камней, стекла и других опасных предм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а должна быть спокойной – в неспокойной воде могут оказаться подводные ямы, ключи (родники), густые водоросли, ому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Правила поведения во время ку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зависимо от водоема (море, река, озеро, пруд) и места купания (пляж, бассейн, незнакомый водоем) необходимо знать и соблюдать общие правила поведения на воде во время куп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паться лучше утром или вечером – солнце греет, но нет опасности перегрева и ож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а воды – не ниже 18 градусов по Цельс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а воздуха – 20 – 25 гра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купания зависит 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– не ниже 18 гра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пературы в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град. – 6 – 8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 град. – 10 – 12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 град. – 15 – 20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егорически нельзя купаться до озноба - при переохлаждении возника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сылки несчастного случ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доро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новка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еря созн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Правила поведения во время купания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дол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входить в воду после длительного пребывания на солнце – периферические сосуды сильно расширены для теплоотдачи и при быстром охлаждении в воде наступает резкое рефлекторное сокращение мышц, что влечет за собой остановку дых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аплывать далеко – можно не рассчитать своих сил и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ть отдыхать на воде – лежа на спине поддерживать себя на плаву легкими надавливающими на воду движениями ладоней рук и работой но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аться, чтобы в органы дыхания через рот или нос не попала во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аплывать в область сильного течения (на стремнин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дплывать к водоворот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дплывать к водоросл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олнении водной поверх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ох производить в промежутках между вол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я против волн – спокойно подниматься на крутую волну и скатываться с н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олна с гребнем (стеной) – лучше нырять через волну немного ниже е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опасно прыгать особенно головой в воду с пристаней и плавучих средств (кораблей, лодок, плотов и т.п.) – под водой могут быть сваи, рельсы, камни, топляки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заплывать за ограничительные знаки – они показывают акваторию с проверенным  дном, определенной глубины, без водоворо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до плавать далеко от берега или переплывать водоем на сп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5. Это должен знать каж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тегорически запрещается купаться в зоне водозаборных станций, плотин, пристаней, причалов и других гидротехнических соору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одплывать к проходящим судам, яхтам, катерам и др. плав. Средств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близи них создаются водовороты, волны и те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ывущего может затянуть под судно, особенно если оно идет против те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 и не следует плавать в открытом водоеме на надувных предметах– камерах, матрацах и т.п. так как эти предметы могу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отнесены ветром, волной или течением на большое расстояние от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захлестнуты волн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кользнуть из-под плов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рыть пловца с голов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особо осторожным при купании с маской, трубкой и ласт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ть надо только вдоль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ть надо только под наблюдением штатных или добровольных спасателей – чтобы они могли вовремя прийти на помощь в случае необходи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лавать трубкой при сильном волн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а безопасности на воде – дисциплина и организован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алостях не переходить известных границ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ы допустимы только на небольшой глуб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одавать ложных сигналов бедствия, например: «Тону, на помощь!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терять из виду товарищей, приходить им на помощ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оставлять у воды без присмотра младших братьев и сестер – ЭТО ОПАСНО ДЛЯ НИ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Безопасный отдых на водоем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2.6. Государственная инспекция по маломерным судам в составе Главного управления МЧС России по Калининградской области призывает население соблюдать правила охраны жизни людей на воде!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е, что на водных акваториях запрещено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упаться в местах, где выставлены щиты (аншлаги) с предупреждающими надписям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плывать за буйки, обозначающие границы плавания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плывать к моторным, парусным судам, весельным лодкам и другим плавсредствам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ыгать в воду с катеров, лодок, причалов, а также сооружений, не приспособленных для этих целей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грязнять и засорять водоемы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упаться в состоянии алкогольного опьянения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лавать на досках, бревнах, лежаках, автомобильных камерах, надувных матрацах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водить с собой собак и других животных в места массового отдыха населения на вод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7-09-19T11:31:43Z</dcterms:modified>
  <cp:revision>1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