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BEF-271E-4F95-9A02-0E0F74C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552-3ABF-48FA-A20D-203B383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F2B-9875-4C0C-9710-952143AE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7D1-386F-4568-BEAE-005260C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85F-3BC5-4228-BEA1-EDCE508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ADF-8DFD-4C93-B2BD-93381CE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668-578B-4BA9-A9A5-D5B1154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F0F-5A1D-4FC4-A2B4-50D9F17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9A5-BC0A-4924-AD58-5A49436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2AF-D129-447A-864E-20A418B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101-3F3A-457D-A0F6-55B6A92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C54-796C-4443-A48C-BFDC966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26C-8C1B-4856-9079-5BE7A9E63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8520" y="104760"/>
            <a:ext cx="8928000" cy="7920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tretch/>
        </p:blipFill>
        <p:spPr>
          <a:xfrm>
            <a:off x="6012000" y="4141800"/>
            <a:ext cx="2944800" cy="2212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2"/>
          <p:cNvSpPr/>
          <p:nvPr/>
        </p:nvSpPr>
        <p:spPr>
          <a:xfrm>
            <a:off x="0" y="1357200"/>
            <a:ext cx="215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474840" y="1746360"/>
            <a:ext cx="824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Стратегия развит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воспитания в Р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на период до 2025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0" y="1000080"/>
            <a:ext cx="914400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нижение уровня негативных социальных 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и поддержка социально значимых детских, семейных и родительских инициатив, деятельности детских общественных объеди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качества научных исследований в области воспитан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уровня информационной безопас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нижение уровня антиобщественных проявлений со стороны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0" y="100008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c3f71"/>
                </a:solidFill>
                <a:latin typeface="Arial"/>
              </a:rPr>
              <a:t>формирование системы мониторинга показателей, отражающих эффективность системы воспитания 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98" name="Picture 2" descr="D:\УПРАВЛЕНИЕ\Дизайн учебных материалов\фоны для презентаций\2.jpg"/>
          <p:cNvPicPr/>
          <p:nvPr/>
        </p:nvPicPr>
        <p:blipFill>
          <a:blip r:embed="rId1"/>
          <a:stretch/>
        </p:blipFill>
        <p:spPr>
          <a:xfrm>
            <a:off x="0" y="-225360"/>
            <a:ext cx="9286920" cy="759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357800" y="4429080"/>
            <a:ext cx="4838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c3f71"/>
                </a:solidFill>
                <a:latin typeface="Arial"/>
              </a:rPr>
              <a:t>Стратегия развития воспитания в Р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c3f71"/>
                </a:solidFill>
                <a:latin typeface="Arial"/>
              </a:rPr>
              <a:t>на период до 202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я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7215120" y="5000760"/>
            <a:ext cx="1647720" cy="1238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2"/>
          <p:cNvSpPr/>
          <p:nvPr/>
        </p:nvSpPr>
        <p:spPr>
          <a:xfrm>
            <a:off x="0" y="1357200"/>
            <a:ext cx="21502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Утверждена распоряжением 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от 29 мая 2015 г. №996-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оспитание детей – стратегический общена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риоритет, требующий консолидации ус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личных институтов гражданского обще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едомств на федеральном, регионально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муниципальном уров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риоритетная задача РФ в сфере воспитания дете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высоконравственной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08000" y="189000"/>
            <a:ext cx="8928000" cy="145404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Цель 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7286760" y="217440"/>
            <a:ext cx="1857240" cy="1395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0" y="1643040"/>
            <a:ext cx="21502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Определение приоритетов государ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литики в области воспитания и социализации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основных направлений и механизмов развития инстит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оспитания, формирования обществ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государственной системы воспитания детей в Р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читывающих интересы детей,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требности современного российского общест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государства, глобальные вызовы и условия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траны в мировом со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Основ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0" y="1285920"/>
            <a:ext cx="9144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Arial"/>
              </a:rPr>
              <a:t>1. Развитие социальных институтов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Поддержка семейного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Развитие воспитания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Расширение воспитательных возможностей информацио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Поддержка общественных объединений в сфере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Основ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0" y="13572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2. Обновление воспитательного процесса с учетом современных достижений науки и на основе отечественных трад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Граждан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Патриотическое воспитание и формирование российской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Духовное и нравственное воспитание детей на основе  российских традиционных ц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Приобщение детей к культурному наслед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Физическое воспитание и формирование культуры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Трудовое воспитание и профессиональное само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Эколог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0d16"/>
                </a:solidFill>
                <a:latin typeface="Arial"/>
              </a:rPr>
              <a:t>Механизмы реализации Страте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0" y="1285920"/>
            <a:ext cx="9144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Прав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рганизационно-управлен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Кад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Научно-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Финансово-эконо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Информ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0" y="1000080"/>
            <a:ext cx="914400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крепление общественного согла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престижа семьи, отцовства и материнства, сохранение и укрепление традиционных семей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оздание атмосферы уважения к родителям и родительскому вкладу в воспитание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общественно-государственной системы воспитания, основанной на межведомственной и межрегиональной координации и консолидации усилий общественных и гражданских институтов, современной развитой инфраструктуре, правовом регулировании и эффективных механизмах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0" y="1000080"/>
            <a:ext cx="91440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роли системы общего и дополнительного образования в воспитании детей, а также повышение эффективности деятельности организаций сферы физической культуры и спорта,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общественного авторитета и статуса педагогических и других работников, принимающих активное участие в воспитани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крепление и развитие кадрового потенциала системы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0" y="1000080"/>
            <a:ext cx="914400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доступность для всех категорий детей возможностей для удовлетворения их индивидуальных потребностей, способностей и интересов в разных видах деятельности независимо от места проживания, материального положения семьи и состояния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оздание условий для поддержки детской одарённости, развития способностей детей в сферах образования, науки, культуры и спорта, в том числе путём реализации государственных, федеральных, региональных и муниципальных целев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тверждение в детской среде позитивных моделей поведения как нормы, развитие эмпа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3:33:53Z</dcterms:created>
  <dc:creator>Гайдамак Елена Сергеевна</dc:creator>
  <dc:description/>
  <dc:language>en-US</dc:language>
  <cp:lastModifiedBy>Владелец</cp:lastModifiedBy>
  <dcterms:modified xsi:type="dcterms:W3CDTF">2017-01-07T13:58:15Z</dcterms:modified>
  <cp:revision>178</cp:revision>
  <dc:subject/>
  <dc:title>Проектирование текстовой информации </dc:title>
</cp:coreProperties>
</file>