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3BD-7068-43D0-BB42-3C50FF91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5DD-8394-4774-96A8-216A10D1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F3F-CB7C-44B9-A154-7B2E5FDA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B54-B10E-4FBE-BAB1-FED3003E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CFF-B01E-4DB1-8BE2-354DA351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32C-7DA6-4C86-B20E-872F270F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CDA-D06B-409C-8232-04EFB94E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2CD-0191-48F5-9EA5-45B10C90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FCB-6FC5-40F8-9E89-4EE22CC6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654-3FA7-4F4C-A091-EEB5ED07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6D8-E93C-42C2-B8AB-209469E0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E07-3415-4A49-936D-DDE8D7FD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5D48-AA45-489F-88D6-E88331C61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28520" y="104760"/>
            <a:ext cx="8928000" cy="7920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468360" y="-93600"/>
            <a:ext cx="824688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1"/>
          <a:stretch/>
        </p:blipFill>
        <p:spPr>
          <a:xfrm>
            <a:off x="6012000" y="4141800"/>
            <a:ext cx="2944800" cy="2212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2"/>
          <p:cNvSpPr/>
          <p:nvPr/>
        </p:nvSpPr>
        <p:spPr>
          <a:xfrm>
            <a:off x="0" y="1357200"/>
            <a:ext cx="215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3f7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474840" y="1746360"/>
            <a:ext cx="824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10d16"/>
                </a:solidFill>
                <a:latin typeface="Times New Roman"/>
                <a:ea typeface="Times New Roman"/>
              </a:rPr>
              <a:t>Стратегия развит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10d16"/>
                </a:solidFill>
                <a:latin typeface="Times New Roman"/>
                <a:ea typeface="Times New Roman"/>
              </a:rPr>
              <a:t>воспитания в Р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10d16"/>
                </a:solidFill>
                <a:latin typeface="Times New Roman"/>
                <a:ea typeface="Times New Roman"/>
              </a:rPr>
              <a:t>на период до 2025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-93600"/>
            <a:ext cx="87152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0d16"/>
                </a:solidFill>
                <a:latin typeface="Arial"/>
              </a:rPr>
              <a:t>Ожидаемые результа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1"/>
          <a:stretch/>
        </p:blipFill>
        <p:spPr>
          <a:xfrm>
            <a:off x="7908840" y="0"/>
            <a:ext cx="1235160" cy="9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0" y="1000080"/>
            <a:ext cx="9144000" cy="75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Arial"/>
              </a:rPr>
              <a:t>Реализация Стратегии обеспеч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снижение уровня негативных социальных я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развитие и поддержка социально значимых детских, семейных и родительских инициатив, деятельности детских общественных объедин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овышение качества научных исследований в области воспитания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овышение уровня информационной безопасности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снижение уровня антиобщественных проявлений со стороны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-93600"/>
            <a:ext cx="87152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0d16"/>
                </a:solidFill>
                <a:latin typeface="Arial"/>
              </a:rPr>
              <a:t>Ожидаемые результа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1"/>
          <a:stretch/>
        </p:blipFill>
        <p:spPr>
          <a:xfrm>
            <a:off x="7908840" y="0"/>
            <a:ext cx="1235160" cy="92880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0" y="100008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Реализация Стратегии обеспеч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c3f71"/>
                </a:solidFill>
                <a:latin typeface="Arial"/>
              </a:rPr>
              <a:t>формирование системы мониторинга показателей, отражающих эффективность системы воспитания в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98" name="Picture 2" descr="D:\УПРАВЛЕНИЕ\Дизайн учебных материалов\фоны для презентаций\2.jpg"/>
          <p:cNvPicPr/>
          <p:nvPr/>
        </p:nvPicPr>
        <p:blipFill>
          <a:blip r:embed="rId1"/>
          <a:stretch/>
        </p:blipFill>
        <p:spPr>
          <a:xfrm>
            <a:off x="0" y="-225360"/>
            <a:ext cx="9286920" cy="7593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4357800" y="4429080"/>
            <a:ext cx="4838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c3f71"/>
                </a:solidFill>
                <a:latin typeface="Arial"/>
              </a:rPr>
              <a:t>Стратегия развития воспитания в Р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c3f71"/>
                </a:solidFill>
                <a:latin typeface="Arial"/>
              </a:rPr>
              <a:t>на период до 2025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08000" y="189000"/>
            <a:ext cx="8928000" cy="7920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68360" y="-93600"/>
            <a:ext cx="824688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Стратегия развития воспитания в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на период до 202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7215120" y="5000760"/>
            <a:ext cx="1647720" cy="12380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2"/>
          <p:cNvSpPr/>
          <p:nvPr/>
        </p:nvSpPr>
        <p:spPr>
          <a:xfrm>
            <a:off x="0" y="1357200"/>
            <a:ext cx="21502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3f71"/>
                </a:solidFill>
                <a:latin typeface="Arial"/>
              </a:rPr>
              <a:t>Утверждена распоряжением Правительства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3f71"/>
                </a:solidFill>
                <a:latin typeface="Arial"/>
              </a:rPr>
              <a:t>от 29 мая 2015 г. №996-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Воспитание детей – стратегический общенацион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риоритет, требующий консолидации уси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различных институтов гражданского общест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ведомств на федеральном, региональном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муниципальном уровн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риоритетная задача РФ в сфере воспитания дете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развитие высоконравственной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08000" y="189000"/>
            <a:ext cx="8928000" cy="145404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8360" y="-93600"/>
            <a:ext cx="824688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Цель Стратегии развития воспитания в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на период до 202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"/>
          <p:cNvPicPr/>
          <p:nvPr/>
        </p:nvPicPr>
        <p:blipFill>
          <a:blip r:embed="rId1"/>
          <a:stretch/>
        </p:blipFill>
        <p:spPr>
          <a:xfrm>
            <a:off x="7286760" y="217440"/>
            <a:ext cx="1857240" cy="1395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12"/>
          <p:cNvSpPr/>
          <p:nvPr/>
        </p:nvSpPr>
        <p:spPr>
          <a:xfrm>
            <a:off x="0" y="1643040"/>
            <a:ext cx="21502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Определение приоритетов государств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олитики в области воспитания и социализации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основных направлений и механизмов развития институ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воспитания, формирования обществе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государственной системы воспитания детей в Р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учитывающих интересы детей, акту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отребности современного российского обществ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государства, глобальные вызовы и условия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страны в мировом со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68360" y="-93600"/>
            <a:ext cx="824688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Основные на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Стратегии развития воспитания в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на период до 202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1357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0" y="1285920"/>
            <a:ext cx="91440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5e01"/>
                </a:solidFill>
                <a:latin typeface="Arial"/>
              </a:rPr>
              <a:t>1. Развитие социальных институтов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Поддержка семейного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Развитие воспитания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Расширение воспитательных возможностей информацион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c3f71"/>
                </a:solidFill>
                <a:latin typeface="Arial"/>
              </a:rPr>
              <a:t>Поддержка общественных объединений в сфере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68360" y="-93600"/>
            <a:ext cx="824688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Основные на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Стратегии развития воспитания в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0d16"/>
                </a:solidFill>
                <a:latin typeface="Arial"/>
              </a:rPr>
              <a:t>на период до 202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1357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0" y="13572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Arial"/>
              </a:rPr>
              <a:t>2. Обновление воспитательного процесса с учетом современных достижений науки и на основе отечественных трад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Гражданск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Патриотическое воспитание и формирование российской иден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Духовное и нравственное воспитание детей на основе  российских традиционных цен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Приобщение детей к культурному наслед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Физическое воспитание и формирование культуры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Трудовое воспитание и профессиональное само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c3f71"/>
                </a:solidFill>
                <a:latin typeface="Arial"/>
              </a:rPr>
              <a:t>Экологическ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-93600"/>
            <a:ext cx="87152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10d16"/>
                </a:solidFill>
                <a:latin typeface="Arial"/>
              </a:rPr>
              <a:t>Механизмы реализации Стратег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13572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0" y="1285920"/>
            <a:ext cx="9144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Прав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Организационно-управлен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Кадр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Научно-метод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Финансово-эконо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Информаци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-93600"/>
            <a:ext cx="87152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0d16"/>
                </a:solidFill>
                <a:latin typeface="Arial"/>
              </a:rPr>
              <a:t>Ожидаемые результа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"/>
          <p:cNvPicPr/>
          <p:nvPr/>
        </p:nvPicPr>
        <p:blipFill>
          <a:blip r:embed="rId1"/>
          <a:stretch/>
        </p:blipFill>
        <p:spPr>
          <a:xfrm>
            <a:off x="7908840" y="0"/>
            <a:ext cx="1235160" cy="928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0" y="1000080"/>
            <a:ext cx="9144000" cy="79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Arial"/>
              </a:rPr>
              <a:t>Реализация Стратегии обеспеч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укрепление общественного согла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овышение престижа семьи, отцовства и материнства, сохранение и укрепление традиционных семейных ц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создание атмосферы уважения к родителям и родительскому вкладу в воспитание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развитие общественно-государственной системы воспитания, основанной на межведомственной и межрегиональной координации и консолидации усилий общественных и гражданских институтов, современной развитой инфраструктуре, правовом регулировании и эффективных механизмах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-93600"/>
            <a:ext cx="87152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0d16"/>
                </a:solidFill>
                <a:latin typeface="Arial"/>
              </a:rPr>
              <a:t>Ожидаемые результа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1"/>
          <a:stretch/>
        </p:blipFill>
        <p:spPr>
          <a:xfrm>
            <a:off x="7908840" y="0"/>
            <a:ext cx="1235160" cy="92880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0" y="1000080"/>
            <a:ext cx="914400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Arial"/>
              </a:rPr>
              <a:t>Реализация Стратегии обеспеч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овышение роли системы общего и дополнительного образования в воспитании детей, а также повышение эффективности деятельности организаций сферы физической культуры и спорта, куль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повышение общественного авторитета и статуса педагогических и других работников, принимающих активное участие в воспитании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укрепление и развитие кадрового потенциала системы вос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-93600"/>
            <a:ext cx="87152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0d16"/>
                </a:solidFill>
                <a:latin typeface="Arial"/>
              </a:rPr>
              <a:t>Ожидаемые результа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366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tretch/>
        </p:blipFill>
        <p:spPr>
          <a:xfrm>
            <a:off x="7908840" y="0"/>
            <a:ext cx="1235160" cy="928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0" y="1000080"/>
            <a:ext cx="9144000" cy="75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Arial"/>
              </a:rPr>
              <a:t>Реализация Стратегии обеспеч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доступность для всех категорий детей возможностей для удовлетворения их индивидуальных потребностей, способностей и интересов в разных видах деятельности независимо от места проживания, материального положения семьи и состояния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создание условий для поддержки детской одарённости, развития способностей детей в сферах образования, науки, культуры и спорта, в том числе путём реализации государственных, федеральных, региональных и муниципальных целев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3f71"/>
                </a:solidFill>
                <a:latin typeface="Arial"/>
              </a:rPr>
              <a:t>утверждение в детской среде позитивных моделей поведения как нормы, развитие эмпат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c3f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3:33:53Z</dcterms:created>
  <dc:creator>Гайдамак Елена Сергеевна</dc:creator>
  <dc:description/>
  <dc:language>en-US</dc:language>
  <cp:lastModifiedBy>Владелец</cp:lastModifiedBy>
  <dcterms:modified xsi:type="dcterms:W3CDTF">2017-01-07T13:58:15Z</dcterms:modified>
  <cp:revision>178</cp:revision>
  <dc:subject/>
  <dc:title>Проектирование текстовой информации </dc:title>
</cp:coreProperties>
</file>