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F5A-0E80-4E36-A0D2-2ED09808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7F9-8E33-43AE-83E2-BFF3334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AE0-8441-4D57-BE01-B8F735F2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ED0-5DB6-4C5E-893C-BD7529BE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18CC-4B14-487E-887C-D9B581E6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2C5-5D8D-4545-A306-2C36751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7F6A-D610-4351-923D-72064BC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94FF-8016-4529-B6C4-A827EDB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6004-AC56-4DE2-8D0F-49314ADC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9452-7A63-4C59-A29C-09D247D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D273-3616-4512-90C7-9E975F0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583-4765-472C-A4F1-158EE7C8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65A-7A5C-47EB-B212-B911C25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8CE-8F68-4E0F-ABD5-5B053D3F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8364-0259-4EA6-B8BE-D9F9D55F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8DD0-866D-49ED-9844-E497C6B8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468-39B9-402C-9C19-889287C8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E41E-ABA8-47D5-836A-6DD93A01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1533-4E9F-4D65-A8AB-E690191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BC64-33AB-42C5-A609-5A1630D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F901-7607-4548-B4F6-DF4F687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3D3D-8AB4-485B-8019-14B4075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114-0D92-4973-AB08-84FB43A9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C2BA-E576-4F2D-9206-5F47F89E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3952-0B3C-49B1-B7D5-CF59A89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26DA-A3DC-4252-B321-A2B43216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DEB8-1772-4EEB-AAF9-9524D58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47F8-461D-4D1C-8E2E-6F2BF24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6E20-3D4A-4E3E-9EF1-FDA30EDC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EC97-1758-425C-9189-11A821D4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6EFB-E5E8-43AB-8604-8362A8F1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F1EC-BE80-4780-8221-41FBFA1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5554-20F7-4B1C-B3ED-D8E39BF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B32-D95E-4A9B-AB3A-65532065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2257-3B67-4CE2-A915-07EFEE2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3B9A-DD70-498A-9F25-EA45726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A8B0-E35A-400C-960F-09CD4E4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2C78-8129-4CE3-8AEA-D2691BC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9B93-B64A-4592-8775-A400F79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F828-2797-40DA-8674-5301875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4668-0A89-4F3D-895E-74693EB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690C-9712-45D8-9DD9-6C3F15DD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0072-CB87-4A5C-BAB7-BDB5A1A7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E9E-CDFC-49C5-80D1-A194FFE3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0BB-22E3-4F0F-9F9B-84D3CABF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F92-0AF7-4242-B354-531BA99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DD0-C351-4A34-9B3D-C461100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8A9-07B1-4BBC-BC80-2A400F9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79E-0505-4411-95E6-3FD702571942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360-762E-4872-AD3F-4434CA0DBEDD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9EEE-387B-4BE2-956B-814DA7D5C036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79B-6531-457B-96D6-7050255DF594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lkslovar.ru/r61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079640"/>
            <a:ext cx="785196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47628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лассный час на тем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www.inform.kz/fotoarticles/20140425112701.jpg"/>
          <p:cNvPicPr/>
          <p:nvPr/>
        </p:nvPicPr>
        <p:blipFill>
          <a:blip r:embed="rId2"/>
          <a:stretch/>
        </p:blipFill>
        <p:spPr>
          <a:xfrm>
            <a:off x="469800" y="3432240"/>
            <a:ext cx="4248360" cy="27925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3"/>
          <a:stretch/>
        </p:blipFill>
        <p:spPr>
          <a:xfrm>
            <a:off x="4748040" y="5346720"/>
            <a:ext cx="43102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022040"/>
            <a:ext cx="4859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Новогодняя ночь для вас – лучшее время, что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высп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посмотреть телевизор вместе с семьё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оказаться в кругу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 Из трех подарков вы бы предпоч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удочку, набор для выш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коньки или лы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турпутевку или билет на интересн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 Отправиться в путешествие лучше вс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в одиноч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с семьёй или друзь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с незнакомой группой, чтобы была возможность обрести новых дру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4716360" y="1484280"/>
            <a:ext cx="442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. Если бы вы оказались в одиночестве на острове или в лесу, 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почувствовали бы полную своб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занялись бы поиском вых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ощутили бы тоску и 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В свободное время вы люб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читать, посещать библиотеку, зоопарк, лес,  ловить рыбу, мечт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рисовать, читать, заниматься спортом, музыкой, шитьём или вязанием, ходить в походы, разговаривать по телефону, смотреть телеви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заниматься танцами, петь в хоре, участвовать в спектаклях и концертах, ходить с компанией в 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19600" y="263160"/>
            <a:ext cx="87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ст  «Ты и твоя професс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50920" y="333360"/>
            <a:ext cx="864216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аблица для подсчета результатов тестир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1341360"/>
          <a:ext cx="5905440" cy="979560"/>
        </p:xfrm>
        <a:graphic>
          <a:graphicData uri="http://schemas.openxmlformats.org/drawingml/2006/table">
            <a:tbl>
              <a:tblPr/>
              <a:tblGrid>
                <a:gridCol w="1439640"/>
                <a:gridCol w="4465800"/>
              </a:tblGrid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"/>
          <p:cNvSpPr/>
          <p:nvPr/>
        </p:nvSpPr>
        <p:spPr>
          <a:xfrm>
            <a:off x="0" y="2354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т 5 до 8 балов      Люди малообщительные, стеснительные, замкнут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и не любят шумных компаний. Это значит, им не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ходят профессии, требующие общения. Зато они буд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орошо себя чувствовать в научной лаборатории,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сничестве. Им подойдет работа программиста, слес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окаря, бухгалтера, оператор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 – 12 балов            Люди общительные, чувствуют себя прекрасно в лю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мпании. Не боятся новых знакомств, легко сходятся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людьми. Могут находиться длительное врем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ез   общения. Таким подойдут любые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2 – 15 балов.        Не могут долго оставаться в одиночестве – в них сли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ного энергии и силы. Таким людям подойдет профес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вязанная с большим количеством людей: агент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кламе, продавца, учителя, тренер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рофесс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пециально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Должно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валификац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sksi-spf.ru/sites/default/files/news/%D0%B3%D0%BE%D1%81%D1%83%D0%B4%D0%B0%D1%80%D1%81%D1%82%D0%B2%D0%BE%20%D0%B8%20%D0%B2%D0%BB%D0%B0%D1%81%D1%82%D1%8C.jpg"/>
          <p:cNvPicPr/>
          <p:nvPr/>
        </p:nvPicPr>
        <p:blipFill>
          <a:blip r:embed="rId1"/>
          <a:stretch/>
        </p:blipFill>
        <p:spPr>
          <a:xfrm>
            <a:off x="5937120" y="3432240"/>
            <a:ext cx="32068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528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ФЕССИЯ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ереводе с латинского «professio» - «объявляю своим делом». Род трудовой деятельности, занятий, требующий определённой подготовки и являющийся обычно источником существования.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нженер, врач, слесарь, геодезис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ПЕЦИАЛЬНОСТЬ -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исходит от лат. specialis — особый, особенный; от species — род, вид. Комплекс приобретённых путём специальной подготовки знаний, умений и навыков, необходимых для определённого вида деятельности в рамках той или иной профе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инженер -строитель, слесарь-инструментальщик, слесарь-наладчик, врач-терапев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360" y="86688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ОСТЬ  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жебное положение, а также единица в штатном расписании организации, которая отвечает требованиям для выполнения определенных работ, обязанностей, решения задач при соответствующих квалификации и образовании работника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главный конструктор, врач высшей категории, ведущий специалист, начальник отдела, слесарь 5 разря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ВАЛИФИКАЦИЯ 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епень профессиональной подготовленности работника к выполнению конкретного вида работы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включающей теоретические знания и практические навыки, которые должны соответствовать нормам Единого тарифно-квалификационного справочника (ЕТКС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нженер по направленному бурению скважин, аппаратчик по приготовлению химреаген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img.kushva-online.ru/archive/news/2015/01/54b879370065c54b87937006b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0" y="292392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Хочу – могу – надо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41497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58ed5"/>
                </a:solidFill>
                <a:latin typeface="Constantia"/>
              </a:rPr>
              <a:t>Осознанный выбо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это такой выбор, при котором человек учитывает и личные устремления (хочу), и свои возможности (могу), и потребности общества (надо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ppt4web.ru/images/848/32645/310/img5.jpg"/>
          <p:cNvPicPr/>
          <p:nvPr/>
        </p:nvPicPr>
        <p:blipFill>
          <a:blip r:embed="rId1"/>
          <a:stretch/>
        </p:blipFill>
        <p:spPr>
          <a:xfrm>
            <a:off x="609480" y="0"/>
            <a:ext cx="5980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980640"/>
            <a:ext cx="9144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Образец ответа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Хочу быть модельером, парикмахером,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швеёй. Сейчас везде требуются швеи – стану швеё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ok-t.ru/studopediaru/baza4/2394137164893.files/image002.png"/>
          <p:cNvPicPr/>
          <p:nvPr/>
        </p:nvPicPr>
        <p:blipFill>
          <a:blip r:embed="rId1"/>
          <a:stretch/>
        </p:blipFill>
        <p:spPr>
          <a:xfrm>
            <a:off x="4284720" y="37162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s://im1-tub-ru.yandex.net/i?id=ba802a895bd7b8d9064f84ed5fc42783&amp;n=33&amp;h=190&amp;w=190"/>
          <p:cNvPicPr/>
          <p:nvPr/>
        </p:nvPicPr>
        <p:blipFill>
          <a:blip r:embed="rId1"/>
          <a:stretch/>
        </p:blipFill>
        <p:spPr>
          <a:xfrm>
            <a:off x="7524720" y="1413000"/>
            <a:ext cx="1449360" cy="345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приро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техни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челове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знаковая систем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художественный образ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природа. Люди этих профессий имеют дело с живой и неживой природой (ветеринар, агроном, животновод, тракторист и др.). Для них характерен общий предмет труда – животные и растения, почва и воздушная сре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техника. Это и летчики , и водители, токари, слесари, и другие профе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человек. 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 учитель, врач, журналист, продаве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знаковая система. Специалисты такого типа используют в своем труде различные знаки: цифры, химические и физические символы, ноты, схемы, карты, графики, рисунки. Это бухгалтеры, ученые, лаборан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художественный образ. Этих людей отличает талант, художественная фантазия. Это музыканты, художники, акте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55:33Z</dcterms:created>
  <dc:creator>Ландыш</dc:creator>
  <dc:description/>
  <dc:language>en-US</dc:language>
  <cp:lastModifiedBy>user</cp:lastModifiedBy>
  <dcterms:modified xsi:type="dcterms:W3CDTF">2017-09-19T09:02:49Z</dcterms:modified>
  <cp:revision>8</cp:revision>
  <dc:subject/>
  <dc:title>Ты и твоя будущая профессия</dc:title>
</cp:coreProperties>
</file>