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1F0C-755A-483F-8600-0E0971506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430C-5C98-44F5-899A-BD6D4B14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D285-571A-48A9-9893-15C0D6545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0418-3774-4CF7-B7C1-3F90450EB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08BF5-98BE-4440-82C5-5A9035928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5B86-DE36-482C-8ADC-61D365F5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3CA4-ECC7-4527-8F4C-FF5692DA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173D-D1EE-48C6-B865-2DDF65D3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8920-3E09-44F6-BAAC-0B205BFC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087F-C240-4C3C-9CA9-64F7182D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E63F-1EDF-43EC-ACE9-9024AE03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1822-DCF6-4FC2-B439-FB624126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DE914-ABE8-44B2-8EF8-779E5123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26AF-EE86-4807-9771-3C987DF6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7A8E-CBA3-455E-9B80-09CDFF27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411D-0E9C-4D32-AC42-A20A23F6D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662D-0B6E-4F86-81DB-10533EA72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62C1F-549C-4449-8C62-47442B8E1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BD1B2-2483-4057-AC11-C9605FED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C2F07-BDE6-437D-8999-DEFFAF8C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0DEA2-D74C-4B15-8666-6B14B05B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5EAE1-3880-4FEA-90B0-A11554A4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CD94-D7F9-4E5C-B53B-319ACA74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F9531-D095-4A03-85EC-973A8090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D239F-493C-4469-82BF-C5CCE5D1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97EF3-9B53-4C81-BD36-E6AA130F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5589D-2BAC-4FB9-BD36-B521CF9A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512E2-A097-42D5-AB15-13BD8079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F3F6F-E104-4F6F-8034-FA376436C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C82BF-9243-41DD-9168-F4F9036F1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0BFF2-E993-4D2E-BA0F-05E51834F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01D94-FC50-4081-81E1-1CBCB03A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B2350-8001-43CC-9446-388400B1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902F-4E52-421B-B137-E9528B51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B2A77-93DD-4EFF-8F74-D981FDED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F7146-C26C-4C7B-9147-4D971FB5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0BB2B-CAD9-4A91-96F8-9D4B8A80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573F9-CC1F-41A7-8D30-085AEC21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0D623-2623-4547-820A-A9AEA448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C0629-B215-4789-B470-F2EB6D58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7D431-7CE5-4E60-BCD7-1989D756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E02B8-C1DB-45E8-9AE4-09B3B67D3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B22BD-B2EA-461E-8A95-433394610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E48F-7278-461B-9F5D-4281B5C1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BDE1-4980-4F42-8795-F80ED569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CE7B-C7D2-4352-AF01-BCC675DB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B2A9-9F8B-4B51-A6A1-82729ADA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C147-3671-4394-90BC-C479100F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457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C377-CE51-4B17-A543-78381CF121E4}" type="slidenum">
              <a:rPr b="0" lang="ru-RU" sz="1200" spc="-1" strike="noStrike">
                <a:solidFill>
                  <a:srgbClr val="1d457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8645-D3CB-4CD5-B77B-31C9F17CDC55}" type="slidenum"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0E03-AB21-459B-AFE0-93CF90623567}" type="slidenum"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457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E5E0-207F-4B5F-95F1-A7B5491D8504}" type="slidenum">
              <a:rPr b="0" lang="ru-RU" sz="1200" spc="-1" strike="noStrike">
                <a:solidFill>
                  <a:srgbClr val="1d457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tolkslovar.ru/r61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82560" y="1079640"/>
            <a:ext cx="7851960" cy="2438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9640" y="476280"/>
            <a:ext cx="7855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Классный час на тему: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http://www.inform.kz/fotoarticles/20140425112701.jpg"/>
          <p:cNvPicPr/>
          <p:nvPr/>
        </p:nvPicPr>
        <p:blipFill>
          <a:blip r:embed="rId2"/>
          <a:stretch/>
        </p:blipFill>
        <p:spPr>
          <a:xfrm>
            <a:off x="469800" y="3432240"/>
            <a:ext cx="4248360" cy="2792520"/>
          </a:xfrm>
          <a:prstGeom prst="rect">
            <a:avLst/>
          </a:prstGeom>
          <a:ln w="0">
            <a:noFill/>
          </a:ln>
        </p:spPr>
      </p:pic>
      <p:pic>
        <p:nvPicPr>
          <p:cNvPr id="198" name="Прямоугольник 2" descr=""/>
          <p:cNvPicPr/>
          <p:nvPr/>
        </p:nvPicPr>
        <p:blipFill>
          <a:blip r:embed="rId3"/>
          <a:stretch/>
        </p:blipFill>
        <p:spPr>
          <a:xfrm>
            <a:off x="4748040" y="5346720"/>
            <a:ext cx="43102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"/>
          <p:cNvSpPr/>
          <p:nvPr/>
        </p:nvSpPr>
        <p:spPr>
          <a:xfrm>
            <a:off x="0" y="1022040"/>
            <a:ext cx="48592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1.Новогодняя ночь для вас – лучшее время, чтоб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а) выспать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б) посмотреть телевизор вместе с семьё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в) оказаться в кругу друз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2. Из трех подарков вы бы предпоч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а) удочку, набор для выши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б) коньки или лыж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в) турпутевку или билет на интересное представл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3. Отправиться в путешествие лучше всег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а) в одиноч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б) с семьёй или друзья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в) с незнакомой группой, чтобы была возможность обрести новых друз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4"/>
          <p:cNvSpPr/>
          <p:nvPr/>
        </p:nvSpPr>
        <p:spPr>
          <a:xfrm>
            <a:off x="4716360" y="1484280"/>
            <a:ext cx="4427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4. Если бы вы оказались в одиночестве на острове или в лесу, 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а) почувствовали бы полную свобод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б) занялись бы поиском выхо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в) ощутили бы тоску и ст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5. В свободное время вы любит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а) читать, посещать библиотеку, зоопарк, лес,  ловить рыбу, мечта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б) рисовать, читать, заниматься спортом, музыкой, шитьём или вязанием, ходить в походы, разговаривать по телефону, смотреть телевизо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в) заниматься танцами, петь в хоре, участвовать в спектаклях и концертах, ходить с компанией в ки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219600" y="263160"/>
            <a:ext cx="876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Тест  «Ты и твоя профессия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250920" y="333360"/>
            <a:ext cx="8642160" cy="52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Таблица для подсчета результатов тестирования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611280" y="1341360"/>
          <a:ext cx="5905440" cy="979560"/>
        </p:xfrm>
        <a:graphic>
          <a:graphicData uri="http://schemas.openxmlformats.org/drawingml/2006/table">
            <a:tbl>
              <a:tblPr/>
              <a:tblGrid>
                <a:gridCol w="1439640"/>
                <a:gridCol w="4465800"/>
              </a:tblGrid>
              <a:tr h="322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ал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ал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Rectangle 1"/>
          <p:cNvSpPr/>
          <p:nvPr/>
        </p:nvSpPr>
        <p:spPr>
          <a:xfrm>
            <a:off x="0" y="235404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От 5 до 8 балов      Люди малообщительные, стеснительные, замкнут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                               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Они не любят шумных компаний. Это значит, им не 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                                 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подходят профессии, требующие общения. Зато они буд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                                 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хорошо себя чувствовать в научной лаборатории, 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                                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в лесничестве. Им подойдет работа программиста, слесар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                               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токаря, бухгалтера, оператора ЭВ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8 – 12 балов            Люди общительные, чувствуют себя прекрасно в лю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                                 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компании. Не боятся новых знакомств, легко сходятся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                                 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с людьми. Могут находиться длительное время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                                 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без   общения. Таким подойдут любые профе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12 – 15 балов.        Не могут долго оставаться в одиночестве – в них слиш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                               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много энергии и силы. Таким людям подойдет професс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                               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связанная с большим количеством людей: агента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                               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рекламе, продавца, учителя, тренера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964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3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Профессия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3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Специальность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3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Должность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3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Квалификация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3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2" descr="http://www.sksi-spf.ru/sites/default/files/news/%D0%B3%D0%BE%D1%81%D1%83%D0%B4%D0%B0%D1%80%D1%81%D1%82%D0%B2%D0%BE%20%D0%B8%20%D0%B2%D0%BB%D0%B0%D1%81%D1%82%D1%8C.jpg"/>
          <p:cNvPicPr/>
          <p:nvPr/>
        </p:nvPicPr>
        <p:blipFill>
          <a:blip r:embed="rId1"/>
          <a:stretch/>
        </p:blipFill>
        <p:spPr>
          <a:xfrm>
            <a:off x="5937120" y="3432240"/>
            <a:ext cx="320688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9528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ОФЕССИЯ.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переводе с латинского «professio» - «объявляю своим делом». Род трудовой деятельности, занятий, требующий определённой подготовки и являющийся обычно источником существования. 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Например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инженер, врач, слесарь, геодезист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ПЕЦИАЛЬНОСТЬ -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исходит от лат. specialis — особый, особенный; от species — род, вид. Комплекс приобретённых путём специальной подготовки знаний, умений и навыков, необходимых для определённого вида деятельности в рамках той или иной професси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Например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инженер -строитель, слесарь-инструментальщик, слесарь-наладчик, врач-терапев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68360" y="866880"/>
            <a:ext cx="8229600" cy="59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ДОЛЖНОСТЬ  -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лужебное положение, а также единица в штатном расписании организации, которая отвечает требованиям для выполнения определенных работ, обязанностей, решения задач при соответствующих квалификации и образовании работника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Например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главный конструктор, врач высшей категории, ведущий специалист, начальник отдела, слесарь 5 разряд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ВАЛИФИКАЦИЯ -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тепень профессиональной подготовленности работника к выполнению конкретного вида работы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onstantia"/>
                <a:hlinkClick r:id="rId1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включающей теоретические знания и практические навыки, которые должны соответствовать нормам Единого тарифно-квалификационного справочника (ЕТКС)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Например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инженер по направленному бурению скважин, аппаратчик по приготовлению химреагенто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http://img.kushva-online.ru/archive/news/2015/01/54b879370065c54b87937006b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0" y="2923920"/>
            <a:ext cx="91440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nstantia"/>
              </a:rPr>
              <a:t>Хочу – могу – надо 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250920" y="414972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58ed5"/>
                </a:solidFill>
                <a:latin typeface="Constantia"/>
              </a:rPr>
              <a:t>Осознанный выбор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 это такой выбор, при котором человек учитывает и личные устремления (хочу), и свои возможности (могу), и потребности общества (надо)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2" descr="http://ppt4web.ru/images/848/32645/310/img5.jpg"/>
          <p:cNvPicPr/>
          <p:nvPr/>
        </p:nvPicPr>
        <p:blipFill>
          <a:blip r:embed="rId1"/>
          <a:stretch/>
        </p:blipFill>
        <p:spPr>
          <a:xfrm>
            <a:off x="609480" y="0"/>
            <a:ext cx="59803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0" y="980640"/>
            <a:ext cx="914400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onstantia"/>
              </a:rPr>
              <a:t>Образец ответа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Хочу быть модельером, парикмахером, 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швеёй. Сейчас везде требуются швеи – стану швеёй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2" descr="http://ok-t.ru/studopediaru/baza4/2394137164893.files/image002.png"/>
          <p:cNvPicPr/>
          <p:nvPr/>
        </p:nvPicPr>
        <p:blipFill>
          <a:blip r:embed="rId1"/>
          <a:stretch/>
        </p:blipFill>
        <p:spPr>
          <a:xfrm>
            <a:off x="4284720" y="3716280"/>
            <a:ext cx="3816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https://im1-tub-ru.yandex.net/i?id=ba802a895bd7b8d9064f84ed5fc42783&amp;n=33&amp;h=190&amp;w=190"/>
          <p:cNvPicPr/>
          <p:nvPr/>
        </p:nvPicPr>
        <p:blipFill>
          <a:blip r:embed="rId1"/>
          <a:stretch/>
        </p:blipFill>
        <p:spPr>
          <a:xfrm>
            <a:off x="7524720" y="1413000"/>
            <a:ext cx="1449360" cy="3456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Человек – природа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Человек – техника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Человек – человек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Человек – знаковая система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Человек – художественный образ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179280" y="764640"/>
            <a:ext cx="896472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Человек – природа. Люди этих профессий имеют дело с живой и неживой природой (ветеринар, агроном, животновод, тракторист и др.). Для них характерен общий предмет труда – животные и растения, почва и воздушная сред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Человек техника. Это и летчики , и водители, токари, слесари, и другие професси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Человек – человек. Предметом труда в этой профессии является другой человек, а характерной чертой деятельности – воздействие на других людей. К такому типу профессий относятся учитель, врач, журналист, продавец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Человек – знаковая система. Специалисты такого типа используют в своем труде различные знаки: цифры, химические и физические символы, ноты, схемы, карты, графики, рисунки. Это бухгалтеры, ученые, лаборант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Человек – художественный образ. Этих людей отличает талант, художественная фантазия. Это музыканты, художники, актер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3T08:55:33Z</dcterms:created>
  <dc:creator>Ландыш</dc:creator>
  <dc:description/>
  <dc:language>en-US</dc:language>
  <cp:lastModifiedBy>user</cp:lastModifiedBy>
  <dcterms:modified xsi:type="dcterms:W3CDTF">2017-09-19T09:02:49Z</dcterms:modified>
  <cp:revision>8</cp:revision>
  <dc:subject/>
  <dc:title>Ты и твоя будущая профессия</dc:title>
</cp:coreProperties>
</file>