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gif" ContentType="image/gif"/>
  <Override PartName="/ppt/media/image12.jpeg" ContentType="image/jpeg"/>
  <Override PartName="/ppt/media/image9.jpeg" ContentType="image/jpeg"/>
  <Override PartName="/ppt/media/image11.jpeg" ContentType="image/jpeg"/>
  <Override PartName="/ppt/media/image8.gif" ContentType="image/gif"/>
  <Override PartName="/ppt/media/image18.jpeg" ContentType="image/jpeg"/>
  <Override PartName="/ppt/media/image7.gif" ContentType="image/gif"/>
  <Override PartName="/ppt/media/image5.jpeg" ContentType="image/jpeg"/>
  <Override PartName="/ppt/media/image6.jpeg" ContentType="image/jpeg"/>
  <Override PartName="/ppt/media/image4.gif" ContentType="image/gif"/>
  <Override PartName="/ppt/media/image1.jpeg" ContentType="image/jpeg"/>
  <Override PartName="/ppt/media/image23.jpeg" ContentType="image/jpeg"/>
  <Override PartName="/ppt/media/image24.png" ContentType="image/png"/>
  <Override PartName="/ppt/media/image21.gif" ContentType="image/gif"/>
  <Override PartName="/ppt/media/image25.png" ContentType="image/png"/>
  <Override PartName="/ppt/media/image22.gif" ContentType="image/gif"/>
  <Override PartName="/ppt/media/image20.jpeg" ContentType="image/jpeg"/>
  <Override PartName="/ppt/media/image15.jpeg" ContentType="image/jpeg"/>
  <Override PartName="/ppt/media/image14.gif" ContentType="image/gif"/>
  <Override PartName="/ppt/media/image19.jpeg" ContentType="image/jpeg"/>
  <Override PartName="/ppt/media/image17.gif" ContentType="image/gif"/>
  <Override PartName="/ppt/media/image16.jpeg" ContentType="image/jpeg"/>
  <Override PartName="/ppt/media/image2.gif" ContentType="image/gi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D05F-CD1B-4F81-BB26-F45BCF9B6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BD85-AFC0-41C5-B193-BD673996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FB0D-46D5-4FDE-A317-656AB257C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CEB3-8FC1-43E3-AF51-008FAF3A6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E5BC-37D5-4CA8-B74F-FFDA3DEB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3208-52D0-41EA-9852-FA41CEC9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15B0-9C98-4452-AF80-63F1C813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EAFB-6971-4CF6-8EA1-25D66EA4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25FD-5FFE-4D9F-AAE3-421A662E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E840-ECD3-404C-B2D0-0B02E286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632A-11C5-47FB-80EC-53309EFB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8964-32FC-4F38-BDA7-2BE9B9B8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B733-B7D5-4B14-A5AD-BC4DEC15D5B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http://logoped.sch996.edusite.ru/images/clip_image010.jpg&amp;iorient=&amp;ih=&amp;icolor=&amp;site=&amp;text=&#1072;&#1088;&#1090;&#1080;&#1082;&#1091;&#1083;&#1103;&#1094;&#1080;&#1086;&#1085;&#1085;&#1072;&#1103;%20&#1075;&#1080;&#1084;&#1085;&#1072;&#1089;&#1090;&#1080;&#1082;&#1072;%20&#1075;&#1088;&#1080;&#1073;&#1086;&#1082;&amp;iw=&amp;wp=&amp;pos=0&amp;recent=&amp;type=&amp;isize=&amp;rpt=simage&amp;itype=&amp;nojs=1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5.jpeg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eolte.com/img/307.files/image531.jpg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http://logoped.sch996.edusite.ru/images/clip_image012.jpg&amp;iorient=&amp;ih=&amp;icolor=&amp;p=1&amp;site=&amp;text=&#1084;&#1072;&#1083;&#1103;&#1088;&amp;iw=&amp;wp=&amp;pos=41&amp;recent=&amp;type=&amp;isize=&amp;rpt=simage&amp;itype=&amp;nojs=1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hyperlink" Target="http://images.yandex.ru/yandsearch?img_url=http://img1.liveinternet.ru/images/attach/c/2/74/509/74509715_4246388_1296632.jpg&amp;iorient=&amp;ih=&amp;icolor=&amp;site=&amp;text=&#1084;&#1072;&#1083;&#1103;&#1088;&amp;iw=&amp;wp=&amp;pos=4&amp;recent=&amp;type=&amp;isize=&amp;rpt=simage&amp;itype=&amp;nojs=1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eolte.com/img/307.files/image490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yandex.ru/yandsearch?img_url=http://demosfen-plus.ucoz.ru/kartinri/k3.png&amp;iorient=&amp;ih=&amp;nojs=1&amp;icolor=&amp;site=&amp;text=&#1072;&#1088;&#1090;&#1080;&#1082;&#1091;&#1083;&#1103;&#1094;&#1080;&#1086;&#1085;&#1085;&#1072;&#1103;%20&#1075;&#1080;&#1084;&#1085;&#1072;&#1089;&#1090;&#1080;&#1082;&#1072;%20&#1055;&#1086;&#1095;&#1080;&#1089;&#1090;&#1080;&#1084;%20&#1079;&#1091;&#1073;&#1082;&#1080;&amp;iw=&amp;wp=&amp;pos=1&amp;recent=&amp;type=&amp;isize=&amp;rpt=simage&amp;itype=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14.gif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72;&#1088;&#1090;&#1080;&#1082;&#1091;&#1083;&#1103;&#1094;&#1080;&#1086;&#1085;&#1085;&#1072;&#1103;%20&#1075;&#1080;&#1084;&#1085;&#1072;&#1089;&#1090;&#1080;&#1082;&#1072;%20&#1083;&#1086;&#1096;&#1072;&#1076;&#1082;&#1072;&amp;img_url=http://kak.znate.ru/pars_docs/refs/28/27140/27140_html_m40ceda61.jpg&amp;pos=1&amp;rpt=simage&amp;nojs=1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hyperlink" Target="http://images.yandex.ru/yandsearch?img_url=http://img.nr2.ru/pict/arts1/19/56/195601.jpg&amp;iorient=&amp;ih=&amp;icolor=&amp;site=&amp;text=&#1083;&#1086;&#1096;&#1072;&#1076;&#1082;&#1072;&amp;iw=&amp;wp=&amp;pos=26&amp;recent=&amp;type=&amp;isize=&amp;rpt=simage&amp;itype=&amp;nojs=1" TargetMode="External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http://logoped.sch996.edusite.ru/images/clip_image008.jpg&amp;iorient=&amp;ih=&amp;icolor=&amp;site=&amp;text=&#1072;&#1088;&#1090;&#1080;&#1082;&#1091;&#1083;&#1103;&#1094;&#1080;&#1086;&#1085;&#1085;&#1072;&#1103;%20&#1075;&#1080;&#1084;&#1085;&#1072;&#1089;&#1090;&#1080;&#1082;&#1072;%20&#1082;&#1072;&#1095;&#1077;&#1083;&#1080;&amp;iw=&amp;wp=&amp;pos=10&amp;recent=&amp;type=&amp;isize=&amp;rpt=simage&amp;itype=&amp;nojs=1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ages.yandex.ru/yandsearch?img_url=http://lib.convdocs.org/pars_docs/refs/55/54599/54599_html_m13f4958.jpg&amp;iorient=&amp;ih=&amp;icolor=&amp;p=2&amp;site=&amp;text=&#1072;&#1088;&#1090;&#1080;&#1082;&#1091;&#1083;&#1103;&#1094;&#1080;&#1086;&#1085;&#1085;&#1072;&#1103;%20&#1075;&#1080;&#1084;&#1085;&#1072;&#1089;&#1090;&#1080;&#1082;&#1072;%20&#1082;&#1072;&#1095;&#1077;&#1083;&#1080;&amp;iw=&amp;wp=&amp;pos=82&amp;recent=&amp;type=&amp;isize=&amp;rpt=simage&amp;itype=&amp;nojs=1" TargetMode="External"/><Relationship Id="rId4" Type="http://schemas.openxmlformats.org/officeDocument/2006/relationships/image" Target="../media/image20.jpeg"/><Relationship Id="rId5" Type="http://schemas.openxmlformats.org/officeDocument/2006/relationships/image" Target="../media/image21.gif"/><Relationship Id="rId6" Type="http://schemas.openxmlformats.org/officeDocument/2006/relationships/image" Target="../media/image22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50943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3" descr=""/>
          <p:cNvPicPr/>
          <p:nvPr/>
        </p:nvPicPr>
        <p:blipFill>
          <a:blip r:embed="rId2"/>
          <a:stretch/>
        </p:blipFill>
        <p:spPr>
          <a:xfrm>
            <a:off x="5143680" y="142884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4" descr=""/>
          <p:cNvPicPr/>
          <p:nvPr/>
        </p:nvPicPr>
        <p:blipFill>
          <a:blip r:embed="rId3"/>
          <a:stretch/>
        </p:blipFill>
        <p:spPr>
          <a:xfrm>
            <a:off x="5500800" y="3429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5" descr=""/>
          <p:cNvPicPr/>
          <p:nvPr/>
        </p:nvPicPr>
        <p:blipFill>
          <a:blip r:embed="rId4"/>
          <a:stretch/>
        </p:blipFill>
        <p:spPr>
          <a:xfrm>
            <a:off x="6572160" y="18572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6" descr=""/>
          <p:cNvPicPr/>
          <p:nvPr/>
        </p:nvPicPr>
        <p:blipFill>
          <a:blip r:embed="rId5"/>
          <a:stretch/>
        </p:blipFill>
        <p:spPr>
          <a:xfrm>
            <a:off x="7215120" y="7142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7" descr=""/>
          <p:cNvPicPr/>
          <p:nvPr/>
        </p:nvPicPr>
        <p:blipFill>
          <a:blip r:embed="rId6"/>
          <a:stretch/>
        </p:blipFill>
        <p:spPr>
          <a:xfrm>
            <a:off x="7858080" y="2286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8" descr=""/>
          <p:cNvPicPr/>
          <p:nvPr/>
        </p:nvPicPr>
        <p:blipFill>
          <a:blip r:embed="rId7"/>
          <a:stretch/>
        </p:blipFill>
        <p:spPr>
          <a:xfrm>
            <a:off x="7429680" y="4500720"/>
            <a:ext cx="952200" cy="9522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9"/>
          <p:cNvSpPr/>
          <p:nvPr/>
        </p:nvSpPr>
        <p:spPr>
          <a:xfrm>
            <a:off x="2357280" y="214200"/>
            <a:ext cx="521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АРТИКУЛЯЦИОННАЯ   ГИМНАСТ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5" descr="http://im0-tub-ru.yandex.net/i?id=172017629-13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760" y="1214280"/>
            <a:ext cx="4510080" cy="39452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" descr=""/>
          <p:cNvPicPr/>
          <p:nvPr/>
        </p:nvPicPr>
        <p:blipFill>
          <a:blip r:embed="rId3"/>
          <a:stretch/>
        </p:blipFill>
        <p:spPr>
          <a:xfrm>
            <a:off x="0" y="142920"/>
            <a:ext cx="1176480" cy="10000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857920" y="2142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alibri"/>
              </a:rPr>
              <a:t>Грибок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3" descr=""/>
          <p:cNvPicPr/>
          <p:nvPr/>
        </p:nvPicPr>
        <p:blipFill>
          <a:blip r:embed="rId4"/>
          <a:stretch/>
        </p:blipFill>
        <p:spPr>
          <a:xfrm>
            <a:off x="5715000" y="2000160"/>
            <a:ext cx="3274920" cy="44863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" descr=""/>
          <p:cNvPicPr/>
          <p:nvPr/>
        </p:nvPicPr>
        <p:blipFill>
          <a:blip r:embed="rId5"/>
          <a:stretch/>
        </p:blipFill>
        <p:spPr>
          <a:xfrm>
            <a:off x="4572000" y="5286240"/>
            <a:ext cx="1176480" cy="10004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" descr=""/>
          <p:cNvPicPr/>
          <p:nvPr/>
        </p:nvPicPr>
        <p:blipFill>
          <a:blip r:embed="rId6"/>
          <a:stretch/>
        </p:blipFill>
        <p:spPr>
          <a:xfrm>
            <a:off x="4714920" y="214200"/>
            <a:ext cx="1176120" cy="10000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" descr=""/>
          <p:cNvPicPr/>
          <p:nvPr/>
        </p:nvPicPr>
        <p:blipFill>
          <a:blip r:embed="rId7"/>
          <a:stretch/>
        </p:blipFill>
        <p:spPr>
          <a:xfrm>
            <a:off x="0" y="5286240"/>
            <a:ext cx="1176480" cy="10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4" descr="http://ceolte.com/img/307.files/image53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714680"/>
            <a:ext cx="5200920" cy="48099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"/>
          <p:cNvPicPr/>
          <p:nvPr/>
        </p:nvPicPr>
        <p:blipFill>
          <a:blip r:embed="rId3"/>
          <a:stretch/>
        </p:blipFill>
        <p:spPr>
          <a:xfrm>
            <a:off x="7429680" y="0"/>
            <a:ext cx="1954080" cy="23749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42876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Дятел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2" descr=""/>
          <p:cNvPicPr/>
          <p:nvPr/>
        </p:nvPicPr>
        <p:blipFill>
          <a:blip r:embed="rId4"/>
          <a:stretch/>
        </p:blipFill>
        <p:spPr>
          <a:xfrm>
            <a:off x="-785880" y="3000240"/>
            <a:ext cx="41529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Содержимое 6" descr="http://im6-tub-ru.yandex.net/i?id=172017640-24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00120" y="2143080"/>
            <a:ext cx="4143600" cy="43578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" descr=""/>
          <p:cNvPicPr/>
          <p:nvPr/>
        </p:nvPicPr>
        <p:blipFill>
          <a:blip r:embed="rId3"/>
          <a:stretch/>
        </p:blipFill>
        <p:spPr>
          <a:xfrm>
            <a:off x="142920" y="357120"/>
            <a:ext cx="1190520" cy="15717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35840" y="1429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Маляр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7" descr="http://im2-tub-ru.yandex.net/i?id=150445796-61-72&amp;n=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31000" y="3929040"/>
            <a:ext cx="3213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Содержимое 4" descr="http://ceolte.com/img/307.files/image49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840" y="1714680"/>
            <a:ext cx="4214880" cy="33573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5" descr="http://im8-tub-ru.yandex.net/i?id=88526853-25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3286080"/>
            <a:ext cx="3949920" cy="30592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" descr=""/>
          <p:cNvPicPr/>
          <p:nvPr/>
        </p:nvPicPr>
        <p:blipFill>
          <a:blip r:embed="rId5"/>
          <a:stretch/>
        </p:blipFill>
        <p:spPr>
          <a:xfrm rot="21363000">
            <a:off x="1305000" y="5003640"/>
            <a:ext cx="1849320" cy="1401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85840"/>
            <a:ext cx="42577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46c0a"/>
                </a:solidFill>
                <a:latin typeface="Calibri"/>
              </a:rPr>
              <a:t>Чистим зубки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2" descr=""/>
          <p:cNvPicPr/>
          <p:nvPr/>
        </p:nvPicPr>
        <p:blipFill>
          <a:blip r:embed="rId6"/>
          <a:stretch/>
        </p:blipFill>
        <p:spPr>
          <a:xfrm>
            <a:off x="4143240" y="214200"/>
            <a:ext cx="46785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Содержимое 4" descr="http://im0-tub-ru.yandex.net/i?id=129088058-34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71720" y="2143080"/>
            <a:ext cx="3857400" cy="39290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" descr=""/>
          <p:cNvPicPr/>
          <p:nvPr/>
        </p:nvPicPr>
        <p:blipFill>
          <a:blip r:embed="rId3"/>
          <a:stretch/>
        </p:blipFill>
        <p:spPr>
          <a:xfrm>
            <a:off x="0" y="142920"/>
            <a:ext cx="1571760" cy="18702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571720" y="214200"/>
            <a:ext cx="3008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53735"/>
                </a:solidFill>
                <a:latin typeface="Calibri"/>
              </a:rPr>
              <a:t>Лошадка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4" descr="http://im0-tub-ru.yandex.net/i?id=152461151-68-72&amp;n=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86280" y="2714760"/>
            <a:ext cx="29052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Содержимое 4" descr="http://im5-tub-ru.yandex.net/i?id=112971489-04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1920" y="285840"/>
            <a:ext cx="3429000" cy="28573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http://im4-tub-ru.yandex.net/i?id=226103551-57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6200" y="3286080"/>
            <a:ext cx="4189680" cy="32292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" descr=""/>
          <p:cNvPicPr/>
          <p:nvPr/>
        </p:nvPicPr>
        <p:blipFill>
          <a:blip r:embed="rId5"/>
          <a:stretch/>
        </p:blipFill>
        <p:spPr>
          <a:xfrm>
            <a:off x="7238880" y="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859c"/>
                </a:solidFill>
                <a:latin typeface="Calibri"/>
              </a:rPr>
              <a:t>Качели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2" descr=""/>
          <p:cNvPicPr/>
          <p:nvPr/>
        </p:nvPicPr>
        <p:blipFill>
          <a:blip r:embed="rId6"/>
          <a:stretch/>
        </p:blipFill>
        <p:spPr>
          <a:xfrm>
            <a:off x="285840" y="2286000"/>
            <a:ext cx="32842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Содержимое 4" descr="http://im6-tub-ru.yandex.net/i?id=219892137-65-72&amp;n=21"/>
          <p:cNvPicPr/>
          <p:nvPr/>
        </p:nvPicPr>
        <p:blipFill>
          <a:blip r:embed="rId1"/>
          <a:stretch/>
        </p:blipFill>
        <p:spPr>
          <a:xfrm>
            <a:off x="571680" y="2286000"/>
            <a:ext cx="4143240" cy="35719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1606680" cy="16938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571720" y="500040"/>
            <a:ext cx="3008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Варенье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2" descr=""/>
          <p:cNvPicPr/>
          <p:nvPr/>
        </p:nvPicPr>
        <p:blipFill>
          <a:blip r:embed="rId3"/>
          <a:stretch/>
        </p:blipFill>
        <p:spPr>
          <a:xfrm>
            <a:off x="5143680" y="3429000"/>
            <a:ext cx="380520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13:05:31Z</dcterms:created>
  <dc:creator>петровские</dc:creator>
  <dc:description/>
  <dc:language>en-US</dc:language>
  <cp:lastModifiedBy>User27</cp:lastModifiedBy>
  <dcterms:modified xsi:type="dcterms:W3CDTF">2017-04-19T01:14:14Z</dcterms:modified>
  <cp:revision>70</cp:revision>
  <dc:subject/>
  <dc:title>АРТИКУЛЯЦИОННАЯ ГИМНАСТИКА ДЛЯ ДЕТЕЙ</dc:title>
</cp:coreProperties>
</file>