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3.jpeg" ContentType="image/jpeg"/>
  <Override PartName="/ppt/media/image24.png" ContentType="image/png"/>
  <Override PartName="/ppt/media/image21.gif" ContentType="image/gif"/>
  <Override PartName="/ppt/media/image25.png" ContentType="image/png"/>
  <Override PartName="/ppt/media/image22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7.gif" ContentType="image/gif"/>
  <Override PartName="/ppt/media/image16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94B-85C5-46DF-B3C9-02621699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7C3-04F2-4EE6-9C81-B80EC83F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1A2-9E14-4BD6-B683-3400AD7B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7A9-6778-4586-8717-53452D91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30F-689C-4A36-B0D6-F2B76FFB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9B5-DA70-4585-BEED-C372D661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A0D-E5AE-42B4-BCEE-E95C0505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6F4-0C62-4688-B2C6-007E57BE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A64-BE0F-4BA0-AC67-FF925D77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9BF-762E-452C-B9C9-6186007E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940-25F9-4C29-871F-BBE51E7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BB9-61F0-4202-8B0C-68BEE785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9F29-1F87-4C42-B7F7-409D2A6848B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logoped.sch996.edusite.ru/images/clip_image010.jpg&amp;iorient=&amp;ih=&amp;icolor=&amp;site=&amp;text=&#1072;&#1088;&#1090;&#1080;&#1082;&#1091;&#1083;&#1103;&#1094;&#1080;&#1086;&#1085;&#1085;&#1072;&#1103;%20&#1075;&#1080;&#1084;&#1085;&#1072;&#1089;&#1090;&#1080;&#1082;&#1072;%20&#1075;&#1088;&#1080;&#1073;&#1086;&#1082;&amp;iw=&amp;wp=&amp;pos=0&amp;recent=&amp;type=&amp;isize=&amp;rpt=simage&amp;itype=&amp;nojs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eolte.com/img/307.files/image531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logoped.sch996.edusite.ru/images/clip_image012.jpg&amp;iorient=&amp;ih=&amp;icolor=&amp;p=1&amp;site=&amp;text=&#1084;&#1072;&#1083;&#1103;&#1088;&amp;iw=&amp;wp=&amp;pos=41&amp;recent=&amp;type=&amp;isize=&amp;rpt=simage&amp;itype=&amp;nojs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hyperlink" Target="http://images.yandex.ru/yandsearch?img_url=http://img1.liveinternet.ru/images/attach/c/2/74/509/74509715_4246388_1296632.jpg&amp;iorient=&amp;ih=&amp;icolor=&amp;site=&amp;text=&#1084;&#1072;&#1083;&#1103;&#1088;&amp;iw=&amp;wp=&amp;pos=4&amp;recent=&amp;type=&amp;isize=&amp;rpt=simage&amp;itype=&amp;nojs=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eolte.com/img/307.files/image490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img_url=http://demosfen-plus.ucoz.ru/kartinri/k3.png&amp;iorient=&amp;ih=&amp;nojs=1&amp;icolor=&amp;site=&amp;text=&#1072;&#1088;&#1090;&#1080;&#1082;&#1091;&#1083;&#1103;&#1094;&#1080;&#1086;&#1085;&#1085;&#1072;&#1103;%20&#1075;&#1080;&#1084;&#1085;&#1072;&#1089;&#1090;&#1080;&#1082;&#1072;%20&#1055;&#1086;&#1095;&#1080;&#1089;&#1090;&#1080;&#1084;%20&#1079;&#1091;&#1073;&#1082;&#1080;&amp;iw=&amp;wp=&amp;pos=1&amp;recent=&amp;type=&amp;isize=&amp;rpt=simage&amp;itype=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2;&#1088;&#1090;&#1080;&#1082;&#1091;&#1083;&#1103;&#1094;&#1080;&#1086;&#1085;&#1085;&#1072;&#1103;%20&#1075;&#1080;&#1084;&#1085;&#1072;&#1089;&#1090;&#1080;&#1082;&#1072;%20&#1083;&#1086;&#1096;&#1072;&#1076;&#1082;&#1072;&amp;img_url=http://kak.znate.ru/pars_docs/refs/28/27140/27140_html_m40ceda61.jpg&amp;pos=1&amp;rpt=simage&amp;nojs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hyperlink" Target="http://images.yandex.ru/yandsearch?img_url=http://img.nr2.ru/pict/arts1/19/56/195601.jpg&amp;iorient=&amp;ih=&amp;icolor=&amp;site=&amp;text=&#1083;&#1086;&#1096;&#1072;&#1076;&#1082;&#1072;&amp;iw=&amp;wp=&amp;pos=26&amp;recent=&amp;type=&amp;isize=&amp;rpt=simage&amp;itype=&amp;nojs=1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logoped.sch996.edusite.ru/images/clip_image008.jpg&amp;iorient=&amp;ih=&amp;icolor=&amp;site=&amp;text=&#1072;&#1088;&#1090;&#1080;&#1082;&#1091;&#1083;&#1103;&#1094;&#1080;&#1086;&#1085;&#1085;&#1072;&#1103;%20&#1075;&#1080;&#1084;&#1085;&#1072;&#1089;&#1090;&#1080;&#1082;&#1072;%20&#1082;&#1072;&#1095;&#1077;&#1083;&#1080;&amp;iw=&amp;wp=&amp;pos=10&amp;recent=&amp;type=&amp;isize=&amp;rpt=simage&amp;itype=&amp;nojs=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yandex.ru/yandsearch?img_url=http://lib.convdocs.org/pars_docs/refs/55/54599/54599_html_m13f4958.jpg&amp;iorient=&amp;ih=&amp;icolor=&amp;p=2&amp;site=&amp;text=&#1072;&#1088;&#1090;&#1080;&#1082;&#1091;&#1083;&#1103;&#1094;&#1080;&#1086;&#1085;&#1085;&#1072;&#1103;%20&#1075;&#1080;&#1084;&#1085;&#1072;&#1089;&#1090;&#1080;&#1082;&#1072;%20&#1082;&#1072;&#1095;&#1077;&#1083;&#1080;&amp;iw=&amp;wp=&amp;pos=82&amp;recent=&amp;type=&amp;isize=&amp;rpt=simage&amp;itype=&amp;nojs=1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>
            <a:off x="5143680" y="14288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"/>
          <p:cNvPicPr/>
          <p:nvPr/>
        </p:nvPicPr>
        <p:blipFill>
          <a:blip r:embed="rId3"/>
          <a:stretch/>
        </p:blipFill>
        <p:spPr>
          <a:xfrm>
            <a:off x="5500800" y="342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4"/>
          <a:stretch/>
        </p:blipFill>
        <p:spPr>
          <a:xfrm>
            <a:off x="6572160" y="18572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"/>
          <p:cNvPicPr/>
          <p:nvPr/>
        </p:nvPicPr>
        <p:blipFill>
          <a:blip r:embed="rId5"/>
          <a:stretch/>
        </p:blipFill>
        <p:spPr>
          <a:xfrm>
            <a:off x="7215120" y="7142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"/>
          <p:cNvPicPr/>
          <p:nvPr/>
        </p:nvPicPr>
        <p:blipFill>
          <a:blip r:embed="rId6"/>
          <a:stretch/>
        </p:blipFill>
        <p:spPr>
          <a:xfrm>
            <a:off x="7858080" y="2286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7"/>
          <a:stretch/>
        </p:blipFill>
        <p:spPr>
          <a:xfrm>
            <a:off x="7429680" y="450072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9"/>
          <p:cNvSpPr/>
          <p:nvPr/>
        </p:nvSpPr>
        <p:spPr>
          <a:xfrm>
            <a:off x="2357280" y="21420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АРТИКУЛЯЦИОННАЯ   ГИМНА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http://im0-tub-ru.yandex.net/i?id=172017629-1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214280"/>
            <a:ext cx="4510080" cy="3945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3"/>
          <a:stretch/>
        </p:blipFill>
        <p:spPr>
          <a:xfrm>
            <a:off x="0" y="142920"/>
            <a:ext cx="1176480" cy="1000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57920" y="2142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Грибок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4"/>
          <a:stretch/>
        </p:blipFill>
        <p:spPr>
          <a:xfrm>
            <a:off x="5715000" y="2000160"/>
            <a:ext cx="3274920" cy="4486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5"/>
          <a:stretch/>
        </p:blipFill>
        <p:spPr>
          <a:xfrm>
            <a:off x="4572000" y="5286240"/>
            <a:ext cx="1176480" cy="1000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"/>
          <p:cNvPicPr/>
          <p:nvPr/>
        </p:nvPicPr>
        <p:blipFill>
          <a:blip r:embed="rId6"/>
          <a:stretch/>
        </p:blipFill>
        <p:spPr>
          <a:xfrm>
            <a:off x="4714920" y="214200"/>
            <a:ext cx="117612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7"/>
          <a:stretch/>
        </p:blipFill>
        <p:spPr>
          <a:xfrm>
            <a:off x="0" y="5286240"/>
            <a:ext cx="11764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http://ceolte.com/img/307.files/image5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714680"/>
            <a:ext cx="5200920" cy="4809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3"/>
          <a:stretch/>
        </p:blipFill>
        <p:spPr>
          <a:xfrm>
            <a:off x="7429680" y="0"/>
            <a:ext cx="1954080" cy="2374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Дяте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4"/>
          <a:stretch/>
        </p:blipFill>
        <p:spPr>
          <a:xfrm>
            <a:off x="-785880" y="3000240"/>
            <a:ext cx="4152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6" descr="http://im6-tub-ru.yandex.net/i?id=172017640-2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2143080"/>
            <a:ext cx="4143600" cy="4357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3"/>
          <a:stretch/>
        </p:blipFill>
        <p:spPr>
          <a:xfrm>
            <a:off x="142920" y="357120"/>
            <a:ext cx="1190520" cy="1571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35840" y="1429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Маляр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http://im2-tub-ru.yandex.net/i?id=150445796-61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31000" y="3929040"/>
            <a:ext cx="3213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4" descr="http://ceolte.com/img/307.files/image49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714680"/>
            <a:ext cx="4214880" cy="3357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http://im8-tub-ru.yandex.net/i?id=88526853-25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286080"/>
            <a:ext cx="3949920" cy="3059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"/>
          <p:cNvPicPr/>
          <p:nvPr/>
        </p:nvPicPr>
        <p:blipFill>
          <a:blip r:embed="rId5"/>
          <a:stretch/>
        </p:blipFill>
        <p:spPr>
          <a:xfrm rot="21363000">
            <a:off x="1305000" y="5003640"/>
            <a:ext cx="1849320" cy="140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4257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46c0a"/>
                </a:solidFill>
                <a:latin typeface="Calibri"/>
              </a:rPr>
              <a:t>Чистим зубк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6"/>
          <a:stretch/>
        </p:blipFill>
        <p:spPr>
          <a:xfrm>
            <a:off x="4143240" y="214200"/>
            <a:ext cx="46785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4" descr="http://im0-tub-ru.yandex.net/i?id=129088058-3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143080"/>
            <a:ext cx="3857400" cy="39290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3"/>
          <a:stretch/>
        </p:blipFill>
        <p:spPr>
          <a:xfrm>
            <a:off x="0" y="142920"/>
            <a:ext cx="1571760" cy="1870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71720" y="21420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Лошадк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4" descr="http://im0-tub-ru.yandex.net/i?id=152461151-68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86280" y="2714760"/>
            <a:ext cx="2905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http://im5-tub-ru.yandex.net/i?id=112971489-0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920" y="285840"/>
            <a:ext cx="342900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http://im4-tub-ru.yandex.net/i?id=226103551-5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3286080"/>
            <a:ext cx="4189680" cy="32292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"/>
          <p:cNvPicPr/>
          <p:nvPr/>
        </p:nvPicPr>
        <p:blipFill>
          <a:blip r:embed="rId5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Calibri"/>
              </a:rPr>
              <a:t>Качел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6"/>
          <a:stretch/>
        </p:blipFill>
        <p:spPr>
          <a:xfrm>
            <a:off x="285840" y="2286000"/>
            <a:ext cx="3284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4" descr="http://im6-tub-ru.yandex.net/i?id=219892137-65-72&amp;n=21"/>
          <p:cNvPicPr/>
          <p:nvPr/>
        </p:nvPicPr>
        <p:blipFill>
          <a:blip r:embed="rId1"/>
          <a:stretch/>
        </p:blipFill>
        <p:spPr>
          <a:xfrm>
            <a:off x="571680" y="2286000"/>
            <a:ext cx="414324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606680" cy="1693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71720" y="5000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арень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3"/>
          <a:stretch/>
        </p:blipFill>
        <p:spPr>
          <a:xfrm>
            <a:off x="5143680" y="3429000"/>
            <a:ext cx="38052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3:05:31Z</dcterms:created>
  <dc:creator>петровские</dc:creator>
  <dc:description/>
  <dc:language>en-US</dc:language>
  <cp:lastModifiedBy>User27</cp:lastModifiedBy>
  <dcterms:modified xsi:type="dcterms:W3CDTF">2017-04-19T01:14:14Z</dcterms:modified>
  <cp:revision>70</cp:revision>
  <dc:subject/>
  <dc:title>АРТИКУЛЯЦИОННАЯ ГИМНАСТИКА ДЛЯ ДЕТЕЙ</dc:title>
</cp:coreProperties>
</file>