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DD4-8CB5-4614-B73D-11D5E456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EE1-8747-4590-9E55-0531CFC5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BAE-A613-44F6-B355-7076F361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C64-DA10-4F13-8FBB-3B07FF59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272-522C-47FB-BCAC-C5A63FD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2EB-5FEB-4D85-B3E0-27A94FB1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022-E289-47CE-BCD3-42EECF53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B2F-7256-4498-85EE-A79EDDFB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92D-03DB-4130-B167-9EC7E61F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188-9F89-4211-BC49-AA8FCF9F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756-2DEC-455D-843B-F8715C2A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C98-2A72-4045-8E0C-7870AB72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DAF2-B71E-4C41-B999-8869004F7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designcapital.ru/visualization/054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447920"/>
            <a:ext cx="6400800" cy="22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зуализация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́ндеринг (англ.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renderi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«визуализация») в компьютерной графике — это процесс получения изображения по модели с помощью компьютерной программы. Здесь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это описание трёхмерных объектов на строго определённом языке или в виде структуры данных. Такое описание может содержать геометрические данные, положение точки наблюдателя, информацию об освещени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зобра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это цифровое растровое изображение. Другими словами, рендеринг — создание плоского изображения (картинки) по разработанной 3D сцене. Синонимом в данном контексте является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изуа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art_viz_01_1"/>
          <p:cNvPicPr/>
          <p:nvPr/>
        </p:nvPicPr>
        <p:blipFill>
          <a:blip r:embed="rId1"/>
          <a:stretch/>
        </p:blipFill>
        <p:spPr>
          <a:xfrm>
            <a:off x="533520" y="380880"/>
            <a:ext cx="4481280" cy="586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2520" y="1294920"/>
            <a:ext cx="403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гипте, на одной из деревянных панелей из стен гробницы зодчего Хесира, записаны основы системы линейных размеров, применяемых в строительстве (около 2800 лет до н.э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23920" y="114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неолитические модели жилищ и их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ерху — главная крыша. Второй ряд — модели начатых постройкой домов. Третий ряд — модели домиков и амбаров. Внизу — двухэтажный дом и модель пос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art_viz_01_2"/>
          <p:cNvPicPr/>
          <p:nvPr/>
        </p:nvPicPr>
        <p:blipFill>
          <a:blip r:embed="rId1"/>
          <a:stretch/>
        </p:blipFill>
        <p:spPr>
          <a:xfrm>
            <a:off x="533520" y="533520"/>
            <a:ext cx="4024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ик трипольской культур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. Ворошиловка Винницкой об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тысячи лет до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art_viz_01_3"/>
          <p:cNvPicPr/>
          <p:nvPr/>
        </p:nvPicPr>
        <p:blipFill>
          <a:blip r:embed="rId1"/>
          <a:stretch/>
        </p:blipFill>
        <p:spPr>
          <a:xfrm>
            <a:off x="1981080" y="228600"/>
            <a:ext cx="4869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иняная модель жилого дома.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лизительно 3 тысячи лет до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rt_viz_01_4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Картинка 6 из 5986"/>
          <p:cNvPicPr/>
          <p:nvPr/>
        </p:nvPicPr>
        <p:blipFill>
          <a:blip r:embed="rId1"/>
          <a:stretch/>
        </p:blipFill>
        <p:spPr>
          <a:xfrm>
            <a:off x="533520" y="3049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5562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ам Покрова на Нер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Картинка 5 из 4688"/>
          <p:cNvPicPr/>
          <p:nvPr/>
        </p:nvPicPr>
        <p:blipFill>
          <a:blip r:embed="rId2"/>
          <a:srcRect l="15001" t="0" r="10001" b="0"/>
          <a:stretch/>
        </p:blipFill>
        <p:spPr>
          <a:xfrm>
            <a:off x="4648320" y="990720"/>
            <a:ext cx="3975120" cy="4441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419360" y="54860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ам Покрова на Красной площ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Промежуточная визуализация коттеджа"/>
          <p:cNvPicPr/>
          <p:nvPr/>
        </p:nvPicPr>
        <p:blipFill>
          <a:blip r:embed="rId1"/>
          <a:stretch/>
        </p:blipFill>
        <p:spPr>
          <a:xfrm>
            <a:off x="533520" y="152280"/>
            <a:ext cx="4647960" cy="3265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Финальная визуализация коттедж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3276720"/>
            <a:ext cx="464832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проект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ола состоит из двух зданий: начальная школа и средняя ш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ьная школа имеет 4 класса, санузел, раздева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яя школа имеет 7 классов, кабинет директора, учительская, санузел, раздевалка, спортзал, кабинет информатики. Каждый кабинет оснастить необходимой мебелью и сантехникой. Визуализировать прое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9:03:49Z</dcterms:created>
  <dc:creator>вано</dc:creator>
  <dc:description/>
  <dc:language>en-US</dc:language>
  <cp:lastModifiedBy>вано</cp:lastModifiedBy>
  <dcterms:modified xsi:type="dcterms:W3CDTF">2013-11-21T18:04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