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B74-11B2-4AC6-902C-63A90C0A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DB6-69BF-453A-BC8D-C4EE839F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B27-5BC4-48D3-B364-14E7F82B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F5D-4518-469E-AB2C-577C1C17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38E-FB26-4B75-9D7B-CAD956F1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942-B995-46CE-B9B4-4D55BC6E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D18-8A3F-4121-889D-99197D0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EA7-2FA0-4382-844A-20762ECE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54E-92C4-41BF-8169-53DF3F9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0C9-B578-4EA6-BAB2-A46994C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CDB-6BFF-4B85-9AB1-C5104CC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300-93B9-4B9B-BE0E-5954FD0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8AC-96C3-4C46-87D2-8C2DBABC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esigncapital.ru/visualization/054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44792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уализация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́ндеринг (англ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«визуализация») в компьютерной графике — это процесс получения изображения по модели с помощью компьютерной программы. Здесь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это описание трёхмерных объектов на строго определённом языке или в виде структуры данных. Такое описание может содержать геометрические данные, положение точки наблюдателя, информацию об освещени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обра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это цифровое растровое изображение. Другими словами, рендеринг — создание плоского изображения (картинки) по разработанной 3D сцене. Синонимом в данном контексте является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з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rt_viz_01_1"/>
          <p:cNvPicPr/>
          <p:nvPr/>
        </p:nvPicPr>
        <p:blipFill>
          <a:blip r:embed="rId1"/>
          <a:stretch/>
        </p:blipFill>
        <p:spPr>
          <a:xfrm>
            <a:off x="533520" y="380880"/>
            <a:ext cx="4481280" cy="586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2520" y="1294920"/>
            <a:ext cx="403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ипте, на одной из деревянных панелей из стен гробницы зодчего Хесира, записаны основы системы линейных размеров, применяемых в строительстве (около 2800 лет до 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239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еолитические модели жилищ и и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ерху — главная крыша. Второй ряд — модели начатых постройкой домов. Третий ряд — модели домиков и амбаров. Внизу — двухэтажный дом и модель пос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art_viz_01_2"/>
          <p:cNvPicPr/>
          <p:nvPr/>
        </p:nvPicPr>
        <p:blipFill>
          <a:blip r:embed="rId1"/>
          <a:stretch/>
        </p:blipFill>
        <p:spPr>
          <a:xfrm>
            <a:off x="533520" y="533520"/>
            <a:ext cx="4024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ик трипольской культур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. Ворошиловка Винницкой об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тысячи лет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rt_viz_01_3"/>
          <p:cNvPicPr/>
          <p:nvPr/>
        </p:nvPicPr>
        <p:blipFill>
          <a:blip r:embed="rId1"/>
          <a:stretch/>
        </p:blipFill>
        <p:spPr>
          <a:xfrm>
            <a:off x="1981080" y="228600"/>
            <a:ext cx="4869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иняная модель жилого дома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лизительно 3 тысячи лет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rt_viz_01_4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6 из 5986"/>
          <p:cNvPicPr/>
          <p:nvPr/>
        </p:nvPicPr>
        <p:blipFill>
          <a:blip r:embed="rId1"/>
          <a:stretch/>
        </p:blipFill>
        <p:spPr>
          <a:xfrm>
            <a:off x="533520" y="304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5562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м Покрова на Нер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Картинка 5 из 4688"/>
          <p:cNvPicPr/>
          <p:nvPr/>
        </p:nvPicPr>
        <p:blipFill>
          <a:blip r:embed="rId2"/>
          <a:srcRect l="15001" t="0" r="10001" b="0"/>
          <a:stretch/>
        </p:blipFill>
        <p:spPr>
          <a:xfrm>
            <a:off x="4648320" y="990720"/>
            <a:ext cx="3975120" cy="444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419360" y="54860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м Покрова на Красной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ромежуточная визуализация коттеджа"/>
          <p:cNvPicPr/>
          <p:nvPr/>
        </p:nvPicPr>
        <p:blipFill>
          <a:blip r:embed="rId1"/>
          <a:stretch/>
        </p:blipFill>
        <p:spPr>
          <a:xfrm>
            <a:off x="533520" y="152280"/>
            <a:ext cx="4647960" cy="326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Финальная визуализация коттедж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3276720"/>
            <a:ext cx="46483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роект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а состоит из двух зданий: начальная школа и средняя ш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ьная школа имеет 4 класса, санузел, раздева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яя школа имеет 7 классов, кабинет директора, учительская, санузел, раздевалка, спортзал, кабинет информатики. Каждый кабинет оснастить необходимой мебелью и сантехникой. Визуализировать про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9:03:49Z</dcterms:created>
  <dc:creator>вано</dc:creator>
  <dc:description/>
  <dc:language>en-US</dc:language>
  <cp:lastModifiedBy>вано</cp:lastModifiedBy>
  <dcterms:modified xsi:type="dcterms:W3CDTF">2013-11-21T18:04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