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704-EADD-4A8B-8832-E016EF27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364-7A9D-4249-B99A-AA4863E6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F9E-C777-4C53-A20B-482C6DC6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0B7-E007-4CA4-9076-EDAABA46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BB0A-8552-4513-9AC4-F1F67745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C795-8AE1-4211-9693-AFC1E669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4C5C-093E-4029-91A3-9670A974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0B2B-4D8B-4121-A9DC-DE52DFA8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0BF2-AC39-4357-B046-8ADDE31A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C84C-5DC0-471E-A4BB-CC732819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420C-FBE3-444F-AA88-451EA849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732-900A-4E71-B7D1-97D85B20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4579-418E-4939-BC42-653D8EB9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D71A-321E-4333-B6AB-2EF903C2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D57C-6881-4B7B-9FEE-57683345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DAED-558C-4A16-851B-7674486E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DA7F-8B11-4110-97E1-C2F09AAF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940-9236-4044-A52F-C427ECBF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98DB-B21C-4101-94B2-73E219EB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927-8208-46A8-920E-A927F3AF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CA91-A1AA-4030-A62E-937A9868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994-6A67-47C6-88D6-F2979AC5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D83-CB86-4241-9749-ED917935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151-BE73-4E55-A255-C50FC329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85F3-77F0-40E0-92DA-E5EEF57D7CB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FBCD-DEE0-402A-B1B8-407380E3A77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5"/>
          <p:cNvSpPr txBox="1"/>
          <p:nvPr/>
        </p:nvSpPr>
        <p:spPr>
          <a:xfrm>
            <a:off x="684360" y="333360"/>
            <a:ext cx="748800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ritish scho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2843280" y="3244680"/>
            <a:ext cx="60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de by:Maksim Podpech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21384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chool year in Britain sta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Septemb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ssons last 40-45 minu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tish pupils wear a school uniform. The favourite colors are blue, grey, black and gre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irst foreign language they learn at school is French. Sometimes they also learn a second foreign language: German, Spanish, Russi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tish students have Christmas holidays, Easter holidays and Summer holidays. Schools also have special half-term holidays in the middle of each term. These holidays last 2-3 days before or after a weeke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picture.jpg"/>
          <p:cNvPicPr/>
          <p:nvPr/>
        </p:nvPicPr>
        <p:blipFill>
          <a:blip r:embed="rId1"/>
          <a:stretch/>
        </p:blipFill>
        <p:spPr>
          <a:xfrm>
            <a:off x="428760" y="28584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932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ool unifor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Picture 5" descr="british-school-girls"/>
          <p:cNvPicPr/>
          <p:nvPr/>
        </p:nvPicPr>
        <p:blipFill>
          <a:blip r:embed="rId1"/>
          <a:stretch/>
        </p:blipFill>
        <p:spPr>
          <a:xfrm>
            <a:off x="179280" y="119700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board"/>
          <p:cNvPicPr/>
          <p:nvPr/>
        </p:nvPicPr>
        <p:blipFill>
          <a:blip r:embed="rId2"/>
          <a:stretch/>
        </p:blipFill>
        <p:spPr>
          <a:xfrm>
            <a:off x="6372360" y="692280"/>
            <a:ext cx="2587320" cy="360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article_image-image-article"/>
          <p:cNvPicPr/>
          <p:nvPr/>
        </p:nvPicPr>
        <p:blipFill>
          <a:blip r:embed="rId3"/>
          <a:stretch/>
        </p:blipFill>
        <p:spPr>
          <a:xfrm>
            <a:off x="3780000" y="1844640"/>
            <a:ext cx="2539800" cy="4343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1818387"/>
          <p:cNvPicPr/>
          <p:nvPr/>
        </p:nvPicPr>
        <p:blipFill>
          <a:blip r:embed="rId4"/>
          <a:stretch/>
        </p:blipFill>
        <p:spPr>
          <a:xfrm>
            <a:off x="539640" y="4335480"/>
            <a:ext cx="3168720" cy="2233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113353624751311"/>
          <p:cNvPicPr/>
          <p:nvPr/>
        </p:nvPicPr>
        <p:blipFill>
          <a:blip r:embed="rId5"/>
          <a:stretch/>
        </p:blipFill>
        <p:spPr>
          <a:xfrm>
            <a:off x="6407280" y="4437000"/>
            <a:ext cx="27367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ools in England and America use their own marks: letters or percen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90-100 -excellent 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80-89 – good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70-79 – satisfactory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60-69 ba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0-59 po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2124000" y="333360"/>
            <a:ext cx="482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n Britain at the end of each term school sends a report to parents. It has the pupil’s marks in all the subjects and the teacher’s comments on the pupil’s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n Russ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uring the term the pupils keep a homework diary. At the end of each term the form teacher puts all the final marks there. And the parents should sig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the pupils have there own lockers (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ирающийся шкафчи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most British schools each pupils has two lockers: a gym locker and a hall locker. The lockers are important and guarantee the safety of the pupils’ belongin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lockers"/>
          <p:cNvPicPr/>
          <p:nvPr/>
        </p:nvPicPr>
        <p:blipFill>
          <a:blip r:embed="rId1"/>
          <a:stretch/>
        </p:blipFill>
        <p:spPr>
          <a:xfrm rot="20677200">
            <a:off x="468000" y="3573360"/>
            <a:ext cx="2870280" cy="2944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Electronic_Lockers"/>
          <p:cNvPicPr/>
          <p:nvPr/>
        </p:nvPicPr>
        <p:blipFill>
          <a:blip r:embed="rId2"/>
          <a:stretch/>
        </p:blipFill>
        <p:spPr>
          <a:xfrm rot="709800">
            <a:off x="4984560" y="3116160"/>
            <a:ext cx="364464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d6ab1da8471d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Содержимое 3"/>
          <p:cNvSpPr/>
          <p:nvPr/>
        </p:nvSpPr>
        <p:spPr>
          <a:xfrm>
            <a:off x="395280" y="4437000"/>
            <a:ext cx="40384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Georgia"/>
              </a:rPr>
              <a:t>At the age of twelve Russian students go   to the sixth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9528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Georgia"/>
              </a:rPr>
              <a:t>In most English schools forms start only at the secondary school, at the age of el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Georgia"/>
              </a:rPr>
              <a:t>So at the age of twelve British students go to the second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65160" indent="-6516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he five minutes between lessons is not a break. Pupils must use this time to move quickly to the next les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During the lunch hour pupils have time to do many things besides eating. They can also read in the library, participate in clubs or sport, and go h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Some children go to Sunday school – classes giving religious instruction to children, organised by churches on Sund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ed by churches on Sunday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95280" y="333000"/>
            <a:ext cx="8569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Georgia"/>
              </a:rPr>
              <a:t>At English schools children call the male teachers Mr and the female teachers Miss/Mrs with the surname</a:t>
            </a:r>
            <a:r>
              <a:rPr b="0" lang="en-US" sz="2600" spc="-1" strike="noStrike">
                <a:solidFill>
                  <a:srgbClr val="0033cc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teacher2"/>
          <p:cNvPicPr/>
          <p:nvPr/>
        </p:nvPicPr>
        <p:blipFill>
          <a:blip r:embed="rId1"/>
          <a:stretch/>
        </p:blipFill>
        <p:spPr>
          <a:xfrm>
            <a:off x="826920" y="1989000"/>
            <a:ext cx="74901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5:58:01Z</dcterms:created>
  <dc:creator>Учитель</dc:creator>
  <dc:description/>
  <dc:language>en-US</dc:language>
  <cp:lastModifiedBy>Пользователь</cp:lastModifiedBy>
  <dcterms:modified xsi:type="dcterms:W3CDTF">2017-09-17T19:15:04Z</dcterms:modified>
  <cp:revision>76</cp:revision>
  <dc:subject/>
  <dc:title>Слайд 1</dc:title>
</cp:coreProperties>
</file>