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131-8B8A-437E-9636-3FC8D88C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6FE-E470-43FD-BF9E-CB75A834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BE9-83E7-4663-AD75-4C825C67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F79-D942-4AC7-B9DB-6A052A95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E10-51CC-4453-9A23-A57B9231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D06-9698-4DED-81B7-D4071B99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8FC-5EFA-47C2-BB4D-8A9FEC8D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268-A9D3-41ED-8B34-1E911E06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9D1-55C8-44EC-AF50-CA13677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F28-FE2B-47CF-B772-15FE707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0CD-508C-435A-91DA-A7AD473C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27B-B940-427C-82C2-DDF50296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B97A-93E8-4848-86C7-EEB9066C5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47640" y="-23760"/>
            <a:ext cx="604872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53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67694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6612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8327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116000" y="39600"/>
            <a:ext cx="683244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250920" y="-9360"/>
            <a:ext cx="909936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753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76320" y="25560"/>
            <a:ext cx="9245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8634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900000" y="-4680"/>
            <a:ext cx="604836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258920" y="115920"/>
            <a:ext cx="540072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59770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332000" y="0"/>
            <a:ext cx="5976720" cy="71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0T08:09:43Z</dcterms:created>
  <dc:creator>Школа21</dc:creator>
  <dc:description/>
  <dc:language>en-US</dc:language>
  <cp:lastModifiedBy>Школа21</cp:lastModifiedBy>
  <dcterms:modified xsi:type="dcterms:W3CDTF">2017-09-20T08:23:16Z</dcterms:modified>
  <cp:revision>2</cp:revision>
  <dc:subject/>
  <dc:title>Презентация PowerPoint</dc:title>
</cp:coreProperties>
</file>