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EC60-9CB2-4D01-92EB-FC969829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C77-12B9-42C1-B5FE-2841D5D1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66AD-D8D7-4EDD-840C-6B4C2099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3138-CFD1-4D22-990B-1DA48703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956CD-414F-476A-A412-A26BE38B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BA5E2-9440-432B-BD02-E47DB9BB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8BAF7-884C-4794-9078-21390051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45EB2-71A1-463D-B2AD-09E03FA2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AB291-C188-4C2F-BCE0-0406F951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A06DF-EB07-49C0-B0FA-B96FC909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4D603-5A1A-431A-9EE4-A7A357A7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BCE-8273-461A-9A56-988A6091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64A64-657A-4EB2-932E-0408AE4C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CA7F1-6ED1-4562-8F98-0D49774C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F134B-FBC3-4C2C-B2BD-3E6142E4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E29BB-1D76-45A9-92A2-F7CE5CEF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EA072-FF6C-4547-8023-70116BC5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6564-4596-4DD7-A235-E7D11182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842C-27E5-4F7E-B1A4-0C474418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B41F-1A32-4685-A8D7-59412708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29C4-29C2-4BD7-8342-F407C9CD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CE1-CA22-4A60-8345-369DB70F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6212-ACB4-4AA1-A3BE-DD893A88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2463-9083-4625-B7B9-59886FB3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21DD-AE46-48D4-92F9-2D24BF653D5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EF27-DBE7-4C58-814B-29C30341597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바탕"/>
              </a:rPr>
              <a:t>Куликовская   битва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219280" y="3716280"/>
            <a:ext cx="3344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полни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еник 4 «а»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веевской средней шко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юшин Ег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바탕"/>
                <a:ea typeface="바탕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3399"/>
                </a:solidFill>
                <a:latin typeface="바탕"/>
                <a:ea typeface="바탕"/>
              </a:rPr>
              <a:t>       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97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mbria"/>
              </a:rPr>
              <a:t>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 обычаю того времени  битва начала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 единоборства. Из ордынской армии  выехал  Челубей, из русской – монах Пересв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6" descr="скачанные файлы (2)"/>
          <p:cNvPicPr/>
          <p:nvPr/>
        </p:nvPicPr>
        <p:blipFill>
          <a:blip r:embed="rId1"/>
          <a:stretch/>
        </p:blipFill>
        <p:spPr>
          <a:xfrm>
            <a:off x="2124000" y="2467080"/>
            <a:ext cx="51847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530028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а пали мёртвыми, но  победа осталась за Пересветом,. Конь смог довести его до русских войск, а Челубей оказался выбитым из сед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1316485026_Poed"/>
          <p:cNvPicPr/>
          <p:nvPr/>
        </p:nvPicPr>
        <p:blipFill>
          <a:blip r:embed="rId1"/>
          <a:stretch/>
        </p:blipFill>
        <p:spPr>
          <a:xfrm>
            <a:off x="324000" y="189000"/>
            <a:ext cx="857232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плла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50560" y="4941360"/>
            <a:ext cx="87138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шло несколько часов боя и ордынцы начали побеждать русски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кули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47527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ожиданно  ударил засадный полк, заранее спрятанный князем  Дмитрием в небольшой рощ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боброк с запасным полком"/>
          <p:cNvPicPr/>
          <p:nvPr/>
        </p:nvPicPr>
        <p:blipFill>
          <a:blip r:embed="rId1"/>
          <a:stretch/>
        </p:blipFill>
        <p:spPr>
          <a:xfrm>
            <a:off x="324000" y="1989000"/>
            <a:ext cx="8456400" cy="4464360"/>
          </a:xfrm>
          <a:prstGeom prst="rect">
            <a:avLst/>
          </a:prstGeom>
          <a:ln w="5724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4941360"/>
            <a:ext cx="87138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mbria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то же время стали наступать и другие русские полки. Мамай бросился бежать, а за ним  - всё ордынское войско</a:t>
            </a: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ккк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4535640"/>
          </a:xfrm>
          <a:prstGeom prst="rect">
            <a:avLst/>
          </a:prstGeom>
          <a:ln w="5724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9280" y="4797000"/>
            <a:ext cx="8640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рашное зрелище представляло собой Куликово поле. Было очень много мёртвых и раненных. Их хоронили недел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1388359590_2"/>
          <p:cNvPicPr/>
          <p:nvPr/>
        </p:nvPicPr>
        <p:blipFill>
          <a:blip r:embed="rId1"/>
          <a:stretch/>
        </p:blipFill>
        <p:spPr>
          <a:xfrm>
            <a:off x="755640" y="0"/>
            <a:ext cx="77756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338436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честь победы народ прозвал князя Дмитрия – Донск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за победу московского князя назвали донским"/>
          <p:cNvPicPr/>
          <p:nvPr/>
        </p:nvPicPr>
        <p:blipFill>
          <a:blip r:embed="rId1"/>
          <a:stretch/>
        </p:blipFill>
        <p:spPr>
          <a:xfrm>
            <a:off x="3708360" y="260280"/>
            <a:ext cx="5175360" cy="619308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память в честь победы кул битва"/>
          <p:cNvPicPr/>
          <p:nvPr/>
        </p:nvPicPr>
        <p:blipFill>
          <a:blip r:embed="rId1"/>
          <a:stretch/>
        </p:blipFill>
        <p:spPr>
          <a:xfrm>
            <a:off x="5219640" y="260280"/>
            <a:ext cx="3625920" cy="626436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58" name="Picture 5" descr="память"/>
          <p:cNvPicPr/>
          <p:nvPr/>
        </p:nvPicPr>
        <p:blipFill>
          <a:blip r:embed="rId2"/>
          <a:stretch/>
        </p:blipFill>
        <p:spPr>
          <a:xfrm>
            <a:off x="250920" y="333360"/>
            <a:ext cx="4619520" cy="388764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sp>
        <p:nvSpPr>
          <p:cNvPr id="159" name=""/>
          <p:cNvSpPr txBox="1"/>
          <p:nvPr/>
        </p:nvSpPr>
        <p:spPr>
          <a:xfrm>
            <a:off x="178920" y="4436640"/>
            <a:ext cx="49690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амятник в честь победы на Куликовом пол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3743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Куликовская битва –сражение между русским войском и войском Золотой Орды. Состоялось 8 сентября 1380 г. между реками Дон и Непрядва на Куликовом поле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2349360"/>
            <a:ext cx="66564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поолее"/>
          <p:cNvPicPr/>
          <p:nvPr/>
        </p:nvPicPr>
        <p:blipFill>
          <a:blip r:embed="rId1"/>
          <a:stretch/>
        </p:blipFill>
        <p:spPr>
          <a:xfrm>
            <a:off x="395280" y="2205000"/>
            <a:ext cx="8353440" cy="426708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нязь  Дмитрий отказался платить дань Золотой Орд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images"/>
          <p:cNvPicPr/>
          <p:nvPr/>
        </p:nvPicPr>
        <p:blipFill>
          <a:blip r:embed="rId1"/>
          <a:stretch/>
        </p:blipFill>
        <p:spPr>
          <a:xfrm>
            <a:off x="4284720" y="404640"/>
            <a:ext cx="43815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4797360"/>
            <a:ext cx="8640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 1380 г. ордынская армия в 100 тысяч воинов во главе с Мамае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винулась на Русь.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D:\мама\к кулик битве\идёт на русь.jpg"/>
          <p:cNvPicPr/>
          <p:nvPr/>
        </p:nvPicPr>
        <p:blipFill>
          <a:blip r:embed="rId1"/>
          <a:stretch/>
        </p:blipFill>
        <p:spPr>
          <a:xfrm>
            <a:off x="250920" y="189000"/>
            <a:ext cx="8636040" cy="4319640"/>
          </a:xfrm>
          <a:prstGeom prst="rect">
            <a:avLst/>
          </a:prstGeom>
          <a:ln w="7632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560" y="4005000"/>
            <a:ext cx="8893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бор русских был назначен в Коломне.  Русская армия насчитывала 50-60 тыс. воин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моск войск"/>
          <p:cNvPicPr/>
          <p:nvPr/>
        </p:nvPicPr>
        <p:blipFill>
          <a:blip r:embed="rId1"/>
          <a:stretch/>
        </p:blipFill>
        <p:spPr>
          <a:xfrm>
            <a:off x="1187280" y="260280"/>
            <a:ext cx="7129800" cy="34560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4508280"/>
            <a:ext cx="836280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mbri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mbria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ред боем князь Дмитрий поехал за благословением  к Сергию Радонежско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blagoslovenie_sergiem_dmitriya_donskogo_400"/>
          <p:cNvPicPr/>
          <p:nvPr/>
        </p:nvPicPr>
        <p:blipFill>
          <a:blip r:embed="rId1"/>
          <a:stretch/>
        </p:blipFill>
        <p:spPr>
          <a:xfrm>
            <a:off x="755640" y="333360"/>
            <a:ext cx="7201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5084640"/>
            <a:ext cx="85075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ргий дал в помощь Дмитрию двух монахов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ндрея   Ослабю и Александра Пересве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бл"/>
          <p:cNvPicPr/>
          <p:nvPr/>
        </p:nvPicPr>
        <p:blipFill>
          <a:blip r:embed="rId1"/>
          <a:stretch/>
        </p:blipFill>
        <p:spPr>
          <a:xfrm>
            <a:off x="900000" y="260280"/>
            <a:ext cx="7840800" cy="459108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Cambria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военном совете Князь Дмитрия предложил  перейти Дон и принять бой на Куликовом поле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переправа через дон"/>
          <p:cNvPicPr/>
          <p:nvPr/>
        </p:nvPicPr>
        <p:blipFill>
          <a:blip r:embed="rId1"/>
          <a:stretch/>
        </p:blipFill>
        <p:spPr>
          <a:xfrm>
            <a:off x="254160" y="1916280"/>
            <a:ext cx="8397720" cy="46735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362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усская армия.           Ордынская арм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6" descr="княжеск дружина донского"/>
          <p:cNvPicPr/>
          <p:nvPr/>
        </p:nvPicPr>
        <p:blipFill>
          <a:blip r:embed="rId1"/>
          <a:stretch/>
        </p:blipFill>
        <p:spPr>
          <a:xfrm>
            <a:off x="468360" y="1916280"/>
            <a:ext cx="3970440" cy="460836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41" name="Picture 4" descr="войско орды"/>
          <p:cNvPicPr/>
          <p:nvPr/>
        </p:nvPicPr>
        <p:blipFill>
          <a:blip r:embed="rId2"/>
          <a:stretch/>
        </p:blipFill>
        <p:spPr>
          <a:xfrm>
            <a:off x="4788000" y="1916280"/>
            <a:ext cx="3887640" cy="46098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20:26:56Z</dcterms:created>
  <dc:creator>Админ</dc:creator>
  <dc:description/>
  <dc:language>en-US</dc:language>
  <cp:lastModifiedBy>Narod</cp:lastModifiedBy>
  <cp:lastPrinted>2015-10-07T17:53:28Z</cp:lastPrinted>
  <dcterms:modified xsi:type="dcterms:W3CDTF">2015-10-07T18:03:12Z</dcterms:modified>
  <cp:revision>36</cp:revision>
  <dc:subject/>
  <dc:title>Слайд 1</dc:title>
</cp:coreProperties>
</file>