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E59B-DFAC-42A0-BC30-7862237CF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9481-1A30-4F29-B855-5DE1EAC1A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491E-D4CB-43DF-B249-CBD29A90F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403D-5A0E-48D3-B8CE-7A56A98B4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8EDEE9-3CB4-4473-ADB1-703ECA49F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58CEA3-0B76-4368-A204-CC0E6A777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C398D7-C636-4D0C-AC86-DC8FAD050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3D3D95-9D94-4D8F-B61C-85FE9A766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DF5FDA-30BE-4DA4-A1B3-5E1484922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5996A4-5D08-4CF2-8A1B-F7431051D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A64B93-DA3C-42D6-A416-D84A1D2B3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2CDF-7F55-4A09-AF08-0733E94B6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BCC82C-BFBA-4995-8E21-71CA4CD32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361D07-21FB-4122-A62E-0B997EA52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F5A4F6-30C3-4F60-B5BE-96778B1D1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D26CCB-B52B-4432-961F-09FD1C5AD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F5F2B0-58FA-4573-94EA-617EF58B9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7F43-9FD2-47E5-9E7D-8219C0B93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CB3E-17CC-4A11-A0B2-B3139E313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D3B3-AC1E-4667-A3EB-04719114C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F8D5-3707-4EE7-ADDE-AEAA4AE53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A1EA-8FD0-4F50-8DBE-CA0318A8E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24EC-D768-4924-B880-8AF1BCF97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9D29-1D57-4535-92FD-210189635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1D6A8-7AA6-41C9-9F1F-6F9E75A11BB7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EB480-781A-4333-86F5-512A2C32948C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4360" y="112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Times New Roman"/>
                <a:ea typeface="바탕"/>
              </a:rPr>
              <a:t>Куликовская   битва</a:t>
            </a:r>
            <a:endParaRPr b="0" lang="en-US" sz="6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219280" y="3716280"/>
            <a:ext cx="33447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ыполнил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ученик 4 «а» класс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ивеевской средней школ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люшин Его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바탕"/>
                <a:ea typeface="바탕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3399"/>
                </a:solidFill>
                <a:latin typeface="바탕"/>
                <a:ea typeface="바탕"/>
              </a:rPr>
              <a:t>        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250560" y="333360"/>
            <a:ext cx="849780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Cambria"/>
              </a:rPr>
              <a:t>       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о обычаю того времени  битва началас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с единоборства. Из ордынской армии  выехал  Челубей, из русской – монах Пересве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Picture 6" descr="скачанные файлы (2)"/>
          <p:cNvPicPr/>
          <p:nvPr/>
        </p:nvPicPr>
        <p:blipFill>
          <a:blip r:embed="rId1"/>
          <a:stretch/>
        </p:blipFill>
        <p:spPr>
          <a:xfrm>
            <a:off x="2124000" y="2467080"/>
            <a:ext cx="518472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68360" y="530028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Оба пали мёртвыми, но  победа осталась за Пересветом,. Конь смог довести его до русских войск, а Челубей оказался выбитым из седл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Picture 5" descr="1316485026_Poed"/>
          <p:cNvPicPr/>
          <p:nvPr/>
        </p:nvPicPr>
        <p:blipFill>
          <a:blip r:embed="rId1"/>
          <a:stretch/>
        </p:blipFill>
        <p:spPr>
          <a:xfrm>
            <a:off x="324000" y="189000"/>
            <a:ext cx="8572320" cy="50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5" descr="плла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250560" y="4941360"/>
            <a:ext cx="8713800" cy="15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рошло несколько часов боя и ордынцы начали побеждать русских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Picture 4" descr="кули"/>
          <p:cNvPicPr/>
          <p:nvPr/>
        </p:nvPicPr>
        <p:blipFill>
          <a:blip r:embed="rId1"/>
          <a:stretch/>
        </p:blipFill>
        <p:spPr>
          <a:xfrm>
            <a:off x="250920" y="189000"/>
            <a:ext cx="8713800" cy="4752720"/>
          </a:xfrm>
          <a:prstGeom prst="rect">
            <a:avLst/>
          </a:prstGeom>
          <a:ln w="76320">
            <a:solidFill>
              <a:srgbClr val="66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250920" y="333360"/>
            <a:ext cx="864216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Неожиданно  ударил засадный полк, заранее спрятанный князем  Дмитрием в небольшой рощ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4" descr="боброк с запасным полком"/>
          <p:cNvPicPr/>
          <p:nvPr/>
        </p:nvPicPr>
        <p:blipFill>
          <a:blip r:embed="rId1"/>
          <a:stretch/>
        </p:blipFill>
        <p:spPr>
          <a:xfrm>
            <a:off x="324000" y="1989000"/>
            <a:ext cx="8456400" cy="4464360"/>
          </a:xfrm>
          <a:prstGeom prst="rect">
            <a:avLst/>
          </a:prstGeom>
          <a:ln w="57240">
            <a:solidFill>
              <a:srgbClr val="00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250560" y="4941360"/>
            <a:ext cx="8713800" cy="15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Cambria"/>
              </a:rPr>
              <a:t>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 то же время стали наступать и другие русские полки. Мамай бросился бежать, а за ним  - всё ордынское войско</a:t>
            </a:r>
            <a:r>
              <a:rPr b="0" lang="ru-RU" sz="2800" spc="-1" strike="noStrike">
                <a:solidFill>
                  <a:srgbClr val="003399"/>
                </a:solidFill>
                <a:latin typeface="Cambri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Picture 5" descr="ккк"/>
          <p:cNvPicPr/>
          <p:nvPr/>
        </p:nvPicPr>
        <p:blipFill>
          <a:blip r:embed="rId1"/>
          <a:stretch/>
        </p:blipFill>
        <p:spPr>
          <a:xfrm>
            <a:off x="250920" y="333360"/>
            <a:ext cx="8642160" cy="4535640"/>
          </a:xfrm>
          <a:prstGeom prst="rect">
            <a:avLst/>
          </a:prstGeom>
          <a:ln w="57240">
            <a:solidFill>
              <a:srgbClr val="00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179280" y="4797000"/>
            <a:ext cx="864072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Страшное зрелище представляло собой Куликово поле. Было очень много мёртвых и раненных. Их хоронили неделю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Picture 5" descr="1388359590_2"/>
          <p:cNvPicPr/>
          <p:nvPr/>
        </p:nvPicPr>
        <p:blipFill>
          <a:blip r:embed="rId1"/>
          <a:stretch/>
        </p:blipFill>
        <p:spPr>
          <a:xfrm>
            <a:off x="755640" y="0"/>
            <a:ext cx="7775640" cy="48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250560" y="1628280"/>
            <a:ext cx="3384360" cy="25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99"/>
                </a:solidFill>
                <a:latin typeface="Cambria"/>
              </a:rPr>
              <a:t>  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В честь победы народ прозвал князя Дмитрия – Донски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Picture 4" descr="за победу московского князя назвали донским"/>
          <p:cNvPicPr/>
          <p:nvPr/>
        </p:nvPicPr>
        <p:blipFill>
          <a:blip r:embed="rId1"/>
          <a:stretch/>
        </p:blipFill>
        <p:spPr>
          <a:xfrm>
            <a:off x="3708360" y="260280"/>
            <a:ext cx="5175360" cy="6193080"/>
          </a:xfrm>
          <a:prstGeom prst="rect">
            <a:avLst/>
          </a:prstGeom>
          <a:ln w="76320">
            <a:solidFill>
              <a:srgbClr val="66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4" descr="память в честь победы кул битва"/>
          <p:cNvPicPr/>
          <p:nvPr/>
        </p:nvPicPr>
        <p:blipFill>
          <a:blip r:embed="rId1"/>
          <a:stretch/>
        </p:blipFill>
        <p:spPr>
          <a:xfrm>
            <a:off x="5219640" y="260280"/>
            <a:ext cx="3625920" cy="6264360"/>
          </a:xfrm>
          <a:prstGeom prst="rect">
            <a:avLst/>
          </a:prstGeom>
          <a:ln w="76320">
            <a:solidFill>
              <a:srgbClr val="66ccff"/>
            </a:solidFill>
            <a:miter/>
          </a:ln>
        </p:spPr>
      </p:pic>
      <p:pic>
        <p:nvPicPr>
          <p:cNvPr id="158" name="Picture 5" descr="память"/>
          <p:cNvPicPr/>
          <p:nvPr/>
        </p:nvPicPr>
        <p:blipFill>
          <a:blip r:embed="rId2"/>
          <a:stretch/>
        </p:blipFill>
        <p:spPr>
          <a:xfrm>
            <a:off x="250920" y="333360"/>
            <a:ext cx="4619520" cy="3887640"/>
          </a:xfrm>
          <a:prstGeom prst="rect">
            <a:avLst/>
          </a:prstGeom>
          <a:ln w="76320">
            <a:solidFill>
              <a:srgbClr val="66ccff"/>
            </a:solidFill>
            <a:miter/>
          </a:ln>
        </p:spPr>
      </p:pic>
      <p:sp>
        <p:nvSpPr>
          <p:cNvPr id="159" name=""/>
          <p:cNvSpPr txBox="1"/>
          <p:nvPr/>
        </p:nvSpPr>
        <p:spPr>
          <a:xfrm>
            <a:off x="178920" y="4436640"/>
            <a:ext cx="496908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амятник в честь победы на Куликовом поле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37432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3e3ff"/>
                </a:solidFill>
                <a:latin typeface="Times New Roman"/>
              </a:rPr>
              <a:t>Куликовская битва –сражение между русским войском и войском Золотой Орды. Состоялось 8 сентября 1380 г. между реками Дон и Непрядва на Куликовом поле.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71600" y="2349360"/>
            <a:ext cx="66564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5" descr="поолее"/>
          <p:cNvPicPr/>
          <p:nvPr/>
        </p:nvPicPr>
        <p:blipFill>
          <a:blip r:embed="rId1"/>
          <a:stretch/>
        </p:blipFill>
        <p:spPr>
          <a:xfrm>
            <a:off x="395280" y="2205000"/>
            <a:ext cx="8353440" cy="4267080"/>
          </a:xfrm>
          <a:prstGeom prst="rect">
            <a:avLst/>
          </a:prstGeom>
          <a:ln w="76320">
            <a:solidFill>
              <a:srgbClr val="00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539640" y="836640"/>
            <a:ext cx="3276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Князь  Дмитрий отказался платить дань Золотой Орде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Picture 6" descr="images"/>
          <p:cNvPicPr/>
          <p:nvPr/>
        </p:nvPicPr>
        <p:blipFill>
          <a:blip r:embed="rId1"/>
          <a:stretch/>
        </p:blipFill>
        <p:spPr>
          <a:xfrm>
            <a:off x="4284720" y="404640"/>
            <a:ext cx="438156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324000" y="4797360"/>
            <a:ext cx="864072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В 1380 г. ордынская армия в 100 тысяч воинов во главе с Мамаем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638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двинулась на Русь.</a:t>
            </a:r>
            <a:r>
              <a:rPr b="0" lang="ru-RU" sz="28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4" descr="D:\мама\к кулик битве\идёт на русь.jpg"/>
          <p:cNvPicPr/>
          <p:nvPr/>
        </p:nvPicPr>
        <p:blipFill>
          <a:blip r:embed="rId1"/>
          <a:stretch/>
        </p:blipFill>
        <p:spPr>
          <a:xfrm>
            <a:off x="250920" y="189000"/>
            <a:ext cx="8636040" cy="4319640"/>
          </a:xfrm>
          <a:prstGeom prst="rect">
            <a:avLst/>
          </a:prstGeom>
          <a:ln w="76320">
            <a:solidFill>
              <a:srgbClr val="00b0f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250560" y="4005000"/>
            <a:ext cx="889308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Cambria"/>
              </a:rPr>
              <a:t> </a:t>
            </a:r>
            <a:r>
              <a:rPr b="1" lang="ru-RU" sz="32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Сбор русских был назначен в Коломне.  Русская армия насчитывала 50-60 тыс. воинов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4" descr="моск войск"/>
          <p:cNvPicPr/>
          <p:nvPr/>
        </p:nvPicPr>
        <p:blipFill>
          <a:blip r:embed="rId1"/>
          <a:stretch/>
        </p:blipFill>
        <p:spPr>
          <a:xfrm>
            <a:off x="1187280" y="260280"/>
            <a:ext cx="7129800" cy="3456000"/>
          </a:xfrm>
          <a:prstGeom prst="rect">
            <a:avLst/>
          </a:prstGeom>
          <a:ln w="76320">
            <a:solidFill>
              <a:srgbClr val="00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95280" y="4508280"/>
            <a:ext cx="8362800" cy="172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Cambria"/>
              </a:rPr>
              <a:t>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Cambria"/>
              </a:rPr>
              <a:t>       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еред боем князь Дмитрий поехал за благословением  к Сергию Радонежском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6" descr="blagoslovenie_sergiem_dmitriya_donskogo_400"/>
          <p:cNvPicPr/>
          <p:nvPr/>
        </p:nvPicPr>
        <p:blipFill>
          <a:blip r:embed="rId1"/>
          <a:stretch/>
        </p:blipFill>
        <p:spPr>
          <a:xfrm>
            <a:off x="755640" y="333360"/>
            <a:ext cx="720108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79280" y="5084640"/>
            <a:ext cx="850752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imes New Roman"/>
              </a:rPr>
              <a:t>     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Сергий дал в помощь Дмитрию двух монахов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Андрея   Ослабю и Александра Пересвет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4" descr="бл"/>
          <p:cNvPicPr/>
          <p:nvPr/>
        </p:nvPicPr>
        <p:blipFill>
          <a:blip r:embed="rId1"/>
          <a:stretch/>
        </p:blipFill>
        <p:spPr>
          <a:xfrm>
            <a:off x="900000" y="260280"/>
            <a:ext cx="7840800" cy="4591080"/>
          </a:xfrm>
          <a:prstGeom prst="rect">
            <a:avLst/>
          </a:prstGeom>
          <a:ln w="76320">
            <a:solidFill>
              <a:srgbClr val="00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95280" y="333360"/>
            <a:ext cx="822960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Cambria"/>
              </a:rPr>
              <a:t>    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На военном совете Князь Дмитрия предложил  перейти Дон и принять бой на Куликовом поле</a:t>
            </a:r>
            <a:r>
              <a:rPr b="1" lang="ru-RU" sz="2800" spc="-1" strike="noStrike">
                <a:solidFill>
                  <a:srgbClr val="0033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4" descr="переправа через дон"/>
          <p:cNvPicPr/>
          <p:nvPr/>
        </p:nvPicPr>
        <p:blipFill>
          <a:blip r:embed="rId1"/>
          <a:stretch/>
        </p:blipFill>
        <p:spPr>
          <a:xfrm>
            <a:off x="254160" y="1916280"/>
            <a:ext cx="8397720" cy="4673520"/>
          </a:xfrm>
          <a:prstGeom prst="rect">
            <a:avLst/>
          </a:prstGeom>
          <a:ln w="76320">
            <a:solidFill>
              <a:srgbClr val="00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36280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Русская армия.           Ордынская арм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6" descr="княжеск дружина донского"/>
          <p:cNvPicPr/>
          <p:nvPr/>
        </p:nvPicPr>
        <p:blipFill>
          <a:blip r:embed="rId1"/>
          <a:stretch/>
        </p:blipFill>
        <p:spPr>
          <a:xfrm>
            <a:off x="468360" y="1916280"/>
            <a:ext cx="3970440" cy="4608360"/>
          </a:xfrm>
          <a:prstGeom prst="rect">
            <a:avLst/>
          </a:prstGeom>
          <a:ln w="76320">
            <a:solidFill>
              <a:srgbClr val="00ffff"/>
            </a:solidFill>
            <a:miter/>
          </a:ln>
        </p:spPr>
      </p:pic>
      <p:pic>
        <p:nvPicPr>
          <p:cNvPr id="141" name="Picture 4" descr="войско орды"/>
          <p:cNvPicPr/>
          <p:nvPr/>
        </p:nvPicPr>
        <p:blipFill>
          <a:blip r:embed="rId2"/>
          <a:stretch/>
        </p:blipFill>
        <p:spPr>
          <a:xfrm>
            <a:off x="4788000" y="1916280"/>
            <a:ext cx="3887640" cy="4609800"/>
          </a:xfrm>
          <a:prstGeom prst="rect">
            <a:avLst/>
          </a:prstGeom>
          <a:ln w="76320">
            <a:solidFill>
              <a:srgbClr val="00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4T20:26:56Z</dcterms:created>
  <dc:creator>Админ</dc:creator>
  <dc:description/>
  <dc:language>en-US</dc:language>
  <cp:lastModifiedBy>Narod</cp:lastModifiedBy>
  <cp:lastPrinted>2015-10-07T17:53:28Z</cp:lastPrinted>
  <dcterms:modified xsi:type="dcterms:W3CDTF">2015-10-07T18:03:12Z</dcterms:modified>
  <cp:revision>36</cp:revision>
  <dc:subject/>
  <dc:title>Слайд 1</dc:title>
</cp:coreProperties>
</file>