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B7A-11F7-41F4-A6D3-89E8363C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039-C81E-48FE-912B-9EB11E22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AB4-1421-44E0-B0ED-0736B9DF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47E-06E2-42B8-AE6C-BD96FFFE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A873-A8DF-4CE2-A495-96411D2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44A0-7C15-46F5-955A-F521182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385-4B47-49FE-8149-DBB47715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AE9A-CDF7-4208-9644-7DAF628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01A2-BCF7-467C-BB28-9C62DAB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4937-7378-4605-8481-F355D463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C5CA-EF7C-4C0D-A35C-150AC1E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650-BE2A-4BD9-BA8C-EDB4A0D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A6D3-BBB5-4619-B132-4597E9C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A4F3-2A23-44BC-B9F3-91A0D2B6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0374-F8C8-40B0-B5F4-ACAA66A8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14D8-8CF6-483D-80DD-950D25A3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EE77-A773-4E23-BD3C-B63C29EF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32A-6388-4B97-A41A-2B5EA553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8E2-E59E-4339-8E13-5143AFC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31B-3061-4B43-A311-A1E114CB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27A-316C-4D59-9A33-A0CF882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274-0ED4-4D9D-9875-7C6787A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BB9-F88B-4FB1-9514-8515CF7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2F6-1EB0-4194-BBAA-0807FE9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57C-3DBA-4130-8C29-7B2158B5DE5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5BF-B367-433A-B591-660D3630E73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%3A%2F%2Fbaikalnavi.org%2Fforums%2Fuploads%2F3abd5f1ae5a4a6b808e1713ce8e62c6e.jpg&amp;uinfo=sw-1280-sh-768-ww-1029-wh-503-pd-1-wp-5x3_1280x768&amp;_=1424066363578&amp;viewport=wide&amp;p=7&amp;text=&#1092;&#1086;&#1090;&#1086;%20&#1074;&#1077;&#1095;&#1085;&#1086;&#1075;&#1086;%20&#1086;&#1075;&#1085;&#1103;%20&#1074;%20&#1093;&#1086;&#1088;&#1086;&#1096;&#1077;&#1084;%20&#1082;&#1072;&#1095;&#1077;&#1089;&#1090;&#1074;&#1077;&amp;noreask=1&amp;pos=211&amp;rpt=simage&amp;lr=47&amp;pin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yandex.ru/images/search?source=wiz&amp;img_url=http%3A%2F%2Fvkontakte.ru%2Fimages%2Fgifts%2F96%2F401.png&amp;uinfo=sw-1280-sh-768-ww-1029-wh-503-pd-1-wp-5x3_1280x768&amp;_=1424066392140&amp;viewport=wide&amp;p=9&amp;text=&#1092;&#1086;&#1090;&#1086;%20&#1074;&#1077;&#1095;&#1085;&#1086;&#1075;&#1086;%20&#1086;&#1075;&#1085;&#1103;%20&#1074;%20&#1093;&#1086;&#1088;&#1086;&#1096;&#1077;&#1084;%20&#1082;&#1072;&#1095;&#1077;&#1089;&#1090;&#1074;&#1077;&amp;noreask=1&amp;pos=278&amp;rpt=simage&amp;lr=47&amp;pin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ravellers.ru/city-kulebak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Ради жизни на земл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ченица 3 «а» класс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БОУ Дивеевской средн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школ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ряжева Валер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усть пулеметы не строчат,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 пушки грозные молчат,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усть в небе не клубится дым,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усть небо будет голубым …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7d47d"/>
                </a:solidFill>
                <a:latin typeface="Arial"/>
              </a:rPr>
              <a:t>Посвящается героям-дивеевцам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От неизвестных и до знаменитых,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Сразить которых годы не вольны,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Нас двадцать миллионов незабытых,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Убитых, не вернувшихся с войны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Расул Гамзатов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5029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ергей Григорьевич Бекмеш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900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Дивееве в 1912 год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о время одной из атак пр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ступлении на высот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езымянная (в предместье 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евастополь) первым достиг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положения противника 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забросал Гранатами блиндаж. Пр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свобождении г.Севастопо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днял бойцов в штыковую атаку. 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дном из боев подавил 2 пулемет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Является кавалером  ордена Слав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гражден орденом Красной Звезд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едалью «За отвагу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Дивееве именем Серге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ригорьевича Бекмешова назва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дна из улиц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ван Степанович Еж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00040" y="129492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одился в 1923 году в Большом Череватов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о время конратаки неприятеля у деревн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удница (Белоруссия), подпусти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гитлеровцев на двадцать пять метров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Ежков метким автоматным огнё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ничтожил более двух десятков вражеских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ехотинцев. Когда продвижение рот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становил пулемётный огонь из дзот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ержант Ежков пробрался к нему 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метнул две гранаты. Но пулемет не умолк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тважный воин бросился к дзоту и свои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телом закрыл амбразуру, ценой свое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жизни содействовал выполнению военно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задач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Ежкову Ивану Степановичу посмертн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рисвоено звание Героя Советского Союза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Имя Героя носит улица в городе</a:t>
            </a:r>
            <a:r>
              <a:rPr b="1" lang="ru-RU" sz="16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Кулеба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ижегородской области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fancybox-img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405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Михаил Иванович Козомаз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05320" y="11426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1918 году в Маев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н зенитчик, командир зенитно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улеметного взвода. Сбил сем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ражеских самолетов. Десятки раз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ходил в атаки и контрата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озомазов вместе с передовы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трядами пехоты форсировал Нев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 вступил в бой с немецкой пехот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рупнокалиберный пулем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озомазова уничтожил четы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улеметные точки противни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ерой Советского Союза старши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ихаил Иванович Козомаз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достоен Золотой Звезды з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оинское мастерство, отвагу 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ходчивость при прорыв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локады Ленингра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11 сентября родились... 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304920" y="1598760"/>
            <a:ext cx="28954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Валентин Егорович Сит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76720" y="1295280"/>
            <a:ext cx="4419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1918 году в сел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ыресево Дивеевского райо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алентин Егорович летчик –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мбардировщик. Соверши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мбардировку важных вое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 промышленных объект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отивника в его глубоком тылу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неся врагу значительный уро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сколько раз был ранен, но вско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новь возвращался в строй. Был 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лену у немцев. За боевые заслуг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ему присвоено звание Геро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ветского Союза, награжде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рденом Красной Звезды. Имене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ероя в Дивееве названа одна из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лиц.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Ситнов Валентин Егорович"/>
          <p:cNvPicPr/>
          <p:nvPr/>
        </p:nvPicPr>
        <p:blipFill>
          <a:blip r:embed="rId1"/>
          <a:stretch/>
        </p:blipFill>
        <p:spPr>
          <a:xfrm>
            <a:off x="304920" y="1600200"/>
            <a:ext cx="2819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Николай Ильич Шалаш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295280"/>
            <a:ext cx="444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Родился в 1920 году в Череватове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Ефрейтор Шалашков отличился пр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форсировании реки Днепр. Под огне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ротивника переправил на рыбацкой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лодке около 100 воинов. Обратны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рейсом вывозил раненых. Во время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оследнего рейса лодка была разбита,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И Шалашков с двумя раненым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бойцами оказался на берегу, занято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ротивником. Ночью Шалашков увел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вражескую лодку и с раненым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еребрался на свой берег. За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мужество Николаю Ильичу присвоено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звание Героя Советского Союза,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награжден орденом Ленина и Золотой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Звездой.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В честь Николая Ильича названа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одна из улиц нашего села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0960" y="1905120"/>
            <a:ext cx="2643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Михаил Степанович Пискун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57240" y="12952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одился в 1915 году в селе Смиронов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Дивеевского района. Был командиром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танковой бригады. Михаил Степанович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оевал подо Ржевом, участвовал 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талинградской битве. Не раз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тличался при форсировании Днестра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ислы, Одера, Западного Буг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аствовал в Берлинской операции, 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ях в Ростовской области, в сражен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а Курской дуге. В боях трижды ране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За мужество и героизм присвоен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звание Героя Советского Союза 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ручением ордена Ленина и меда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«Золотая Звезда»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 честь Михаила Степанович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азвана одна из улиц нашего сел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Piskunov Scan1 crop.jpg"/>
          <p:cNvPicPr/>
          <p:nvPr/>
        </p:nvPicPr>
        <p:blipFill>
          <a:blip r:embed="rId1"/>
          <a:stretch/>
        </p:blipFill>
        <p:spPr>
          <a:xfrm>
            <a:off x="304920" y="1676520"/>
            <a:ext cx="3122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Александр Иванович Клочне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7672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1922 году в сел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лупочинки Дивеевск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йона. По воинской специально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артиллерист. Сержант Клочнев бы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омандиром расчета 45 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иллиметровой пушки, участвовал 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евых действиях на террит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ибалтики. Подбил прям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водкой вражескую «пантеру» и тр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ронетранспортера, обеспечи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давление пяти пулемет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незд, разрушил три дзот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Александр Иванович - кавалер тре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евых наград солдатской доблести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рденов Славы. В Дивееве имене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Александра Ивановича названа од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з улиц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81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20T10:27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