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E75B-E983-4455-BDC8-7295EBA6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6E1D-FBC8-4E11-9FE8-6AC449CE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73B2-6A6A-4A33-96F3-B8589A0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CE4C-E0AD-41D0-885D-FA426147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336-012B-43CB-BB44-445C8C9F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0FD-C31B-44CE-B290-060B786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747-5FA1-4910-AE8A-58B3325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1BEA-EC52-4F7A-AD00-277CDAE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7E25-3641-464F-8BD5-507C568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E141-BC25-468B-8214-E874A32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2E6-9AD1-421D-B3EF-F1C509B9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A0F0-3B4A-4438-BF89-A538CD52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E83D-FD36-48FE-9FC1-B153880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57E-F315-49E0-8456-FA9751C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736A-F316-4701-BB18-58D4DFF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2DD0-0BA2-4400-91E0-057F35A4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0F5C-DA27-4F1A-BE33-465F336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DD37-D75B-4C8F-A2EB-612E7AEA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63F2-6D74-465B-BBBB-1EE8B79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488C-251F-4340-8165-F84BF137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92ED-EF18-4237-83EF-960CDAE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90C2-854B-4C7C-977E-8BBC42A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5425-E1C3-4FE7-8EBA-6BD853D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1F62-F619-4B30-B473-FBC0960B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F55-63D6-4DF7-AB4B-74ABBAED15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295F-A45A-47C8-B8ED-24D5963B3B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50000">
              <a:srgbClr val="ffff99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8"/>
          <p:cNvSpPr txBox="1"/>
          <p:nvPr/>
        </p:nvSpPr>
        <p:spPr>
          <a:xfrm>
            <a:off x="250920" y="2349360"/>
            <a:ext cx="813744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912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рекционная  работа с использованием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   музыкального  воспитания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-14954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8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9" descr=""/>
          <p:cNvPicPr/>
          <p:nvPr/>
        </p:nvPicPr>
        <p:blipFill>
          <a:blip r:embed="rId2"/>
          <a:stretch/>
        </p:blipFill>
        <p:spPr>
          <a:xfrm>
            <a:off x="6877080" y="3500280"/>
            <a:ext cx="158256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"/>
          <p:cNvPicPr/>
          <p:nvPr/>
        </p:nvPicPr>
        <p:blipFill>
          <a:blip r:embed="rId3"/>
          <a:stretch/>
        </p:blipFill>
        <p:spPr>
          <a:xfrm>
            <a:off x="4067280" y="4365720"/>
            <a:ext cx="936360" cy="936360"/>
          </a:xfrm>
          <a:prstGeom prst="rect">
            <a:avLst/>
          </a:prstGeom>
          <a:ln w="9360">
            <a:solidFill>
              <a:srgbClr val="71f5e8"/>
            </a:solidFill>
            <a:miter/>
          </a:ln>
        </p:spPr>
      </p:pic>
      <p:pic>
        <p:nvPicPr>
          <p:cNvPr id="105" name="Picture 43" descr="_avatar"/>
          <p:cNvPicPr/>
          <p:nvPr/>
        </p:nvPicPr>
        <p:blipFill>
          <a:blip r:embed="rId4"/>
          <a:stretch/>
        </p:blipFill>
        <p:spPr>
          <a:xfrm>
            <a:off x="250920" y="3573360"/>
            <a:ext cx="2376360" cy="187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4"/>
          <p:cNvSpPr/>
          <p:nvPr/>
        </p:nvSpPr>
        <p:spPr>
          <a:xfrm>
            <a:off x="0" y="119700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WordArt 51"/>
          <p:cNvSpPr txBox="1"/>
          <p:nvPr/>
        </p:nvSpPr>
        <p:spPr>
          <a:xfrm>
            <a:off x="6659640" y="4869000"/>
            <a:ext cx="194292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419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ХОВА НАТАЛЬЯ ВИКТОРОВНА</a:t>
            </a:r>
            <a:endParaRPr b="0" lang="en-US" sz="2800" spc="1" strike="noStrike">
              <a:ln w="9360">
                <a:solidFill>
                  <a:srgbClr val="0099cc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53"/>
          <p:cNvSpPr/>
          <p:nvPr/>
        </p:nvSpPr>
        <p:spPr>
          <a:xfrm>
            <a:off x="611280" y="2206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8"/>
          <p:cNvSpPr txBox="1"/>
          <p:nvPr/>
        </p:nvSpPr>
        <p:spPr>
          <a:xfrm>
            <a:off x="1187280" y="189000"/>
            <a:ext cx="5761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1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6048360" cy="2592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900000" y="1056600"/>
            <a:ext cx="77043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В работе с детьми, имеющими речевые нарушения, я использую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ударно– шумовые инструменты со звуками неопределенной выс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убны, колотушки, погремушки, трещотки, треугольники, колокольчики, лож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бучение на детских музыкальных инструментах является не самоцелью, а средством для решения коррекционных задач: развитию мелкой моторики, координации движений, чувство ритма, внимания и памят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8459640" y="6281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12012"/>
                </a:moveTo>
                <a:lnTo>
                  <a:pt x="8224" y="12012"/>
                </a:lnTo>
                <a:lnTo>
                  <a:pt x="12645" y="7400"/>
                </a:lnTo>
                <a:lnTo>
                  <a:pt x="12645" y="21412"/>
                </a:lnTo>
                <a:lnTo>
                  <a:pt x="8224" y="16800"/>
                </a:lnTo>
                <a:lnTo>
                  <a:pt x="3794" y="16800"/>
                </a:lnTo>
                <a:close/>
              </a:path>
              <a:path fill="darken" w="21600" h="28812">
                <a:moveTo>
                  <a:pt x="14299" y="14406"/>
                </a:moveTo>
                <a:lnTo>
                  <a:pt x="17806" y="14406"/>
                </a:lnTo>
              </a:path>
              <a:path fill="darken" w="21600" h="28812">
                <a:moveTo>
                  <a:pt x="14299" y="12012"/>
                </a:moveTo>
                <a:lnTo>
                  <a:pt x="17806" y="9245"/>
                </a:lnTo>
              </a:path>
              <a:path fill="darken" w="21600" h="28812">
                <a:moveTo>
                  <a:pt x="14299" y="16800"/>
                </a:moveTo>
                <a:lnTo>
                  <a:pt x="17806" y="19567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2247840" y="436680"/>
            <a:ext cx="37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17928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гра на детских музыкальных инструментах</a:t>
            </a:r>
            <a:endParaRPr b="0" lang="en-US" sz="2400" spc="1" strike="noStrike">
              <a:ln w="381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00808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Garamond"/>
              </a:rPr>
              <a:t>Музыкально-ритмические</a:t>
            </a:r>
            <a:r>
              <a:rPr b="1" i="1" lang="ru-RU" sz="4000" spc="-1" strike="noStrike">
                <a:solidFill>
                  <a:srgbClr val="ffff99"/>
                </a:solidFill>
                <a:latin typeface="Garamond"/>
              </a:rPr>
              <a:t> дви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Упражнени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Упражнения необходимо использовать как можно чаще и в обычных, а особенно в специализированных логопедических группах, так как они способствуют оказанию лечебно– педагогического воздействия на детей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анц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Очень полезны для детей танцы с пением и хороводы, так как они помогают координации пения с движением, упорядочивают темп движений, а так же позволяют использовать их не только на музыкальных занятиях с музыкальным сопровождением, но и в самостоятельной музыкальной деятельности, то есть гораздо чаще, чем другие виды танцев, сохраняя при этом коррегирующий эффект во время движ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Иг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     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Игры позволяют тренировать различные группы мышц, помогают выработке темпа и ритма речи, закреплению звуков, совершенствованию координации движений, развивают коммуникативные навыки; пальчиковые игры развивают мелкую моторик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3527280" cy="11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Прежде всего необходима совместная работа всех педагогов, создание единой коррекционно– развивающей ср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С целью обеспечения индивидуализации и дифференциации способностей ребенка необходимо в начале и в конце учебного года проводить комплексную диагностику. Она проводится учителем– логопедом, педагогом– психологом и музыкальным руководител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Для более успешной реализации поставленных целей и задач, кроме чуткости и доброты, высокого профессионального уровня требуется наличие учебно-методического матери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547640" y="189000"/>
            <a:ext cx="604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7240">
                  <a:solidFill>
                    <a:srgbClr val="00808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омендации</a:t>
            </a:r>
            <a:endParaRPr b="0" lang="en-US" sz="3200" spc="1" strike="noStrike">
              <a:ln w="57240">
                <a:solidFill>
                  <a:srgbClr val="00808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73960" cy="6237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3300"/>
                </a:solidFill>
                <a:latin typeface="Garamond"/>
              </a:rPr>
              <a:t>Р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напрягайте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Музыка помогает только тогда, когда ее слушают, а не просто обеспечивают тревожным мыслям музыкальное сопровождение. Музыка должна как бы проходить сквозь тебя, всецело заполняя сознание и мысли </a:t>
            </a: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 переборщите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Часовое слушание, скажем, симфонии Бетховена может оказать прямо противоположный эффект: не только не расслабит, но вызовет раздражение и усталость. Для сеанса достаточн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нескольких мину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Регулируйте  громк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Даже стимулирующую музыку не стоит включать на всю катушку - это опять-таки раздражает и напрягает организм </a:t>
            </a:r>
            <a:br>
              <a:rPr sz="1800"/>
            </a:b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Главное, чтобы нравило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Слушая музыку, всегда представляйте, что она звучит только для вас. Если у вас не так много свободного времени, достаточно выделить на это несколько минут в день, желательно вечером. Даже они окажут на вас положительное влияние. Меняя репертуар, уже через месяц вы ощутите, что стали увереннее и спокойнее. </a:t>
            </a: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Слушайте, пойте и будьте здоро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50920" y="0"/>
            <a:ext cx="864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зыка лечит тело и душу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392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реодолени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речевых нарушений </a:t>
            </a: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утем развития и коррекции неречевых и речевых психических функц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адаптация ребенка к условиям внешней и внутренней сред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овышение эффективности работы по коррекции звукопроизношения используя закон безусловной активности детей в познавательной дея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редлагаемое нами планирование помогает реализовать следующие </a:t>
            </a:r>
            <a:r>
              <a:rPr b="1" i="1" lang="ru-RU" sz="2400" spc="-1" strike="noStrike">
                <a:solidFill>
                  <a:srgbClr val="000514"/>
                </a:solidFill>
                <a:latin typeface="Times New Roman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Развитие артикуляционной мотори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Автоматизация звуков в результате запоминания большого количества речевого матери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Дифференциация поставленных звук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39640" y="260280"/>
            <a:ext cx="748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и задач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087280" cy="129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_avatar"/>
          <p:cNvPicPr/>
          <p:nvPr/>
        </p:nvPicPr>
        <p:blipFill>
          <a:blip r:embed="rId4"/>
          <a:stretch/>
        </p:blipFill>
        <p:spPr>
          <a:xfrm>
            <a:off x="0" y="1341360"/>
            <a:ext cx="2484360" cy="2087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907920"/>
            <a:ext cx="5616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Мы все без исключения желаем видеть своих детей здоровыми, счастливыми улыбающимися, умеющими общаться с окружающими людьми. Но это не всегда получаетс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Особенно сложно детям с нарушениями реч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Для детей с речевой патологией характерно нарушение общей и мелкой мотор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дыхание у них зачастую поверхност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Одни дети гиперактивны, другие пассивны, что обусловлено слабостью нервной систем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При отсутствии своевременной помощи со стороны педагогов, медиков, родителей у большинства детей осложнятся патохарактерологическим развитием личност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Возможны агрессивность, чрезмерная расторможенность. Наряду с этим у большинства детей, имеющих речевые нарушения, повышена истощаемость, наблюдается дефицит внимания; память, работоспособность снижен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250920" y="0"/>
            <a:ext cx="8569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Times New Roman"/>
              </a:rPr>
              <a:t>Проблемы детства</a:t>
            </a:r>
            <a:endParaRPr b="0" lang="en-US" sz="2400" spc="1" strike="noStrike">
              <a:ln w="381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4360" cy="468000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Добиться положительных результатов с такими детьми можно лишь при создании единой коррекционно-образовательной среды в речевых группах ДО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Комплексный подход при коррекции речи обеспечивает интегрированные связи между специалистами, работающими с детьми логопедической групп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179280" y="189000"/>
            <a:ext cx="842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6ae2d7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диная  коррекционно- развивающая  среда</a:t>
            </a:r>
            <a:endParaRPr b="0" lang="en-US" sz="2400" spc="1" strike="noStrike">
              <a:ln w="12600">
                <a:solidFill>
                  <a:srgbClr val="008080"/>
                </a:solidFill>
                <a:miter/>
              </a:ln>
              <a:solidFill>
                <a:srgbClr val="6ae2d7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84360" y="28180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учитель–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логопе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916360" y="34606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403280" y="4581360"/>
            <a:ext cx="29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педагог- психоло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987640" y="3573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2960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1403280" y="260280"/>
            <a:ext cx="6408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1f5e8"/>
                </a:solidFill>
                <a:latin typeface="Arial"/>
              </a:rPr>
              <a:t>Коррекционная рабо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1f5e8"/>
              </a:solidFill>
              <a:latin typeface="Arial"/>
              <a:ea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08200" y="547848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539640" y="5516640"/>
            <a:ext cx="806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71f5e8"/>
                  </a:solidFill>
                  <a:miter/>
                </a:ln>
                <a:solidFill>
                  <a:srgbClr val="71f5e8"/>
                </a:solidFill>
                <a:latin typeface="Arial"/>
              </a:rPr>
              <a:t>Рассмотрим каждое из направлений</a:t>
            </a:r>
            <a:endParaRPr b="0" lang="en-US" sz="2400" spc="1" strike="noStrike">
              <a:ln w="9360">
                <a:solidFill>
                  <a:srgbClr val="71f5e8"/>
                </a:solidFill>
                <a:miter/>
              </a:ln>
              <a:solidFill>
                <a:srgbClr val="71f5e8"/>
              </a:solidFill>
              <a:latin typeface="Arial"/>
              <a:ea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88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024000" cy="122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f5e8"/>
                </a:solidFill>
                <a:latin typeface="Garamond"/>
              </a:rPr>
              <a:t>Элементы,   имеющие   оздоровительную направленность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6913800" cy="468000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</p:spTree>
  </p:cSld>
  <p:transition spd="slow" advTm="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Логоритмические  заняти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проводятся в тесной связи с учителем– логопедом. И воспитателями логопедических групп. Они проводятся один раз в недел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Цел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еодоление речевых нарушений путем развития и коррекции неречевых и речевых психических функций и адаптация ребенка к условиям внешней и внутренней сред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 основу этих занятий положен метод  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фонетической ритм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Фонетическая ритмика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это система двигательных упражнений, в которых различные движения (корпуса, головы, рук, ног) сочетаются с произношением специального речевого материа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0" y="0"/>
            <a:ext cx="8893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005c7a"/>
                  </a:outerShdw>
                </a:effectLst>
                <a:latin typeface="Impact"/>
              </a:rPr>
              <a:t>логоритмические занятия</a:t>
            </a:r>
            <a:endParaRPr b="0" lang="en-US" sz="1800" spc="1" strike="noStrike">
              <a:ln w="0">
                <a:noFill/>
              </a:ln>
              <a:solidFill>
                <a:srgbClr val="0099cc"/>
              </a:solidFill>
              <a:effectLst>
                <a:outerShdw dist="17819" dir="2700000" blurRad="0" rotWithShape="0">
                  <a:srgbClr val="005c7a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50000">
              <a:srgbClr val="ffff99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Движения под музыку, упражняющиеся в различных видах ходьбы и бега, общеразвивающие упражн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Танец или хоровод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Четверостишье, сопровождаемое движениям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есн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Артикуляционная гимнастик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Мимические упражнения, психогимнастик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Массаж (рук, ног и т.д.), гимнастика для глаз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альчиковые игр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одвижные, коммуникативные, спокойные игр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Игра на музыкальных инструментах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Релаксац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Каждое занятие имеет свою сюжет, что создает эмоциональную атмосферу, благоприятно влияет на психику ребен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Каждый вид деятельности непосредственно связан с предыдущим. Для детей такое занятие – </a:t>
            </a:r>
            <a:r>
              <a:rPr b="1" i="1" lang="ru-RU" sz="1600" spc="-1" strike="noStrike">
                <a:solidFill>
                  <a:srgbClr val="000514"/>
                </a:solidFill>
                <a:latin typeface="Times New Roman"/>
              </a:rPr>
              <a:t>игр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Логоритмические занятия включают в себя элементы, имеющие оздоровительную направл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671480" y="220680"/>
            <a:ext cx="59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324000" y="404640"/>
            <a:ext cx="8496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а логоритмических занятий</a:t>
            </a:r>
            <a:endParaRPr b="0" lang="en-US" sz="2400" spc="1" strike="noStrike">
              <a:ln w="9360">
                <a:solidFill>
                  <a:srgbClr val="0099cc"/>
                </a:solidFill>
                <a:miter/>
              </a:ln>
              <a:solidFill>
                <a:srgbClr val="00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 детей с нарушениями речи встречаются следующие    пробл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Дети не поют, а говоря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Не справляются с произношением, пропеванием какого-либо зв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лохо запоминают тексты песен, их наз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лохо запоминают названия музыкальных произведений для слуш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Недостаточно согласовывают движения с музыкой, пением, слов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Затрудняются в передаче ритмического рису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еречисленные особенности детей обуславливают специфику проведения музыкальных занят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Обучение детей проводится по строго обдуманному плану на основании общепедагогических принцип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95280" y="260280"/>
            <a:ext cx="8137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57240">
                  <a:solidFill>
                    <a:srgbClr val="00808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льные занятия</a:t>
            </a:r>
            <a:endParaRPr b="0" lang="en-US" sz="2800" spc="1" strike="noStrike">
              <a:ln w="57240">
                <a:solidFill>
                  <a:srgbClr val="00808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44:10Z</dcterms:created>
  <dc:creator>алекс49</dc:creator>
  <dc:description/>
  <dc:language>en-US</dc:language>
  <cp:lastModifiedBy>Admin</cp:lastModifiedBy>
  <dcterms:modified xsi:type="dcterms:W3CDTF">2017-09-20T09:56:41Z</dcterms:modified>
  <cp:revision>48</cp:revision>
  <dc:subject/>
  <dc:title>Коррекционная работа с использованием средств музыкального воспитания в логопедических группах </dc:title>
</cp:coreProperties>
</file>