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D76-8539-42CF-8E41-46F0E3A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8AD-CA31-4A78-BDC3-856B7B76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856-7146-4B39-8958-3E613F24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E33-BD56-41D8-89ED-B5E6ADF3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9F2-A3E8-4197-8A4C-3872A7D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E20-00EC-4A85-B3D7-C5A920AE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540-CF29-47C1-BB04-D935AA2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BA1-30AD-42ED-AF93-4F20264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FC6-9CED-4D98-AED0-6B89123A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0FF-8BDE-4E6E-AFB9-DE6F015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2E9-F60F-459D-A751-0B25892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66D-C044-455A-A877-7A2F9AC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40A-83EC-4A8C-9ECB-3D54A15E656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0" y="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 сентября в группе № 4 прошла квест – игра по эколо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ям необходимо было собрать Цветик – семицветик, но для этого необходимо было выполнить семь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ли проведены эстафеты «Переправа», «Рассортируй овощи и фрукты», «Рассортируй мусор», «Поймай бабочку». А также была игры «Попади газетой в ведро» и были заданы вопросы по правилам поведения в лесу и на знание флоры и фау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Катя\Desktop\IMG_8647.JPG"/>
          <p:cNvPicPr/>
          <p:nvPr/>
        </p:nvPicPr>
        <p:blipFill>
          <a:blip r:embed="rId1"/>
          <a:stretch/>
        </p:blipFill>
        <p:spPr>
          <a:xfrm>
            <a:off x="235080" y="2486160"/>
            <a:ext cx="3146400" cy="20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Катя\Desktop\IMG_8655.JPG"/>
          <p:cNvPicPr/>
          <p:nvPr/>
        </p:nvPicPr>
        <p:blipFill>
          <a:blip r:embed="rId2"/>
          <a:stretch/>
        </p:blipFill>
        <p:spPr>
          <a:xfrm>
            <a:off x="3487680" y="2486160"/>
            <a:ext cx="3132360" cy="208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Катя\Desktop\IMG_8730.JPG"/>
          <p:cNvPicPr/>
          <p:nvPr/>
        </p:nvPicPr>
        <p:blipFill>
          <a:blip r:embed="rId3"/>
          <a:stretch/>
        </p:blipFill>
        <p:spPr>
          <a:xfrm>
            <a:off x="244440" y="4788000"/>
            <a:ext cx="3156120" cy="210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Катя\Desktop\IMG_8743.JPG"/>
          <p:cNvPicPr/>
          <p:nvPr/>
        </p:nvPicPr>
        <p:blipFill>
          <a:blip r:embed="rId4"/>
          <a:stretch/>
        </p:blipFill>
        <p:spPr>
          <a:xfrm>
            <a:off x="3492360" y="4762440"/>
            <a:ext cx="317520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Катя\Desktop\IMG_8774.JPG"/>
          <p:cNvPicPr/>
          <p:nvPr/>
        </p:nvPicPr>
        <p:blipFill>
          <a:blip r:embed="rId5"/>
          <a:stretch/>
        </p:blipFill>
        <p:spPr>
          <a:xfrm>
            <a:off x="254160" y="7074000"/>
            <a:ext cx="3165480" cy="210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Катя\Desktop\IMG_8786.JPG"/>
          <p:cNvPicPr/>
          <p:nvPr/>
        </p:nvPicPr>
        <p:blipFill>
          <a:blip r:embed="rId6"/>
          <a:stretch/>
        </p:blipFill>
        <p:spPr>
          <a:xfrm>
            <a:off x="3492360" y="7080120"/>
            <a:ext cx="3184560" cy="2121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0" y="9536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7 – 2018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20:31:31Z</dcterms:created>
  <dc:creator>Інна</dc:creator>
  <dc:description/>
  <dc:language>en-US</dc:language>
  <cp:lastModifiedBy>Катя</cp:lastModifiedBy>
  <dcterms:modified xsi:type="dcterms:W3CDTF">2017-09-20T17:24:24Z</dcterms:modified>
  <cp:revision>5</cp:revision>
  <dc:subject/>
  <dc:title>Название презентации</dc:title>
</cp:coreProperties>
</file>