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2A9-A607-4738-9C01-8D1AB30B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293-D85C-4149-AD4D-C7573F3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65E-7FEF-4463-9B00-3FD05DD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2A2-AE5A-4FDD-BFF1-60CDB5FB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3A0-B519-4860-A694-B065A6A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6CE-BFB3-4D27-A5AD-985190A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CE2-1950-46DF-B4E9-5EBC1F4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16A-5BAE-4815-839A-11FAFF8C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7F3-B88F-43A8-AC1D-E5FBFF3D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E26-430D-467B-94E2-7F7E22D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331-D384-4103-9B1A-499D6CD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18F-4473-4A97-B5F7-A1F83AA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9DC-B767-4B06-A038-746E5E539F8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0" y="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 сентября в группе № 4 прошла квест – игра по эколо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ям необходимо было собрать Цветик – семицветик, но для этого необходимо было выполнить семь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ли проведены эстафеты «Переправа», «Рассортируй овощи и фрукты», «Рассортируй мусор», «Поймай бабочку». А также была игры «Попади газетой в ведро» и были заданы вопросы по правилам поведения в лесу и на знание флоры и фау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Катя\Desktop\IMG_8647.JPG"/>
          <p:cNvPicPr/>
          <p:nvPr/>
        </p:nvPicPr>
        <p:blipFill>
          <a:blip r:embed="rId1"/>
          <a:stretch/>
        </p:blipFill>
        <p:spPr>
          <a:xfrm>
            <a:off x="235080" y="2486160"/>
            <a:ext cx="3146400" cy="20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Катя\Desktop\IMG_8655.JPG"/>
          <p:cNvPicPr/>
          <p:nvPr/>
        </p:nvPicPr>
        <p:blipFill>
          <a:blip r:embed="rId2"/>
          <a:stretch/>
        </p:blipFill>
        <p:spPr>
          <a:xfrm>
            <a:off x="3487680" y="2486160"/>
            <a:ext cx="3132360" cy="208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Катя\Desktop\IMG_8730.JPG"/>
          <p:cNvPicPr/>
          <p:nvPr/>
        </p:nvPicPr>
        <p:blipFill>
          <a:blip r:embed="rId3"/>
          <a:stretch/>
        </p:blipFill>
        <p:spPr>
          <a:xfrm>
            <a:off x="244440" y="4788000"/>
            <a:ext cx="3156120" cy="210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Катя\Desktop\IMG_8743.JPG"/>
          <p:cNvPicPr/>
          <p:nvPr/>
        </p:nvPicPr>
        <p:blipFill>
          <a:blip r:embed="rId4"/>
          <a:stretch/>
        </p:blipFill>
        <p:spPr>
          <a:xfrm>
            <a:off x="3492360" y="4762440"/>
            <a:ext cx="317520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Катя\Desktop\IMG_8774.JPG"/>
          <p:cNvPicPr/>
          <p:nvPr/>
        </p:nvPicPr>
        <p:blipFill>
          <a:blip r:embed="rId5"/>
          <a:stretch/>
        </p:blipFill>
        <p:spPr>
          <a:xfrm>
            <a:off x="254160" y="7074000"/>
            <a:ext cx="3165480" cy="210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Катя\Desktop\IMG_8786.JPG"/>
          <p:cNvPicPr/>
          <p:nvPr/>
        </p:nvPicPr>
        <p:blipFill>
          <a:blip r:embed="rId6"/>
          <a:stretch/>
        </p:blipFill>
        <p:spPr>
          <a:xfrm>
            <a:off x="3492360" y="7080120"/>
            <a:ext cx="3184560" cy="2121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0" y="9536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7 – 2018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20:31:31Z</dcterms:created>
  <dc:creator>Інна</dc:creator>
  <dc:description/>
  <dc:language>en-US</dc:language>
  <cp:lastModifiedBy>Катя</cp:lastModifiedBy>
  <dcterms:modified xsi:type="dcterms:W3CDTF">2017-09-20T17:24:24Z</dcterms:modified>
  <cp:revision>5</cp:revision>
  <dc:subject/>
  <dc:title>Название презентации</dc:title>
</cp:coreProperties>
</file>